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28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5.jpeg" ContentType="image/jpeg"/>
  <Override PartName="/ppt/media/image15.gif" ContentType="image/gif"/>
  <Override PartName="/ppt/media/image2.jpeg" ContentType="image/jpeg"/>
  <Override PartName="/ppt/media/image20.png" ContentType="image/png"/>
  <Override PartName="/ppt/media/image25.gif" ContentType="image/gif"/>
  <Override PartName="/ppt/media/image18.png" ContentType="image/png"/>
  <Override PartName="/ppt/media/image16.gif" ContentType="image/gif"/>
  <Override PartName="/ppt/media/image19.png" ContentType="image/png"/>
  <Override PartName="/ppt/media/image27.jpeg" ContentType="image/jpeg"/>
  <Override PartName="/ppt/media/image17.gif" ContentType="image/gif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9244-6A02-4595-848F-32329A6792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2149-77CB-4A40-9A27-7FE2A1A772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981-E938-4031-BCB6-92D1A885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FAB2-EBAA-483B-961D-312AD187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CDED-EC82-4C07-A4A5-74F1E6E6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6F4-6D8C-4730-9DB1-325DF97D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5098-D49C-41C9-BF2D-CD0953E1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93BF-911C-4BB8-A8DD-EC6CCD8D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32F5-A035-44BD-B540-F6B39275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8778-CCE4-4099-AFDA-447E09A6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1445-1677-44AC-8556-C4F9B620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5539-AEE4-4BFB-92F1-CAFA5DD0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D3FA-6CE6-4D74-9181-54F59AFB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B72-E6DA-4D9F-B169-8668551B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CA5E-A9D4-494F-B16E-D184D6B4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B8A7-4C24-48FD-BF58-22E73BED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FCCA-3537-4589-B9BF-D85BE810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C315-61DB-4DEC-8404-14006D23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52C5-3983-4B18-BD2E-7C94306F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10D80-2C60-40B8-A0E8-3F92E866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03964-813D-426B-BD14-168E5F47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6B7AD-AE82-4389-AA73-3DF6EE6D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A992C-013A-4CBA-963C-F3D7506F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E7526-E332-482F-BA6A-FDBC8772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6F50-269D-4A6F-B2A3-42D19A10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F6849-D10B-4EF3-A000-4DC2955B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1105A-6A67-4F03-BF4C-913CAD86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9A14A-DB03-4D21-9FA2-AEE8EC9F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FD838-127C-4F47-A71F-F46BE58B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7E5B2-C619-4ABA-95BB-D26B3F8C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F0E4A-D515-4981-B320-B5CC924B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4B7F9-FF15-4D54-9217-A809F17E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94A78-95F8-42C4-99D1-C6D1EC0D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546B3-544D-42C2-AC13-E5BF900D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C5A74-5E4F-45E6-ABAE-20006E76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0EED-0D95-4905-9F4D-2B3590A6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2EE9A-6795-45ED-9217-93687F5F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C5E85-6624-40D7-8D0E-1E095EB2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80790-855D-486F-A4AB-C53E237D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E40ED-1BF7-4F11-9ACD-20269FF9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0E4C9-9415-461C-ACA5-B9033EE2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238AE-85C9-4D14-979E-DE1200D4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9DA34-806E-4395-A479-2184BBBD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8C435-7061-4EAD-A0F0-E6ED863C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E70BF-0D39-417E-A93F-50FE4416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1C18E-2A4B-400E-813E-B2209BCF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FFE-F4D2-4F37-BEBE-CB9C0187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30308-BD7D-409B-9908-B03DBA65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9AE3B-C3DF-4DB5-A651-78EED06D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716C9-192A-4797-BA5A-DB98A66A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76E04-1DC9-4F64-9E5A-974EF2C1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2554A-FEBA-46E5-9942-FEFE92A9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80E0B-03E3-4D06-A2F7-ABA37922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F44B9-F576-486F-8F4D-C92A4A67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6AF15-8CB3-4286-8456-1B0C6CFB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AF152-EB40-4E7E-ABC4-386CF131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F1AC4-8199-40C5-885B-DDC8F2D8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37A-8EE3-468B-AC88-158F7DD5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C7E08-228E-4730-93BC-E7D59F80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046D7-2267-4B7D-8780-3E01965C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40DF2-5B8A-43BC-BDD4-C8D8DD53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88F85-5B4D-4A2B-AFB8-355FEA19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9AE65-EC9C-4837-AD9E-AD6847C6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F90AA-0C68-4E53-9428-3776143B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7FF5D-9E3F-4E8E-A61E-6362E67B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EA884-EF45-4AA8-A2EE-6BC607E9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DF7DD-4DBC-429C-979E-E074AB6D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587B6-82D3-4056-AB58-9818DD91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4419-D3F1-49C6-9AF3-2650AC2A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43D71-9DB2-47DF-97E2-B62F1703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0E787-2AD3-4586-ABEF-ABF7BCCF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20BCA-2C57-4DDE-B0D2-AF4416BC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D0728-1289-40D9-9432-A6CCADEE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8FF1E-4612-4C92-B7DE-39ABB9AC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B729D-8FF4-417F-9579-D3FEF985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F1D25-9A8C-4708-B3D1-26111541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0BA08-298D-4A00-B0F3-CDFEE60B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7CF16-AE58-45EF-B3AC-6CB73667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70368-93DA-4409-A9F6-0563CFAC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3A9-EA04-44B0-8FB3-74EDA373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FE560-B703-40F2-A6E0-C940E180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8BCF0-6AF0-48ED-B16F-3D4F622E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1813B-AFD5-482D-AC12-EB1AA749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B6321-43EE-480C-BE3A-012D9F78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264A4-79D6-4918-8894-6BB7B24D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00D08-9AC5-44A4-BE0B-CEB6B229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CD73C-CAE2-4997-8D30-3D10AA8E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7281A-CC84-4D8F-B286-1B11775A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62B64-CF47-4A35-93DC-25A3AB4F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C0D34-E0E3-40AD-BCA1-90164CAF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75F-624C-4A55-B7F8-BCFBE0E0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CD867-628C-4D52-A5CF-B82D3B21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933DC-B3EB-4EB0-B2D3-87123ABF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8BF80-4E88-4CFB-9D6D-F78C67E0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7D618-CE20-494A-A4D4-818FE5F8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05365-FDBA-42BD-A8B7-F00A326D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B6E5B-DAF9-4296-B912-C26E19A0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B52D0-9E33-42D3-B4A5-37E866EC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FC38-DBA4-45D5-856E-FE5C280D6248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8F24-9302-41C9-8E70-BEFD44317102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138D-2E90-4CB3-8195-70E830290E0A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FCFB-AF9A-4293-9B61-3428DBAE77AE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C0C2-83AB-4ACA-8CE2-9E749006339E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315D-5DBC-4184-B185-3169E3DF1D60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8396-809F-4D31-81A9-A449C6E3988B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E1AD-7661-4E2E-90D1-91A45E8169CF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64396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ії з іменованими числами. </a:t>
            </a:r>
            <a:endParaRPr b="0" lang="en-US" sz="5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1" name="TextBox 2"/>
          <p:cNvSpPr/>
          <p:nvPr/>
        </p:nvSpPr>
        <p:spPr>
          <a:xfrm>
            <a:off x="285840" y="1571760"/>
            <a:ext cx="45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сті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1857240" y="1571760"/>
            <a:ext cx="700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ладені задачі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знаходження часу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"/>
          <p:cNvSpPr/>
          <p:nvPr/>
        </p:nvSpPr>
        <p:spPr>
          <a:xfrm>
            <a:off x="1000080" y="3214800"/>
            <a:ext cx="51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видкості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4643280" y="3214800"/>
            <a:ext cx="428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ляху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6"/>
          <p:cNvSpPr/>
          <p:nvPr/>
        </p:nvSpPr>
        <p:spPr>
          <a:xfrm>
            <a:off x="571680" y="4071960"/>
            <a:ext cx="757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'ємні геометричні тіла та їх назв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285840" y="928800"/>
          <a:ext cx="8715240" cy="1285920"/>
        </p:xfrm>
        <a:graphic>
          <a:graphicData uri="http://schemas.openxmlformats.org/drawingml/2006/table">
            <a:tbl>
              <a:tblPr/>
              <a:tblGrid>
                <a:gridCol w="1000080"/>
                <a:gridCol w="3357360"/>
                <a:gridCol w="2178360"/>
                <a:gridCol w="2179440"/>
              </a:tblGrid>
              <a:tr h="128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250920" y="2214720"/>
          <a:ext cx="8750160" cy="2071440"/>
        </p:xfrm>
        <a:graphic>
          <a:graphicData uri="http://schemas.openxmlformats.org/drawingml/2006/table">
            <a:tbl>
              <a:tblPr/>
              <a:tblGrid>
                <a:gridCol w="1008000"/>
                <a:gridCol w="3384360"/>
                <a:gridCol w="2197080"/>
                <a:gridCol w="2160720"/>
              </a:tblGrid>
              <a:tr h="207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5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5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250920" y="4221000"/>
          <a:ext cx="8785080" cy="1785960"/>
        </p:xfrm>
        <a:graphic>
          <a:graphicData uri="http://schemas.openxmlformats.org/drawingml/2006/table">
            <a:tbl>
              <a:tblPr/>
              <a:tblGrid>
                <a:gridCol w="1008000"/>
                <a:gridCol w="3384360"/>
                <a:gridCol w="2160720"/>
                <a:gridCol w="223200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14" name="Picture 6" descr=""/>
          <p:cNvPicPr/>
          <p:nvPr/>
        </p:nvPicPr>
        <p:blipFill>
          <a:blip r:embed="rId1"/>
          <a:stretch/>
        </p:blipFill>
        <p:spPr>
          <a:xfrm>
            <a:off x="4786200" y="2357280"/>
            <a:ext cx="1957680" cy="16434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"/>
          <p:cNvPicPr/>
          <p:nvPr/>
        </p:nvPicPr>
        <p:blipFill>
          <a:blip r:embed="rId2"/>
          <a:srcRect l="5801" t="11815" r="6973" b="29137"/>
          <a:stretch/>
        </p:blipFill>
        <p:spPr>
          <a:xfrm>
            <a:off x="4786200" y="4357800"/>
            <a:ext cx="1857600" cy="1238040"/>
          </a:xfrm>
          <a:prstGeom prst="rect">
            <a:avLst/>
          </a:prstGeom>
          <a:ln w="0">
            <a:noFill/>
          </a:ln>
        </p:spPr>
      </p:pic>
      <p:sp>
        <p:nvSpPr>
          <p:cNvPr id="416" name="TextBox 8"/>
          <p:cNvSpPr/>
          <p:nvPr/>
        </p:nvSpPr>
        <p:spPr>
          <a:xfrm>
            <a:off x="504000" y="1143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9"/>
          <p:cNvSpPr/>
          <p:nvPr/>
        </p:nvSpPr>
        <p:spPr>
          <a:xfrm>
            <a:off x="1943280" y="1143000"/>
            <a:ext cx="236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ста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0"/>
          <p:cNvSpPr/>
          <p:nvPr/>
        </p:nvSpPr>
        <p:spPr>
          <a:xfrm>
            <a:off x="4714920" y="1214280"/>
            <a:ext cx="20001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Ѵ×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1"/>
          <p:cNvSpPr/>
          <p:nvPr/>
        </p:nvSpPr>
        <p:spPr>
          <a:xfrm>
            <a:off x="6929280" y="1071720"/>
            <a:ext cx="15717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</a:t>
            </a: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2"/>
          <p:cNvSpPr/>
          <p:nvPr/>
        </p:nvSpPr>
        <p:spPr>
          <a:xfrm>
            <a:off x="458280" y="2714760"/>
            <a:ext cx="67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1585440" y="2786040"/>
            <a:ext cx="25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идкіст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4"/>
          <p:cNvSpPr/>
          <p:nvPr/>
        </p:nvSpPr>
        <p:spPr>
          <a:xfrm>
            <a:off x="7072200" y="2286000"/>
            <a:ext cx="1571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/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/х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5"/>
          <p:cNvSpPr/>
          <p:nvPr/>
        </p:nvSpPr>
        <p:spPr>
          <a:xfrm>
            <a:off x="645840" y="450072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6"/>
          <p:cNvSpPr/>
          <p:nvPr/>
        </p:nvSpPr>
        <p:spPr>
          <a:xfrm>
            <a:off x="2291040" y="4500720"/>
            <a:ext cx="10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7"/>
          <p:cNvSpPr/>
          <p:nvPr/>
        </p:nvSpPr>
        <p:spPr>
          <a:xfrm>
            <a:off x="6926760" y="4714920"/>
            <a:ext cx="1838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,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, 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G:\конус.jpg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G:\паралелепипед.jpg"/>
          <p:cNvPicPr/>
          <p:nvPr/>
        </p:nvPicPr>
        <p:blipFill>
          <a:blip r:embed="rId1"/>
          <a:srcRect l="0" t="0" r="0" b="18669"/>
          <a:stretch/>
        </p:blipFill>
        <p:spPr>
          <a:xfrm>
            <a:off x="0" y="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428" name="Прямоугольник 2"/>
          <p:cNvSpPr/>
          <p:nvPr/>
        </p:nvSpPr>
        <p:spPr>
          <a:xfrm>
            <a:off x="971640" y="3244680"/>
            <a:ext cx="56163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1" lang="uk-UA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ралелепіпе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1"/>
          <p:cNvSpPr/>
          <p:nvPr/>
        </p:nvSpPr>
        <p:spPr>
          <a:xfrm>
            <a:off x="500040" y="295920"/>
            <a:ext cx="8286840" cy="606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Times New Roman"/>
                <a:ea typeface="Calibri"/>
              </a:rPr>
              <a:t>1 ) 12 х 5 = 60 ( км ) –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Calibri"/>
              </a:rPr>
              <a:t>S </a:t>
            </a:r>
            <a:r>
              <a:rPr b="0" lang="uk-UA" sz="5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перед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600" spc="-1" strike="noStrike">
                <a:solidFill>
                  <a:srgbClr val="000000"/>
                </a:solidFill>
                <a:latin typeface="Times New Roman"/>
                <a:ea typeface="Calibri"/>
              </a:rPr>
              <a:t>2 ) 60: 6 = 10 ( км/год ) -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uk-UA" sz="56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зад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ь: 10 км/год їхав велосипедист, повертаючись назад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Рисунок 5" descr="DSCN7344.jpg"/>
          <p:cNvPicPr/>
          <p:nvPr/>
        </p:nvPicPr>
        <p:blipFill>
          <a:blip r:embed="rId1">
            <a:lum contrast="40000"/>
          </a:blip>
          <a:srcRect l="36709" t="0" r="0" b="11110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2" descr="Борислав_Бруківка.jpg"/>
          <p:cNvPicPr/>
          <p:nvPr/>
        </p:nvPicPr>
        <p:blipFill>
          <a:blip r:embed="rId2">
            <a:lum contrast="40000"/>
          </a:blip>
          <a:srcRect l="23960" t="-1370" r="33335" b="15"/>
          <a:stretch/>
        </p:blipFill>
        <p:spPr>
          <a:xfrm>
            <a:off x="0" y="1092240"/>
            <a:ext cx="9144000" cy="161604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1" descr="kapeta.gif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1214280" y="-714240"/>
            <a:ext cx="6643800" cy="297648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3" descr="kapeta.gif"/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4357800" y="3643200"/>
            <a:ext cx="4786200" cy="278136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7" descr="123.bmp"/>
          <p:cNvPicPr/>
          <p:nvPr/>
        </p:nvPicPr>
        <p:blipFill>
          <a:blip r:embed="rId5">
            <a:lum contrast="40000"/>
          </a:blip>
          <a:srcRect l="0" t="0" r="44298" b="62652"/>
          <a:stretch/>
        </p:blipFill>
        <p:spPr>
          <a:xfrm>
            <a:off x="0" y="2643120"/>
            <a:ext cx="6516720" cy="22669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8"/>
          <p:cNvSpPr/>
          <p:nvPr/>
        </p:nvSpPr>
        <p:spPr>
          <a:xfrm>
            <a:off x="7320960" y="2571840"/>
            <a:ext cx="18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укі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1257840" y="6273720"/>
            <a:ext cx="316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ґрунтова дор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G:\шар.jpg"/>
          <p:cNvPicPr/>
          <p:nvPr/>
        </p:nvPicPr>
        <p:blipFill>
          <a:blip r:embed="rId1"/>
          <a:srcRect l="0" t="0" r="0" b="17753"/>
          <a:stretch/>
        </p:blipFill>
        <p:spPr>
          <a:xfrm>
            <a:off x="0" y="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438" name="Прямоугольник 2"/>
          <p:cNvSpPr/>
          <p:nvPr/>
        </p:nvSpPr>
        <p:spPr>
          <a:xfrm>
            <a:off x="3973680" y="3244680"/>
            <a:ext cx="15980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Х-файлы - саундтрэк  (audiopoisk.com)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"/>
          <p:cNvPicPr/>
          <p:nvPr/>
        </p:nvPicPr>
        <p:blipFill>
          <a:blip r:embed="rId3"/>
          <a:stretch/>
        </p:blipFill>
        <p:spPr>
          <a:xfrm rot="1020600">
            <a:off x="5646240" y="2703240"/>
            <a:ext cx="3214800" cy="24112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"/>
          <p:cNvPicPr/>
          <p:nvPr/>
        </p:nvPicPr>
        <p:blipFill>
          <a:blip r:embed="rId4"/>
          <a:stretch/>
        </p:blipFill>
        <p:spPr>
          <a:xfrm rot="20653200">
            <a:off x="268200" y="2749680"/>
            <a:ext cx="3214800" cy="2412720"/>
          </a:xfrm>
          <a:prstGeom prst="rect">
            <a:avLst/>
          </a:prstGeom>
          <a:ln w="0">
            <a:noFill/>
          </a:ln>
        </p:spPr>
      </p:pic>
      <p:sp>
        <p:nvSpPr>
          <p:cNvPr id="442" name="TextBox 1"/>
          <p:cNvSpPr/>
          <p:nvPr/>
        </p:nvSpPr>
        <p:spPr>
          <a:xfrm>
            <a:off x="1357200" y="857160"/>
            <a:ext cx="6858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бота 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ах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496514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7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0" dur="3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"/>
          <p:cNvSpPr/>
          <p:nvPr/>
        </p:nvSpPr>
        <p:spPr>
          <a:xfrm>
            <a:off x="2000160" y="2928960"/>
            <a:ext cx="46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машн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є завдання №417,4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G:\цилиндр.jpg"/>
          <p:cNvPicPr/>
          <p:nvPr/>
        </p:nvPicPr>
        <p:blipFill>
          <a:blip r:embed="rId1"/>
          <a:srcRect l="0" t="0" r="0" b="19969"/>
          <a:stretch/>
        </p:blipFill>
        <p:spPr>
          <a:xfrm>
            <a:off x="468360" y="1197000"/>
            <a:ext cx="6858000" cy="411624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2"/>
          <p:cNvSpPr/>
          <p:nvPr/>
        </p:nvSpPr>
        <p:spPr>
          <a:xfrm>
            <a:off x="1403280" y="3244680"/>
            <a:ext cx="6840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uk-UA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илі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G:\куб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586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404059"/>
                </a:solidFill>
                <a:latin typeface="Times New Roman"/>
                <a:ea typeface="Times New Roman"/>
              </a:rPr>
              <a:t>53м </a:t>
            </a:r>
            <a:r>
              <a:rPr b="1" lang="uk-UA" sz="5400" spc="-1" strike="noStrike">
                <a:solidFill>
                  <a:srgbClr val="404059"/>
                </a:solidFill>
                <a:latin typeface="Times New Roman"/>
                <a:ea typeface="Times New Roman"/>
              </a:rPr>
              <a:t>8см</a:t>
            </a:r>
            <a:r>
              <a:rPr b="1" lang="uk-UA" sz="4800" spc="-1" strike="noStrike">
                <a:solidFill>
                  <a:srgbClr val="404059"/>
                </a:solidFill>
                <a:latin typeface="Times New Roman"/>
                <a:ea typeface="Times New Roman"/>
              </a:rPr>
              <a:t> – 9м 73см = 43м 35см</a:t>
            </a:r>
            <a:endParaRPr b="0" lang="en-US" sz="4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0" name="Овал 5"/>
          <p:cNvSpPr/>
          <p:nvPr/>
        </p:nvSpPr>
        <p:spPr>
          <a:xfrm>
            <a:off x="5143680" y="2857680"/>
            <a:ext cx="142560" cy="142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Овал 6"/>
          <p:cNvSpPr/>
          <p:nvPr/>
        </p:nvSpPr>
        <p:spPr>
          <a:xfrm>
            <a:off x="5214960" y="4429080"/>
            <a:ext cx="142920" cy="1429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7"/>
          <p:cNvSpPr/>
          <p:nvPr/>
        </p:nvSpPr>
        <p:spPr>
          <a:xfrm>
            <a:off x="8215200" y="4429080"/>
            <a:ext cx="142920" cy="1429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Овал 8"/>
          <p:cNvSpPr/>
          <p:nvPr/>
        </p:nvSpPr>
        <p:spPr>
          <a:xfrm>
            <a:off x="8286840" y="2857680"/>
            <a:ext cx="142920" cy="142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Группа 27"/>
          <p:cNvGrpSpPr/>
          <p:nvPr/>
        </p:nvGrpSpPr>
        <p:grpSpPr>
          <a:xfrm>
            <a:off x="214200" y="1571760"/>
            <a:ext cx="4714920" cy="5072040"/>
            <a:chOff x="214200" y="1571760"/>
            <a:chExt cx="4714920" cy="5072040"/>
          </a:xfrm>
        </p:grpSpPr>
        <p:grpSp>
          <p:nvGrpSpPr>
            <p:cNvPr id="375" name="Группа 25"/>
            <p:cNvGrpSpPr/>
            <p:nvPr/>
          </p:nvGrpSpPr>
          <p:grpSpPr>
            <a:xfrm>
              <a:off x="281160" y="1571760"/>
              <a:ext cx="4647960" cy="5072040"/>
              <a:chOff x="281160" y="1571760"/>
              <a:chExt cx="4647960" cy="5072040"/>
            </a:xfrm>
          </p:grpSpPr>
          <p:sp>
            <p:nvSpPr>
              <p:cNvPr id="376" name="Прямоугольник 10"/>
              <p:cNvSpPr/>
              <p:nvPr/>
            </p:nvSpPr>
            <p:spPr>
              <a:xfrm>
                <a:off x="281160" y="1571760"/>
                <a:ext cx="4225680" cy="507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b88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Box 12"/>
              <p:cNvSpPr/>
              <p:nvPr/>
            </p:nvSpPr>
            <p:spPr>
              <a:xfrm>
                <a:off x="351360" y="1857240"/>
                <a:ext cx="4577760" cy="37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8000" spc="-1" strike="noStrike">
                    <a:solidFill>
                      <a:srgbClr val="000000"/>
                    </a:solidFill>
                    <a:latin typeface="Arial"/>
                  </a:rPr>
                  <a:t>5308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8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uk-UA" sz="8000" spc="-1" strike="noStrike">
                    <a:solidFill>
                      <a:srgbClr val="000000"/>
                    </a:solidFill>
                    <a:latin typeface="Arial"/>
                  </a:rPr>
                  <a:t>973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8000" spc="-1" strike="noStrike">
                    <a:solidFill>
                      <a:srgbClr val="000000"/>
                    </a:solidFill>
                    <a:latin typeface="Arial"/>
                  </a:rPr>
                  <a:t>4335(см)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8" name="Прямая соединительная линия 14" descr=""/>
            <p:cNvPicPr/>
            <p:nvPr/>
          </p:nvPicPr>
          <p:blipFill>
            <a:blip r:embed="rId2"/>
            <a:stretch/>
          </p:blipFill>
          <p:spPr>
            <a:xfrm>
              <a:off x="214200" y="2786040"/>
              <a:ext cx="3362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Прямая соединительная линия 17" descr=""/>
            <p:cNvPicPr/>
            <p:nvPr/>
          </p:nvPicPr>
          <p:blipFill>
            <a:blip r:embed="rId3"/>
            <a:stretch/>
          </p:blipFill>
          <p:spPr>
            <a:xfrm>
              <a:off x="286200" y="3999240"/>
              <a:ext cx="2523960" cy="15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0" name="Группа 28"/>
          <p:cNvGrpSpPr/>
          <p:nvPr/>
        </p:nvGrpSpPr>
        <p:grpSpPr>
          <a:xfrm>
            <a:off x="4643280" y="1571760"/>
            <a:ext cx="4286520" cy="5072040"/>
            <a:chOff x="4643280" y="1571760"/>
            <a:chExt cx="4286520" cy="5072040"/>
          </a:xfrm>
        </p:grpSpPr>
        <p:grpSp>
          <p:nvGrpSpPr>
            <p:cNvPr id="381" name="Группа 26"/>
            <p:cNvGrpSpPr/>
            <p:nvPr/>
          </p:nvGrpSpPr>
          <p:grpSpPr>
            <a:xfrm>
              <a:off x="4707360" y="1571760"/>
              <a:ext cx="4222440" cy="5072040"/>
              <a:chOff x="4707360" y="1571760"/>
              <a:chExt cx="4222440" cy="5072040"/>
            </a:xfrm>
          </p:grpSpPr>
          <p:sp>
            <p:nvSpPr>
              <p:cNvPr id="382" name="Прямоугольник 11"/>
              <p:cNvSpPr/>
              <p:nvPr/>
            </p:nvSpPr>
            <p:spPr>
              <a:xfrm>
                <a:off x="4707360" y="1571760"/>
                <a:ext cx="4222440" cy="507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b88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Box 18"/>
              <p:cNvSpPr/>
              <p:nvPr/>
            </p:nvSpPr>
            <p:spPr>
              <a:xfrm>
                <a:off x="4777560" y="1928880"/>
                <a:ext cx="4081680" cy="329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7000" spc="-1" strike="noStrike">
                    <a:solidFill>
                      <a:srgbClr val="000000"/>
                    </a:solidFill>
                    <a:latin typeface="Arial"/>
                  </a:rPr>
                  <a:t>53м 08см</a:t>
                </a:r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7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uk-UA" sz="7000" spc="-1" strike="noStrike">
                    <a:solidFill>
                      <a:srgbClr val="000000"/>
                    </a:solidFill>
                    <a:latin typeface="Arial"/>
                  </a:rPr>
                  <a:t>9м 73см</a:t>
                </a:r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7000" spc="-1" strike="noStrike">
                    <a:solidFill>
                      <a:srgbClr val="000000"/>
                    </a:solidFill>
                    <a:latin typeface="Arial"/>
                  </a:rPr>
                  <a:t>43м 35см</a:t>
                </a:r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4" name="Прямая соединительная линия 20" descr=""/>
            <p:cNvPicPr/>
            <p:nvPr/>
          </p:nvPicPr>
          <p:blipFill>
            <a:blip r:embed="rId4"/>
            <a:stretch/>
          </p:blipFill>
          <p:spPr>
            <a:xfrm>
              <a:off x="4643280" y="2786040"/>
              <a:ext cx="3362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Прямая соединительная линия 22" descr=""/>
            <p:cNvPicPr/>
            <p:nvPr/>
          </p:nvPicPr>
          <p:blipFill>
            <a:blip r:embed="rId5"/>
            <a:stretch/>
          </p:blipFill>
          <p:spPr>
            <a:xfrm>
              <a:off x="4709160" y="3925800"/>
              <a:ext cx="4137480" cy="152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71680" y="2571480"/>
            <a:ext cx="335772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4059"/>
                </a:solidFill>
                <a:latin typeface="Cambria"/>
              </a:rPr>
              <a:t>   </a:t>
            </a:r>
            <a:r>
              <a:rPr b="1" lang="uk-UA" sz="3200" spc="-1" strike="noStrike">
                <a:solidFill>
                  <a:srgbClr val="404059"/>
                </a:solidFill>
                <a:latin typeface="Times New Roman"/>
              </a:rPr>
              <a:t>4  грн.  92 к.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7" name="Содержимое 8" descr="ghb2.bmp"/>
          <p:cNvPicPr/>
          <p:nvPr/>
        </p:nvPicPr>
        <p:blipFill>
          <a:blip r:embed="rId2"/>
          <a:srcRect l="5102" t="0" r="32235" b="44745"/>
          <a:stretch/>
        </p:blipFill>
        <p:spPr>
          <a:xfrm>
            <a:off x="5072040" y="1000080"/>
            <a:ext cx="3357720" cy="1576440"/>
          </a:xfrm>
          <a:prstGeom prst="rect">
            <a:avLst/>
          </a:prstGeom>
          <a:ln w="0">
            <a:noFill/>
          </a:ln>
        </p:spPr>
      </p:pic>
      <p:pic>
        <p:nvPicPr>
          <p:cNvPr id="388" name="Содержимое 3" descr="ghjk3.bmp"/>
          <p:cNvPicPr/>
          <p:nvPr/>
        </p:nvPicPr>
        <p:blipFill>
          <a:blip r:embed="rId3"/>
          <a:stretch/>
        </p:blipFill>
        <p:spPr>
          <a:xfrm>
            <a:off x="2643120" y="4714920"/>
            <a:ext cx="3500640" cy="1479600"/>
          </a:xfrm>
          <a:prstGeom prst="rect">
            <a:avLst/>
          </a:prstGeom>
          <a:ln w="0">
            <a:noFill/>
          </a:ln>
        </p:spPr>
      </p:pic>
      <p:pic>
        <p:nvPicPr>
          <p:cNvPr id="389" name="Содержимое 8" descr="ghb1.bmp"/>
          <p:cNvPicPr/>
          <p:nvPr/>
        </p:nvPicPr>
        <p:blipFill>
          <a:blip r:embed="rId4"/>
          <a:srcRect l="-672" t="3504" r="35003" b="53333"/>
          <a:stretch/>
        </p:blipFill>
        <p:spPr>
          <a:xfrm>
            <a:off x="0" y="1260360"/>
            <a:ext cx="3714840" cy="1311480"/>
          </a:xfrm>
          <a:prstGeom prst="rect">
            <a:avLst/>
          </a:prstGeom>
          <a:ln w="0">
            <a:noFill/>
          </a:ln>
        </p:spPr>
      </p:pic>
      <p:sp>
        <p:nvSpPr>
          <p:cNvPr id="390" name="TextBox 3"/>
          <p:cNvSpPr/>
          <p:nvPr/>
        </p:nvSpPr>
        <p:spPr>
          <a:xfrm>
            <a:off x="795960" y="214200"/>
            <a:ext cx="15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 ряд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"/>
          <p:cNvSpPr/>
          <p:nvPr/>
        </p:nvSpPr>
        <p:spPr>
          <a:xfrm>
            <a:off x="5797800" y="214200"/>
            <a:ext cx="1753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І ряд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6"/>
          <p:cNvSpPr/>
          <p:nvPr/>
        </p:nvSpPr>
        <p:spPr>
          <a:xfrm>
            <a:off x="3370320" y="3429000"/>
            <a:ext cx="197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ІІ ряд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Заголовок 1"/>
          <p:cNvSpPr/>
          <p:nvPr/>
        </p:nvSpPr>
        <p:spPr>
          <a:xfrm>
            <a:off x="2714760" y="5643720"/>
            <a:ext cx="3429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5200" spc="-1" strike="noStrike">
                <a:solidFill>
                  <a:srgbClr val="000000"/>
                </a:solidFill>
                <a:latin typeface="Times New Roman"/>
              </a:rPr>
              <a:t>5 кг 340 г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Овал 12"/>
          <p:cNvSpPr/>
          <p:nvPr/>
        </p:nvSpPr>
        <p:spPr>
          <a:xfrm>
            <a:off x="6929280" y="1643040"/>
            <a:ext cx="71640" cy="716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Овал 13"/>
          <p:cNvSpPr/>
          <p:nvPr/>
        </p:nvSpPr>
        <p:spPr>
          <a:xfrm>
            <a:off x="6929280" y="2286000"/>
            <a:ext cx="71640" cy="7128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14"/>
          <p:cNvSpPr/>
          <p:nvPr/>
        </p:nvSpPr>
        <p:spPr>
          <a:xfrm>
            <a:off x="8143920" y="1643040"/>
            <a:ext cx="71280" cy="716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Овал 15"/>
          <p:cNvSpPr/>
          <p:nvPr/>
        </p:nvSpPr>
        <p:spPr>
          <a:xfrm>
            <a:off x="8143920" y="2286000"/>
            <a:ext cx="71280" cy="7128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7"/>
          <p:cNvSpPr/>
          <p:nvPr/>
        </p:nvSpPr>
        <p:spPr>
          <a:xfrm>
            <a:off x="0" y="2571840"/>
            <a:ext cx="37148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км 720 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9fb8cd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9fb8cd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403280" y="5589360"/>
            <a:ext cx="706752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</a:t>
            </a:r>
            <a:r>
              <a:rPr b="1" lang="uk-UA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ірамі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Picture 2" descr="G:\пирамида.png"/>
          <p:cNvPicPr/>
          <p:nvPr/>
        </p:nvPicPr>
        <p:blipFill>
          <a:blip r:embed="rId1"/>
          <a:stretch/>
        </p:blipFill>
        <p:spPr>
          <a:xfrm>
            <a:off x="500040" y="-458640"/>
            <a:ext cx="8643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06" name="Picture 4" descr="1277295043_babochki-planety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Photo%20002"/>
          <p:cNvPicPr/>
          <p:nvPr/>
        </p:nvPicPr>
        <p:blipFill>
          <a:blip r:embed="rId2"/>
          <a:stretch/>
        </p:blipFill>
        <p:spPr>
          <a:xfrm>
            <a:off x="6588000" y="6093000"/>
            <a:ext cx="2772000" cy="1000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Photo%20033"/>
          <p:cNvPicPr/>
          <p:nvPr/>
        </p:nvPicPr>
        <p:blipFill>
          <a:blip r:embed="rId3"/>
          <a:stretch/>
        </p:blipFill>
        <p:spPr>
          <a:xfrm>
            <a:off x="1619280" y="1052640"/>
            <a:ext cx="2870280" cy="38955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nlo-309"/>
          <p:cNvPicPr/>
          <p:nvPr/>
        </p:nvPicPr>
        <p:blipFill>
          <a:blip r:embed="rId4"/>
          <a:stretch/>
        </p:blipFill>
        <p:spPr>
          <a:xfrm>
            <a:off x="6732720" y="1197000"/>
            <a:ext cx="1287360" cy="145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Схема 3" descr=""/>
          <p:cNvPicPr/>
          <p:nvPr/>
        </p:nvPicPr>
        <p:blipFill>
          <a:blip r:embed="rId2"/>
          <a:stretch/>
        </p:blipFill>
        <p:spPr>
          <a:xfrm>
            <a:off x="281160" y="201600"/>
            <a:ext cx="858168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5:44:30Z</dcterms:created>
  <dc:creator>Admin</dc:creator>
  <dc:description/>
  <dc:language>en-US</dc:language>
  <cp:lastModifiedBy>ЛЕНЧИК</cp:lastModifiedBy>
  <dcterms:modified xsi:type="dcterms:W3CDTF">2013-11-28T08:31:14Z</dcterms:modified>
  <cp:revision>68</cp:revision>
  <dc:subject/>
  <dc:title>Слайд 1</dc:title>
</cp:coreProperties>
</file>