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1.wmf" ContentType="image/x-wmf"/>
  <Override PartName="/ppt/media/image19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3104-8ED0-4E1F-9E12-0C77EA736A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D5DD-5164-45C6-B602-0A842EA2A2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7E9D-4DF7-493A-8DD7-E9ECD9D4F2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8A3D-DCAF-4E3F-9635-0193294F7D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6287-3A1F-40FC-875D-9248070AE0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32D1-68DC-44BD-8B64-58F39240D9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71BB-9B65-4852-A946-F8333D6AD9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FB14-EB9B-47FB-A7AC-E25888BC6D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6208-362D-4474-95C0-AFA181426A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887A-A9D1-455B-9BBE-927134FE3B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A1EF-E1E9-4A57-A5A8-027CA4C9AF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252A-80E3-470C-AC65-5A44A16A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D54C-9A1D-460F-B2C0-7961FE24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C8D5-6191-46AA-911A-E15C4430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CA8D-5481-4184-98DC-5AAEE897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921A-30CE-49F7-B149-62337FE1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7FE8-61D7-43FF-9810-BD40310C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C9EF-3568-424E-BE42-07DFE2DC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648F-6705-4D9A-95DC-4970BB2C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4A06-DD30-49F6-8A26-3B72B3BC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C227-BEB2-4C5E-961D-1524B3A4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70F4-7EC6-4DDC-8E38-2AC523D4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8C89-6285-4F66-A99B-9195694E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F1C2-43F4-440E-AF12-CAEFB1B3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C99F-01B9-4E0F-85D0-E432CE83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F8BD-32B8-4E8F-96A2-37D121AD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3D19-2BAE-4636-86A1-10C3FEE2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3A2E-8CE6-4D82-BA3E-3100A858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7058-C9A7-44AA-9262-0B6D1982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19BD-3360-4C11-BF5B-4A5F2E7C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6591-E19E-4FA5-B82A-A4C7F292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AAA5-BEAA-4868-953D-7FCA8585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8893-5BF1-46F7-90C3-DEACE52A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7ABB-F43A-4A1B-9FD4-6F334FA7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2CC2-1B48-429B-B1FF-7F9530CC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424b59"/>
                </a:gs>
                <a:gs pos="100000">
                  <a:srgbClr val="8ea1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0889-0105-4EB5-A5A7-3F5B7B543B7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3EDE-9BB3-4D26-ACD0-972B032883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424b59"/>
                </a:gs>
                <a:gs pos="100000">
                  <a:srgbClr val="8ea1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424b59"/>
                </a:gs>
                <a:gs pos="100000">
                  <a:srgbClr val="8ea1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6cdde"/>
                      </a:gs>
                      <a:gs pos="100000">
                        <a:srgbClr val="545f6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45f67"/>
                      </a:gs>
                      <a:gs pos="100000">
                        <a:srgbClr val="b6cdd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45f67"/>
                      </a:gs>
                      <a:gs pos="100000">
                        <a:srgbClr val="b6cdd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b6cdde"/>
                      </a:gs>
                      <a:gs pos="100000">
                        <a:srgbClr val="545f6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45f67"/>
                    </a:gs>
                    <a:gs pos="100000">
                      <a:srgbClr val="b6cdd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45f67"/>
                    </a:gs>
                    <a:gs pos="100000">
                      <a:srgbClr val="b6cdde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f67"/>
                    </a:gs>
                    <a:gs pos="100000">
                      <a:srgbClr val="b6cdde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545f67"/>
                    </a:gs>
                    <a:gs pos="5000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7BEC-916C-4530-B19F-B46E3874EFF4}" type="datetime"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5B80-34EE-4AAC-A9B7-87AC0898EB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6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EAB7-CFE5-4E1A-8446-7CF6D4630C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Times New Roman"/>
              </a:rPr>
              <a:t>Тема уроку:</a:t>
            </a:r>
            <a:r>
              <a:rPr b="0" i="1" lang="ru-RU" sz="4800" spc="-1" strike="noStrike">
                <a:solidFill>
                  <a:srgbClr val="ffff00"/>
                </a:solidFill>
                <a:latin typeface="Times New Roman"/>
              </a:rPr>
              <a:t> «КАЗКОВА КВІТКА ПЕТРИКІВКИ. ПЕТРИКІВСЬКИЙ РОЗПИС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7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3000240" cy="6858000"/>
          </a:xfrm>
          <a:prstGeom prst="rect">
            <a:avLst/>
          </a:prstGeom>
          <a:ln w="0">
            <a:noFill/>
          </a:ln>
        </p:spPr>
      </p:pic>
    </p:spTree>
  </p:cSld>
  <p:transition advTm="11000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C9E1-9975-4A5D-8E84-C5CD17D024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2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uk-UA" sz="44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i="1" lang="uk-UA" sz="4400" spc="-1" strike="noStrike">
                <a:solidFill>
                  <a:srgbClr val="ffffff"/>
                </a:solidFill>
                <a:latin typeface="Times New Roman"/>
              </a:rPr>
              <a:t>Криве зернятко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Vprava4"/>
          <p:cNvPicPr/>
          <p:nvPr/>
        </p:nvPicPr>
        <p:blipFill>
          <a:blip r:embed="rId1"/>
          <a:srcRect l="0" t="10072" r="0" b="0"/>
          <a:stretch/>
        </p:blipFill>
        <p:spPr>
          <a:xfrm>
            <a:off x="1960560" y="1676520"/>
            <a:ext cx="6802560" cy="4487760"/>
          </a:xfrm>
          <a:prstGeom prst="rect">
            <a:avLst/>
          </a:prstGeom>
          <a:ln w="0">
            <a:noFill/>
          </a:ln>
        </p:spPr>
      </p:pic>
    </p:spTree>
  </p:cSld>
  <p:transition advTm="11000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5C95-82CC-4D1A-AC83-464A4D6F00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i="1" lang="uk-UA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uk-UA" sz="4400" spc="-1" strike="noStrike">
                <a:solidFill>
                  <a:srgbClr val="ffffff"/>
                </a:solidFill>
                <a:latin typeface="Times New Roman"/>
              </a:rPr>
              <a:t>Гребінчик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Picture 4" descr="Vprava2"/>
          <p:cNvPicPr/>
          <p:nvPr/>
        </p:nvPicPr>
        <p:blipFill>
          <a:blip r:embed="rId1"/>
          <a:srcRect l="0" t="10881" r="0" b="0"/>
          <a:stretch/>
        </p:blipFill>
        <p:spPr>
          <a:xfrm>
            <a:off x="1574640" y="1828800"/>
            <a:ext cx="7264440" cy="3211560"/>
          </a:xfrm>
          <a:prstGeom prst="rect">
            <a:avLst/>
          </a:prstGeom>
          <a:ln w="0">
            <a:noFill/>
          </a:ln>
        </p:spPr>
      </p:pic>
    </p:spTree>
  </p:cSld>
  <p:transition advTm="11000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54A1-308B-4DAE-86E9-5E7F37CC18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7560" y="20520"/>
            <a:ext cx="7491240" cy="104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i="1" lang="uk-UA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uk-UA" sz="4400" spc="-1" strike="noStrike">
                <a:solidFill>
                  <a:srgbClr val="ffffff"/>
                </a:solidFill>
                <a:latin typeface="Times New Roman"/>
              </a:rPr>
              <a:t>Перехідний мазок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4" descr="Vprava25"/>
          <p:cNvPicPr/>
          <p:nvPr/>
        </p:nvPicPr>
        <p:blipFill>
          <a:blip r:embed="rId1"/>
          <a:srcRect l="0" t="10960" r="0" b="0"/>
          <a:stretch/>
        </p:blipFill>
        <p:spPr>
          <a:xfrm>
            <a:off x="4110120" y="2819520"/>
            <a:ext cx="4762440" cy="1857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Vprava21"/>
          <p:cNvPicPr/>
          <p:nvPr/>
        </p:nvPicPr>
        <p:blipFill>
          <a:blip r:embed="rId2"/>
          <a:srcRect l="0" t="11586" r="0" b="0"/>
          <a:stretch/>
        </p:blipFill>
        <p:spPr>
          <a:xfrm>
            <a:off x="1219320" y="914400"/>
            <a:ext cx="4762440" cy="205416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" descr="Vprava24"/>
          <p:cNvPicPr/>
          <p:nvPr/>
        </p:nvPicPr>
        <p:blipFill>
          <a:blip r:embed="rId3"/>
          <a:srcRect l="0" t="15179" r="2268" b="3036"/>
          <a:stretch/>
        </p:blipFill>
        <p:spPr>
          <a:xfrm>
            <a:off x="1219320" y="4495680"/>
            <a:ext cx="5476680" cy="2081160"/>
          </a:xfrm>
          <a:prstGeom prst="rect">
            <a:avLst/>
          </a:prstGeom>
          <a:ln w="0">
            <a:noFill/>
          </a:ln>
        </p:spPr>
      </p:pic>
    </p:spTree>
  </p:cSld>
  <p:transition advTm="11000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3BBA-72F0-478B-98C1-84ACD7542F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ffff"/>
                </a:solidFill>
                <a:latin typeface="Times New Roman"/>
              </a:rPr>
              <a:t>Словникова робот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озпис – сюжетні або орнаментальні живописні зображення на будівлях та побутових предметах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олорит – система співвідношення кольорів та відтінків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омпозиція- це розміщення й співвідношення елементів у певній послідовності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43"/>
          <p:cNvPicPr/>
          <p:nvPr/>
        </p:nvPicPr>
        <p:blipFill>
          <a:blip r:embed="rId1"/>
          <a:stretch/>
        </p:blipFill>
        <p:spPr>
          <a:xfrm>
            <a:off x="7010280" y="1295280"/>
            <a:ext cx="2514600" cy="2344680"/>
          </a:xfrm>
          <a:prstGeom prst="rect">
            <a:avLst/>
          </a:prstGeom>
          <a:ln w="0">
            <a:noFill/>
          </a:ln>
        </p:spPr>
      </p:pic>
    </p:spTree>
  </p:cSld>
  <p:transition advTm="11000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62B9-DE10-4B6B-BFBF-2C77D7731B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uk-UA" sz="4400" spc="-1" strike="noStrike">
                <a:solidFill>
                  <a:srgbClr val="ffffff"/>
                </a:solidFill>
                <a:latin typeface="Times New Roman"/>
              </a:rPr>
              <a:t>Практична робот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Vprava12"/>
          <p:cNvPicPr/>
          <p:nvPr/>
        </p:nvPicPr>
        <p:blipFill>
          <a:blip r:embed="rId1"/>
          <a:srcRect l="0" t="9180" r="0" b="0"/>
          <a:stretch/>
        </p:blipFill>
        <p:spPr>
          <a:xfrm>
            <a:off x="5105520" y="1336680"/>
            <a:ext cx="3543120" cy="2309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Vprava13"/>
          <p:cNvPicPr/>
          <p:nvPr/>
        </p:nvPicPr>
        <p:blipFill>
          <a:blip r:embed="rId2"/>
          <a:srcRect l="0" t="8870" r="0" b="0"/>
          <a:stretch/>
        </p:blipFill>
        <p:spPr>
          <a:xfrm>
            <a:off x="1380960" y="1290600"/>
            <a:ext cx="3600720" cy="2401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Vprava19"/>
          <p:cNvPicPr/>
          <p:nvPr/>
        </p:nvPicPr>
        <p:blipFill>
          <a:blip r:embed="rId3"/>
          <a:srcRect l="0" t="0" r="4229" b="0"/>
          <a:stretch/>
        </p:blipFill>
        <p:spPr>
          <a:xfrm>
            <a:off x="1368360" y="3809880"/>
            <a:ext cx="3613320" cy="2605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Vprava28"/>
          <p:cNvPicPr/>
          <p:nvPr/>
        </p:nvPicPr>
        <p:blipFill>
          <a:blip r:embed="rId4"/>
          <a:srcRect l="0" t="10977" r="0" b="0"/>
          <a:stretch/>
        </p:blipFill>
        <p:spPr>
          <a:xfrm>
            <a:off x="5114880" y="4191120"/>
            <a:ext cx="3695760" cy="2390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Рисунок1"/>
          <p:cNvPicPr/>
          <p:nvPr/>
        </p:nvPicPr>
        <p:blipFill>
          <a:blip r:embed="rId5"/>
          <a:stretch/>
        </p:blipFill>
        <p:spPr>
          <a:xfrm>
            <a:off x="0" y="0"/>
            <a:ext cx="1461960" cy="1676520"/>
          </a:xfrm>
          <a:prstGeom prst="rect">
            <a:avLst/>
          </a:prstGeom>
          <a:ln w="0">
            <a:noFill/>
          </a:ln>
        </p:spPr>
      </p:pic>
    </p:spTree>
  </p:cSld>
  <p:transition advTm="11000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E0EB-821B-4FAA-8112-D9E5BB1A2D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620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uk-UA" sz="4000" spc="-1" strike="noStrike">
                <a:solidFill>
                  <a:srgbClr val="ffff00"/>
                </a:solidFill>
                <a:latin typeface="Times New Roman"/>
              </a:rPr>
              <a:t>Підсумок уроку</a:t>
            </a:r>
            <a:br>
              <a:rPr sz="4000"/>
            </a:b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На основі яких кольорів створюють традиційну композицію в петриківському розписі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4" descr="normal_Steppe Summer"/>
          <p:cNvPicPr/>
          <p:nvPr/>
        </p:nvPicPr>
        <p:blipFill>
          <a:blip r:embed="rId1"/>
          <a:stretch/>
        </p:blipFill>
        <p:spPr>
          <a:xfrm>
            <a:off x="6081840" y="2590920"/>
            <a:ext cx="3062160" cy="426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100960"/>
          <p:cNvPicPr/>
          <p:nvPr/>
        </p:nvPicPr>
        <p:blipFill>
          <a:blip r:embed="rId2"/>
          <a:stretch/>
        </p:blipFill>
        <p:spPr>
          <a:xfrm>
            <a:off x="1219320" y="2438280"/>
            <a:ext cx="4457520" cy="3022560"/>
          </a:xfrm>
          <a:prstGeom prst="rect">
            <a:avLst/>
          </a:prstGeom>
          <a:ln w="0">
            <a:noFill/>
          </a:ln>
        </p:spPr>
      </p:pic>
    </p:spTree>
  </p:cSld>
  <p:transition advTm="11000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2F5E-2AC6-474A-99E9-69120A289E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Яких майстрів петриківського розпису ви запам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ятал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4" descr="3525"/>
          <p:cNvPicPr/>
          <p:nvPr/>
        </p:nvPicPr>
        <p:blipFill>
          <a:blip r:embed="rId1"/>
          <a:stretch/>
        </p:blipFill>
        <p:spPr>
          <a:xfrm>
            <a:off x="3352680" y="1295280"/>
            <a:ext cx="3543480" cy="2430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My Flowering Land"/>
          <p:cNvPicPr/>
          <p:nvPr/>
        </p:nvPicPr>
        <p:blipFill>
          <a:blip r:embed="rId2"/>
          <a:stretch/>
        </p:blipFill>
        <p:spPr>
          <a:xfrm>
            <a:off x="1447920" y="3200400"/>
            <a:ext cx="2262240" cy="327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normal_Steppe Summer"/>
          <p:cNvPicPr/>
          <p:nvPr/>
        </p:nvPicPr>
        <p:blipFill>
          <a:blip r:embed="rId3"/>
          <a:stretch/>
        </p:blipFill>
        <p:spPr>
          <a:xfrm>
            <a:off x="6477120" y="3124080"/>
            <a:ext cx="2404800" cy="3353040"/>
          </a:xfrm>
          <a:prstGeom prst="rect">
            <a:avLst/>
          </a:prstGeom>
          <a:ln w="0">
            <a:noFill/>
          </a:ln>
        </p:spPr>
      </p:pic>
    </p:spTree>
  </p:cSld>
  <p:transition advTm="11000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A931-C909-4073-B015-CCEEA55037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Презентацію до уроку </a:t>
            </a:r>
            <a:br>
              <a:rPr sz="4400"/>
            </a:br>
            <a:r>
              <a:rPr b="0" i="1" lang="uk-UA" sz="4400" spc="-1" strike="noStrike">
                <a:solidFill>
                  <a:srgbClr val="ffffff"/>
                </a:solidFill>
                <a:latin typeface="Times New Roman"/>
              </a:rPr>
              <a:t>“Казкова квітка Петриківки. Петриківський розпис.”</a:t>
            </a: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підготувала вчитель </a:t>
            </a:r>
            <a:br>
              <a:rPr sz="4400"/>
            </a:b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Єпішко Тетяна Миколаїв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5" descr="Рисунок1"/>
          <p:cNvPicPr/>
          <p:nvPr/>
        </p:nvPicPr>
        <p:blipFill>
          <a:blip r:embed="rId1"/>
          <a:stretch/>
        </p:blipFill>
        <p:spPr>
          <a:xfrm>
            <a:off x="5867280" y="3098880"/>
            <a:ext cx="3276720" cy="3759120"/>
          </a:xfrm>
          <a:prstGeom prst="rect">
            <a:avLst/>
          </a:prstGeom>
          <a:ln w="0">
            <a:noFill/>
          </a:ln>
        </p:spPr>
      </p:pic>
    </p:spTree>
  </p:cSld>
  <p:transition advTm="11000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00A3-D8BB-4649-8C04-595D3826E9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ffff"/>
                </a:solidFill>
                <a:latin typeface="Times New Roman"/>
              </a:rPr>
              <a:t>Завдання уроку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ознайомитися з декоративним народним розписом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вчитися оволодіти такими мазками, як “гребінчик”, “зернятко”, “горішок” та “перехідний мазок”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творювання візерунків з елементів петриківського розпису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029" descr="Рисунок2"/>
          <p:cNvPicPr/>
          <p:nvPr/>
        </p:nvPicPr>
        <p:blipFill>
          <a:blip r:embed="rId1"/>
          <a:stretch/>
        </p:blipFill>
        <p:spPr>
          <a:xfrm>
            <a:off x="6402240" y="3886200"/>
            <a:ext cx="2741760" cy="2971800"/>
          </a:xfrm>
          <a:prstGeom prst="rect">
            <a:avLst/>
          </a:prstGeom>
          <a:ln w="0">
            <a:noFill/>
          </a:ln>
        </p:spPr>
      </p:pic>
    </p:spTree>
  </p:cSld>
  <p:transition advTm="11000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603A-3264-4F79-B312-591B1557BA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Times New Roman"/>
              </a:rPr>
              <a:t>Легенда про петриківський</a:t>
            </a:r>
            <a:r>
              <a:rPr b="0" i="1" lang="uk-UA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ffffff"/>
                </a:solidFill>
                <a:latin typeface="Times New Roman"/>
              </a:rPr>
              <a:t>розпи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4" descr="181185460"/>
          <p:cNvPicPr/>
          <p:nvPr/>
        </p:nvPicPr>
        <p:blipFill>
          <a:blip r:embed="rId1"/>
          <a:stretch/>
        </p:blipFill>
        <p:spPr>
          <a:xfrm>
            <a:off x="2133720" y="1514520"/>
            <a:ext cx="5943600" cy="4910040"/>
          </a:xfrm>
          <a:prstGeom prst="rect">
            <a:avLst/>
          </a:prstGeom>
          <a:ln w="0">
            <a:noFill/>
          </a:ln>
        </p:spPr>
      </p:pic>
      <p:pic>
        <p:nvPicPr>
          <p:cNvPr id="179" name="Track0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1000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1000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07AC-399B-428F-B4B3-255D0DB8B4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Times New Roman"/>
              </a:rPr>
              <a:t>Село Петриківка на Дніпропетровщині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9528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оковиті, яскраві квіти майстрів Петриківки зачаровують своєю красою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P7300168_web"/>
          <p:cNvPicPr/>
          <p:nvPr/>
        </p:nvPicPr>
        <p:blipFill>
          <a:blip r:embed="rId1"/>
          <a:stretch/>
        </p:blipFill>
        <p:spPr>
          <a:xfrm>
            <a:off x="2438280" y="1828800"/>
            <a:ext cx="4419720" cy="2349360"/>
          </a:xfrm>
          <a:prstGeom prst="rect">
            <a:avLst/>
          </a:prstGeom>
          <a:ln w="0">
            <a:noFill/>
          </a:ln>
        </p:spPr>
      </p:pic>
    </p:spTree>
  </p:cSld>
  <p:transition advTm="1100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6239-16B1-4ABD-9E4C-0C4944E4A0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ffff"/>
                </a:solidFill>
                <a:latin typeface="Times New Roman"/>
              </a:rPr>
              <a:t>Тетяна Пат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4" descr="pati"/>
          <p:cNvPicPr/>
          <p:nvPr/>
        </p:nvPicPr>
        <p:blipFill>
          <a:blip r:embed="rId1"/>
          <a:stretch/>
        </p:blipFill>
        <p:spPr>
          <a:xfrm>
            <a:off x="3003480" y="1219320"/>
            <a:ext cx="3662280" cy="5105160"/>
          </a:xfrm>
          <a:prstGeom prst="rect">
            <a:avLst/>
          </a:prstGeom>
          <a:ln w="0">
            <a:noFill/>
          </a:ln>
        </p:spPr>
      </p:pic>
    </p:spTree>
  </p:cSld>
  <p:transition advTm="11000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BFA0-6204-4E50-92AB-644E3C4C19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ff"/>
                </a:solidFill>
                <a:latin typeface="Times New Roman"/>
              </a:rPr>
              <a:t>Тетяна Пата “Зозуля на калині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4" descr="3525"/>
          <p:cNvPicPr/>
          <p:nvPr/>
        </p:nvPicPr>
        <p:blipFill>
          <a:blip r:embed="rId1"/>
          <a:stretch/>
        </p:blipFill>
        <p:spPr>
          <a:xfrm>
            <a:off x="1447920" y="1332000"/>
            <a:ext cx="7315200" cy="5019480"/>
          </a:xfrm>
          <a:prstGeom prst="rect">
            <a:avLst/>
          </a:prstGeom>
          <a:ln w="0">
            <a:noFill/>
          </a:ln>
        </p:spPr>
      </p:pic>
    </p:spTree>
  </p:cSld>
  <p:transition advTm="11000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9BB2-3F28-47EE-9CA0-A6274EF7D2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ff"/>
                </a:solidFill>
                <a:latin typeface="Times New Roman"/>
              </a:rPr>
              <a:t>Марія Кравець “Степове літо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4" descr="normal_Steppe Summer"/>
          <p:cNvPicPr/>
          <p:nvPr/>
        </p:nvPicPr>
        <p:blipFill>
          <a:blip r:embed="rId1"/>
          <a:stretch/>
        </p:blipFill>
        <p:spPr>
          <a:xfrm>
            <a:off x="2895480" y="1219320"/>
            <a:ext cx="4046760" cy="5638680"/>
          </a:xfrm>
          <a:prstGeom prst="rect">
            <a:avLst/>
          </a:prstGeom>
          <a:ln w="0">
            <a:noFill/>
          </a:ln>
        </p:spPr>
      </p:pic>
    </p:spTree>
  </p:cSld>
  <p:transition advTm="11000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D395-F78C-45BD-9824-42FAD96C28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ff"/>
                </a:solidFill>
                <a:latin typeface="Times New Roman"/>
              </a:rPr>
              <a:t>Валентина Дека “Квітучий край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4" descr="My Flowering Land"/>
          <p:cNvPicPr/>
          <p:nvPr/>
        </p:nvPicPr>
        <p:blipFill>
          <a:blip r:embed="rId1"/>
          <a:stretch/>
        </p:blipFill>
        <p:spPr>
          <a:xfrm>
            <a:off x="3048120" y="1143000"/>
            <a:ext cx="3944880" cy="5715000"/>
          </a:xfrm>
          <a:prstGeom prst="rect">
            <a:avLst/>
          </a:prstGeom>
          <a:ln w="0">
            <a:noFill/>
          </a:ln>
        </p:spPr>
      </p:pic>
    </p:spTree>
  </p:cSld>
  <p:transition advTm="11000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5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7FA7-6C08-4306-9373-60F8280DCC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ffff"/>
                </a:solidFill>
                <a:latin typeface="Times New Roman"/>
              </a:rPr>
              <a:t>Підготовчі вправ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42960" y="13712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               “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ернятко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28"/>
          <p:cNvSpPr/>
          <p:nvPr/>
        </p:nvSpPr>
        <p:spPr>
          <a:xfrm>
            <a:off x="1547640" y="5409720"/>
            <a:ext cx="75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ернятко” – мазок, який наносять починаючи з легкого дотику до сильного натиску пензлем. Коли мазки “зернятко” положенні по обидві сторони стебла, кінчиком назовні, зображення нагадує колос. Звідси і наз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030" descr="Vprava1"/>
          <p:cNvPicPr/>
          <p:nvPr/>
        </p:nvPicPr>
        <p:blipFill>
          <a:blip r:embed="rId1"/>
          <a:srcRect l="0" t="12523" r="0" b="0"/>
          <a:stretch/>
        </p:blipFill>
        <p:spPr>
          <a:xfrm>
            <a:off x="2286000" y="2057400"/>
            <a:ext cx="5845320" cy="3200400"/>
          </a:xfrm>
          <a:prstGeom prst="rect">
            <a:avLst/>
          </a:prstGeom>
          <a:ln w="0">
            <a:noFill/>
          </a:ln>
        </p:spPr>
      </p:pic>
    </p:spTree>
  </p:cSld>
  <p:transition advTm="11000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migo</dc:creator>
  <dc:description/>
  <dc:language>en-US</dc:language>
  <cp:lastModifiedBy>Amigo</cp:lastModifiedBy>
  <dcterms:modified xsi:type="dcterms:W3CDTF">2015-03-11T17:41:11Z</dcterms:modified>
  <cp:revision>11</cp:revision>
  <dc:subject/>
  <dc:title>PowerPoint-prж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