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3.png" ContentType="image/pn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91A07-ABC1-4766-B44C-52A12BAD6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C4804-0479-417C-9427-4CE0397C9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8FDFE-DEA1-4EF0-A640-2F78A1EF1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DCAF4-7B84-4671-8799-53CD7DE14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C20A7-E320-4F81-BF16-2F7EB121A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2BD36-1AE9-4464-A45F-CAC508944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13484-EEAC-4AE8-A2E6-175527B6D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D3EC3-8EEB-46D0-8470-11D90DDE6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E03A7-205E-4D32-9D67-859322A3F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C151A-090E-49B4-8480-9B31DAB23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1CDB4-4036-4373-BBED-03B3F202A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ABDFD-27C9-4524-BE02-7EB0A8E62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65E44-994A-4408-897F-B4EB1BF9E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60019-528B-466E-82CE-82A0BBE4C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8B5C4-D948-43B9-9FF5-87D21D75C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B77D7-B2DE-466D-902E-A56E17561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31D39-A9AE-4D7C-B328-17B034173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8906A-DD32-430B-8C05-8A61F981F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AE2FA-FE76-463E-89D0-1B90DD59C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039BA-13E4-40EB-B7C1-01BCFC7A8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A2FC0-047A-40D8-8BD2-A5C0D6AD8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ADEA4-8CC9-4C2B-8275-6A12DD23B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089B9-7C2F-454D-B68C-169EC8306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AB1B2-A994-49FD-8BF5-E7CBBC9B5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AB66B-0CCE-4B99-8DDE-38E7FCDFE67F}" type="slidenum">
              <a:rPr b="0" lang="uk-UA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D67B2-6042-4C6F-B800-161AA6969C05}" type="slidenum">
              <a:rPr b="0" lang="uk-UA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2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4360" y="1341000"/>
            <a:ext cx="7920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3300"/>
                </a:solidFill>
                <a:latin typeface="Garamond"/>
              </a:rPr>
              <a:t>ГАВРИЛЮК Леся Василівна</a:t>
            </a:r>
            <a:r>
              <a:rPr b="1" lang="uk-UA" sz="3000" spc="-1" strike="noStrike">
                <a:solidFill>
                  <a:srgbClr val="003300"/>
                </a:solidFill>
                <a:latin typeface="Garamond"/>
              </a:rPr>
              <a:t>,</a:t>
            </a:r>
            <a:br>
              <a:rPr sz="3000"/>
            </a:br>
            <a:r>
              <a:rPr b="0" i="1" lang="uk-UA" sz="2800" spc="-1" strike="noStrike">
                <a:solidFill>
                  <a:srgbClr val="3b812f"/>
                </a:solidFill>
                <a:latin typeface="Garamond"/>
              </a:rPr>
              <a:t>Загальноосвітня школа І-ІІІ ступенів №1 м. Дубна, </a:t>
            </a:r>
            <a:br>
              <a:rPr sz="2800"/>
            </a:br>
            <a:r>
              <a:rPr b="0" i="1" lang="uk-UA" sz="2800" spc="-1" strike="noStrike">
                <a:solidFill>
                  <a:srgbClr val="3b812f"/>
                </a:solidFill>
                <a:latin typeface="Garamond"/>
              </a:rPr>
              <a:t>3-А клас.</a:t>
            </a:r>
            <a:br>
              <a:rPr sz="2800"/>
            </a:br>
            <a:r>
              <a:rPr b="0" lang="uk-UA" sz="2800" spc="-1" strike="noStrike" u="sng">
                <a:solidFill>
                  <a:srgbClr val="006633"/>
                </a:solidFill>
                <a:uFillTx/>
                <a:latin typeface="Garamond"/>
              </a:rPr>
              <a:t>Т</a:t>
            </a:r>
            <a:r>
              <a:rPr b="1" lang="uk-UA" sz="2000" spc="-1" strike="noStrike" u="sng">
                <a:solidFill>
                  <a:srgbClr val="006633"/>
                </a:solidFill>
                <a:uFillTx/>
                <a:latin typeface="Times New Roman"/>
              </a:rPr>
              <a:t>ема уроку:</a:t>
            </a:r>
            <a:r>
              <a:rPr b="0" lang="uk-UA" sz="2800" spc="-1" strike="noStrike">
                <a:solidFill>
                  <a:srgbClr val="3b812f"/>
                </a:solidFill>
                <a:latin typeface="Times New Roman"/>
              </a:rPr>
              <a:t> </a:t>
            </a:r>
            <a:r>
              <a:rPr b="0" lang="uk-UA" sz="2800" spc="-1" strike="noStrike">
                <a:solidFill>
                  <a:srgbClr val="3b812f"/>
                </a:solidFill>
                <a:latin typeface="Times New Roman"/>
              </a:rPr>
              <a:t>	</a:t>
            </a:r>
            <a:r>
              <a:rPr b="1" lang="uk-UA" sz="2400" spc="-1" strike="noStrike">
                <a:solidFill>
                  <a:srgbClr val="003300"/>
                </a:solidFill>
                <a:latin typeface="Times New Roman"/>
              </a:rPr>
              <a:t>Множення двоцифрового числа </a:t>
            </a:r>
            <a:r>
              <a:rPr b="1" lang="uk-UA" sz="24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1" lang="uk-UA" sz="24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1" lang="uk-UA" sz="24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1" lang="uk-UA" sz="24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1" lang="uk-UA" sz="2400" spc="-1" strike="noStrike">
                <a:solidFill>
                  <a:srgbClr val="003300"/>
                </a:solidFill>
                <a:latin typeface="Times New Roman"/>
              </a:rPr>
              <a:t>на одноцифрове виду 24</a:t>
            </a:r>
            <a:r>
              <a:rPr b="1" lang="en-US" sz="24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·</a:t>
            </a:r>
            <a:r>
              <a:rPr b="1" lang="uk-UA" sz="2400" spc="-1" strike="noStrike">
                <a:solidFill>
                  <a:srgbClr val="003300"/>
                </a:solidFill>
                <a:latin typeface="Times New Roman"/>
              </a:rPr>
              <a:t>3. Задача </a:t>
            </a:r>
            <a:r>
              <a:rPr b="1" lang="uk-UA" sz="24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1" lang="uk-UA" sz="24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1" lang="uk-UA" sz="24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1" lang="uk-UA" sz="2400" spc="-1" strike="noStrike">
                <a:solidFill>
                  <a:srgbClr val="003300"/>
                </a:solidFill>
                <a:latin typeface="Times New Roman"/>
              </a:rPr>
              <a:t>на суму двох добутків.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900000" y="4076640"/>
            <a:ext cx="785016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b812f"/>
                </a:solidFill>
                <a:uFillTx/>
                <a:latin typeface="Times New Roman"/>
              </a:rPr>
              <a:t>Мета уроку:</a:t>
            </a:r>
            <a:r>
              <a:rPr b="1" lang="en-US" sz="2400" spc="-1" strike="noStrike">
                <a:solidFill>
                  <a:srgbClr val="3b812f"/>
                </a:solidFill>
                <a:latin typeface="Times New Roman"/>
              </a:rPr>
              <a:t> Ознайомити з прийомом множення двоцифрового числа на одноцифрове. Удосконалювати обчислювальні навички і вміння множення розрядних чисел на число, суми на число. Закріпити вміння розв’язування задачі на суму двох добутків. Розвивати логічне мислення. Виховувати старанність, самостійність, бажання зміцнювати своє здоров’я, займаючись спорт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611280" y="765000"/>
            <a:ext cx="1439640" cy="1368720"/>
          </a:xfrm>
          <a:prstGeom prst="rect">
            <a:avLst/>
          </a:prstGeom>
          <a:solidFill>
            <a:srgbClr val="3b812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484360" y="765000"/>
            <a:ext cx="2374920" cy="1511640"/>
          </a:xfrm>
          <a:prstGeom prst="rect">
            <a:avLst/>
          </a:prstGeom>
          <a:solidFill>
            <a:srgbClr val="3b812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35640" y="765000"/>
            <a:ext cx="2952720" cy="1224000"/>
          </a:xfrm>
          <a:prstGeom prst="parallelogram">
            <a:avLst>
              <a:gd name="adj" fmla="val 60309"/>
            </a:avLst>
          </a:prstGeom>
          <a:solidFill>
            <a:srgbClr val="3b812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971640" y="3429000"/>
            <a:ext cx="1584360" cy="1584360"/>
          </a:xfrm>
          <a:prstGeom prst="ellipse">
            <a:avLst/>
          </a:prstGeom>
          <a:solidFill>
            <a:srgbClr val="3b812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419640" y="3284640"/>
            <a:ext cx="2520720" cy="1511280"/>
          </a:xfrm>
          <a:custGeom>
            <a:avLst/>
            <a:gdLst>
              <a:gd name="textAreaLeft" fmla="*/ 554400 w 2520720"/>
              <a:gd name="textAreaRight" fmla="*/ 1966320 w 2520720"/>
              <a:gd name="textAreaTop" fmla="*/ 332280 h 1511280"/>
              <a:gd name="textAreaBottom" fmla="*/ 1179000 h 1511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b812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77080" y="3284640"/>
            <a:ext cx="1582560" cy="1873080"/>
          </a:xfrm>
          <a:prstGeom prst="diamond">
            <a:avLst/>
          </a:prstGeom>
          <a:solidFill>
            <a:srgbClr val="3b812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7200" y="2420640"/>
            <a:ext cx="8229600" cy="37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                   2                           3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4                          5                            6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395280" y="47628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 м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 м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692360" y="1197000"/>
            <a:ext cx="6192720" cy="40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971640" y="260280"/>
            <a:ext cx="7272360" cy="6264360"/>
          </a:xfrm>
          <a:prstGeom prst="ellipse">
            <a:avLst/>
          </a:prstGeom>
          <a:solidFill>
            <a:srgbClr val="c3ebd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780000" y="260280"/>
            <a:ext cx="1728720" cy="165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580000" y="476280"/>
            <a:ext cx="2160720" cy="1368360"/>
          </a:xfrm>
          <a:prstGeom prst="rtTriangle">
            <a:avLst/>
          </a:pr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1547640" y="404640"/>
            <a:ext cx="2160720" cy="1368720"/>
          </a:xfrm>
          <a:prstGeom prst="rtTriangle">
            <a:avLst/>
          </a:pr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427640" y="2852640"/>
            <a:ext cx="1728720" cy="165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059280" y="1844640"/>
            <a:ext cx="1728720" cy="1655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708360" y="4437000"/>
            <a:ext cx="1728720" cy="165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5508720" y="4652280"/>
            <a:ext cx="2160360" cy="1368360"/>
          </a:xfrm>
          <a:prstGeom prst="rtTriangle">
            <a:avLst/>
          </a:pr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 flipV="1">
            <a:off x="1476360" y="4581360"/>
            <a:ext cx="2160720" cy="1368720"/>
          </a:xfrm>
          <a:prstGeom prst="rtTriangle">
            <a:avLst/>
          </a:pr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932360" y="1916280"/>
            <a:ext cx="2808360" cy="86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258920" y="3573360"/>
            <a:ext cx="2808360" cy="865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372360" y="3141720"/>
            <a:ext cx="1657080" cy="115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332000" y="2060640"/>
            <a:ext cx="1657440" cy="1079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140360" y="692280"/>
            <a:ext cx="122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13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435640" y="2060640"/>
            <a:ext cx="208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13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 3 +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476360" y="3716280"/>
            <a:ext cx="201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20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 4 + 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403280" y="2349360"/>
            <a:ext cx="144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31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2-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443640" y="3429000"/>
            <a:ext cx="144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10-6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203640" y="2421000"/>
            <a:ext cx="144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20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572000" y="3429000"/>
            <a:ext cx="144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31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851280" y="5013360"/>
            <a:ext cx="144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24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979640" y="1268280"/>
            <a:ext cx="173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Arial"/>
              </a:rPr>
              <a:t>2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·</a:t>
            </a:r>
            <a:r>
              <a:rPr b="1" lang="uk-UA" sz="2800" spc="-1" strike="noStrike">
                <a:solidFill>
                  <a:srgbClr val="ffffff"/>
                </a:solidFill>
                <a:latin typeface="Arial"/>
                <a:ea typeface="Arial"/>
              </a:rPr>
              <a:t>2+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·</a:t>
            </a:r>
            <a:r>
              <a:rPr b="1" lang="uk-UA" sz="2800" spc="-1" strike="noStrike">
                <a:solidFill>
                  <a:srgbClr val="ffffff"/>
                </a:solidFill>
                <a:latin typeface="Arial"/>
                <a:ea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651640" y="1268280"/>
            <a:ext cx="173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Arial"/>
                <a:ea typeface="Arial"/>
              </a:rPr>
              <a:t>1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·</a:t>
            </a:r>
            <a:r>
              <a:rPr b="1" lang="uk-UA" sz="2800" spc="-1" strike="noStrike">
                <a:solidFill>
                  <a:srgbClr val="ffffff"/>
                </a:solidFill>
                <a:latin typeface="Arial"/>
                <a:ea typeface="Arial"/>
              </a:rPr>
              <a:t>3-6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·</a:t>
            </a:r>
            <a:r>
              <a:rPr b="1" lang="uk-UA" sz="28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08000" y="4581360"/>
            <a:ext cx="173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Arial"/>
              </a:rPr>
              <a:t>33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·</a:t>
            </a:r>
            <a:r>
              <a:rPr b="1" lang="uk-UA" sz="2800" spc="-1" strike="noStrike">
                <a:solidFill>
                  <a:srgbClr val="ffffff"/>
                </a:solidFill>
                <a:latin typeface="Arial"/>
                <a:ea typeface="Arial"/>
              </a:rPr>
              <a:t>2-5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·</a:t>
            </a:r>
            <a:r>
              <a:rPr b="1" lang="uk-UA" sz="2800" spc="-1" strike="noStrike">
                <a:solidFill>
                  <a:srgbClr val="ffffff"/>
                </a:solidFill>
                <a:latin typeface="Arial"/>
                <a:ea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508720" y="4653000"/>
            <a:ext cx="173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Arial"/>
              </a:rPr>
              <a:t>15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·</a:t>
            </a:r>
            <a:r>
              <a:rPr b="1" lang="uk-UA" sz="2800" spc="-1" strike="noStrike">
                <a:solidFill>
                  <a:srgbClr val="ffffff"/>
                </a:solidFill>
                <a:latin typeface="Arial"/>
                <a:ea typeface="Arial"/>
              </a:rPr>
              <a:t>4+3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·</a:t>
            </a:r>
            <a:r>
              <a:rPr b="1" lang="uk-UA" sz="2800" spc="-1" strike="noStrike">
                <a:solidFill>
                  <a:srgbClr val="ffffff"/>
                </a:solidFill>
                <a:latin typeface="Arial"/>
                <a:ea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Фініш – кінцевий пункт дистанції в спортивних змаганнях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900000" y="1557360"/>
            <a:ext cx="701856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56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00"/>
                </a:solidFill>
                <a:latin typeface="Arial"/>
              </a:rPr>
              <a:t>Для мене сьогодні цікавим (важливим) було…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00"/>
                </a:solidFill>
                <a:latin typeface="Arial"/>
              </a:rPr>
              <a:t>На уроці я дізнався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0" dur="20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5" dur="20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68360" y="83664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003300"/>
                </a:solidFill>
                <a:latin typeface="Arial"/>
              </a:rPr>
              <a:t>и, с, и, 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003300"/>
                </a:solidFill>
                <a:latin typeface="Arial"/>
              </a:rPr>
              <a:t>д, з, о, р, в</a:t>
            </a:r>
            <a:r>
              <a:rPr b="1" lang="en-US" sz="6000" spc="-1" strike="noStrike">
                <a:solidFill>
                  <a:srgbClr val="003300"/>
                </a:solidFill>
                <a:latin typeface="Arial"/>
              </a:rPr>
              <a:t>’</a:t>
            </a:r>
            <a:r>
              <a:rPr b="1" lang="uk-UA" sz="6000" spc="-1" strike="noStrike">
                <a:solidFill>
                  <a:srgbClr val="003300"/>
                </a:solidFill>
                <a:latin typeface="Arial"/>
              </a:rPr>
              <a:t>, о, 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003300"/>
                </a:solidFill>
                <a:latin typeface="Arial"/>
              </a:rPr>
              <a:t>п, у, с, і, і, х, в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000" y="103320"/>
            <a:ext cx="867564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3300"/>
                </a:solidFill>
                <a:latin typeface="Garamond"/>
              </a:rPr>
              <a:t>Марафон – це змагання з бігу, яке характеризується великою протяжністю.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76360" y="2637000"/>
            <a:ext cx="3745080" cy="36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600" spc="-1" strike="noStrike">
                <a:solidFill>
                  <a:srgbClr val="003300"/>
                </a:solidFill>
                <a:latin typeface="Arial"/>
              </a:rPr>
              <a:t>За легендою, назва змагання пов</a:t>
            </a:r>
            <a:r>
              <a:rPr b="0" i="1" lang="en-US" sz="2600" spc="-1" strike="noStrike">
                <a:solidFill>
                  <a:srgbClr val="003300"/>
                </a:solidFill>
                <a:latin typeface="Arial"/>
              </a:rPr>
              <a:t>’</a:t>
            </a:r>
            <a:r>
              <a:rPr b="0" i="1" lang="uk-UA" sz="2600" spc="-1" strike="noStrike">
                <a:solidFill>
                  <a:srgbClr val="003300"/>
                </a:solidFill>
                <a:latin typeface="Arial"/>
              </a:rPr>
              <a:t>язана з подвигом грецького воїна, який без відпочинку пробіг від місця Марафонської битви до Афін і сповістив про перемогу греків над персам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539640" y="2492280"/>
            <a:ext cx="4464000" cy="412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" dur="2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867564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3300"/>
                </a:solidFill>
                <a:latin typeface="Garamond"/>
              </a:rPr>
              <a:t>Естафета – змагання, при якому один учасник змінюється іншим і передає якийсь умовний предмет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2268360" y="2205000"/>
            <a:ext cx="4764240" cy="38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300" spc="-1" strike="noStrike">
                <a:solidFill>
                  <a:srgbClr val="006633"/>
                </a:solidFill>
                <a:latin typeface="Garamond"/>
              </a:rPr>
              <a:t>Шахи – гра на спеціальній дошці, що має назву “шахівниця” і поділена на 64 світлі і темні клітинки. </a:t>
            </a:r>
            <a:endParaRPr b="0" lang="en-US" sz="33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2204640"/>
            <a:ext cx="2386080" cy="39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3300"/>
                </a:solidFill>
                <a:latin typeface="Arial"/>
              </a:rPr>
              <a:t>Шахи сприяють розвитку уваги, вміння долати труднощі, логічно мислит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132000" y="1844640"/>
            <a:ext cx="5693040" cy="42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539280" y="475920"/>
            <a:ext cx="3900600" cy="558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6000" spc="-1" strike="noStrike">
                <a:solidFill>
                  <a:srgbClr val="003300"/>
                </a:solidFill>
                <a:latin typeface="Arial"/>
              </a:rPr>
              <a:t>24 </a:t>
            </a:r>
            <a:r>
              <a:rPr b="0" lang="en-US" sz="6000" spc="-1" strike="noStrike">
                <a:solidFill>
                  <a:srgbClr val="003300"/>
                </a:solidFill>
                <a:latin typeface="Arial"/>
                <a:ea typeface="Arial"/>
              </a:rPr>
              <a:t>·</a:t>
            </a:r>
            <a:r>
              <a:rPr b="0" lang="uk-UA" sz="6000" spc="-1" strike="noStrike">
                <a:solidFill>
                  <a:srgbClr val="003300"/>
                </a:solidFill>
                <a:latin typeface="Arial"/>
                <a:ea typeface="Arial"/>
              </a:rPr>
              <a:t> 3 =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6000" spc="-1" strike="noStrike">
                <a:solidFill>
                  <a:srgbClr val="003300"/>
                </a:solidFill>
                <a:latin typeface="Arial"/>
                <a:ea typeface="Arial"/>
              </a:rPr>
              <a:t>20</a:t>
            </a:r>
            <a:r>
              <a:rPr b="0" lang="uk-UA" sz="60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003300"/>
                </a:solidFill>
                <a:latin typeface="Arial"/>
                <a:ea typeface="Arial"/>
              </a:rPr>
              <a:t>·</a:t>
            </a:r>
            <a:r>
              <a:rPr b="0" lang="uk-UA" sz="6000" spc="-1" strike="noStrike">
                <a:solidFill>
                  <a:srgbClr val="003300"/>
                </a:solidFill>
                <a:latin typeface="Arial"/>
                <a:ea typeface="Arial"/>
              </a:rPr>
              <a:t> 3 =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6000" spc="-1" strike="noStrike">
                <a:solidFill>
                  <a:srgbClr val="003300"/>
                </a:solidFill>
                <a:latin typeface="Arial"/>
                <a:ea typeface="Arial"/>
              </a:rPr>
              <a:t>4</a:t>
            </a:r>
            <a:r>
              <a:rPr b="0" lang="uk-UA" sz="60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003300"/>
                </a:solidFill>
                <a:latin typeface="Arial"/>
                <a:ea typeface="Arial"/>
              </a:rPr>
              <a:t>·</a:t>
            </a:r>
            <a:r>
              <a:rPr b="0" lang="uk-UA" sz="6000" spc="-1" strike="noStrike">
                <a:solidFill>
                  <a:srgbClr val="003300"/>
                </a:solidFill>
                <a:latin typeface="Arial"/>
                <a:ea typeface="Arial"/>
              </a:rPr>
              <a:t> 3 =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6000" spc="-1" strike="noStrike">
                <a:solidFill>
                  <a:srgbClr val="003300"/>
                </a:solidFill>
                <a:latin typeface="Arial"/>
                <a:ea typeface="Arial"/>
              </a:rPr>
              <a:t>60 + 12 =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003640" y="404640"/>
            <a:ext cx="3683160" cy="55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6000" spc="-1" strike="noStrike">
                <a:solidFill>
                  <a:srgbClr val="003300"/>
                </a:solidFill>
                <a:latin typeface="Arial"/>
                <a:ea typeface="Arial"/>
              </a:rPr>
              <a:t>7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6000" spc="-1" strike="noStrike">
                <a:solidFill>
                  <a:srgbClr val="003300"/>
                </a:solidFill>
                <a:latin typeface="Arial"/>
                <a:ea typeface="Arial"/>
              </a:rPr>
              <a:t>6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6000" spc="-1" strike="noStrike">
                <a:solidFill>
                  <a:srgbClr val="003300"/>
                </a:solidFill>
                <a:latin typeface="Arial"/>
                <a:ea typeface="Arial"/>
              </a:rPr>
              <a:t>1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6000" spc="-1" strike="noStrike">
                <a:solidFill>
                  <a:srgbClr val="003300"/>
                </a:solidFill>
                <a:latin typeface="Arial"/>
                <a:ea typeface="Arial"/>
              </a:rPr>
              <a:t>7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Стрільба з лука – мистецтво та спорт, що полягає у вмінні стріляти з лука у ціль стрілами.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476360" y="2131920"/>
            <a:ext cx="5904000" cy="39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200" spc="-1" strike="noStrike">
                <a:solidFill>
                  <a:srgbClr val="006633"/>
                </a:solidFill>
                <a:latin typeface="Garamond"/>
              </a:rPr>
              <a:t>Фізкультхвилинка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79280" y="1268280"/>
            <a:ext cx="2808360" cy="210348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3059280" y="1268280"/>
            <a:ext cx="3097080" cy="21304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1042920" y="3429000"/>
            <a:ext cx="3598920" cy="23986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4716360" y="3429000"/>
            <a:ext cx="3529080" cy="23493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5"/>
          <a:stretch/>
        </p:blipFill>
        <p:spPr>
          <a:xfrm>
            <a:off x="6227640" y="1268280"/>
            <a:ext cx="275292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9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Гімнастика – сукупність вправ для фізичного розвитку організму.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619280" y="1628640"/>
            <a:ext cx="5864040" cy="439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8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8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8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8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68360" y="404640"/>
            <a:ext cx="8229600" cy="554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uk-UA" sz="3000" spc="-1" strike="noStrike">
                <a:solidFill>
                  <a:srgbClr val="000000"/>
                </a:solidFill>
                <a:latin typeface="Arial"/>
              </a:rPr>
              <a:t>36 кг         36 кг           36 кг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uk-UA" sz="3000" spc="-1" strike="noStrike">
                <a:solidFill>
                  <a:srgbClr val="000000"/>
                </a:solidFill>
                <a:latin typeface="Arial"/>
              </a:rPr>
              <a:t>35 кг                35 кг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39640" y="1557360"/>
            <a:ext cx="1952640" cy="19051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2484360" y="1557360"/>
            <a:ext cx="1952640" cy="19051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4427640" y="1557360"/>
            <a:ext cx="1952640" cy="19051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4"/>
          <a:stretch/>
        </p:blipFill>
        <p:spPr>
          <a:xfrm>
            <a:off x="2073240" y="4508640"/>
            <a:ext cx="1219320" cy="16650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5"/>
          <a:stretch/>
        </p:blipFill>
        <p:spPr>
          <a:xfrm>
            <a:off x="4616280" y="4508640"/>
            <a:ext cx="1219320" cy="1665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6516720" y="549360"/>
            <a:ext cx="647640" cy="5472000"/>
          </a:xfrm>
          <a:custGeom>
            <a:avLst/>
            <a:gdLst>
              <a:gd name="textAreaLeft" fmla="*/ 0 w 647640"/>
              <a:gd name="textAreaRight" fmla="*/ 234000 w 647640"/>
              <a:gd name="textAreaTop" fmla="*/ 142560 h 5472000"/>
              <a:gd name="textAreaBottom" fmla="*/ 5329440 h 547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507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451640" y="2637000"/>
            <a:ext cx="1295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990000"/>
                </a:solidFill>
                <a:latin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5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5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0T20:19:12Z</dcterms:created>
  <dc:creator>User</dc:creator>
  <dc:description/>
  <dc:language>en-US</dc:language>
  <cp:lastModifiedBy>User</cp:lastModifiedBy>
  <dcterms:modified xsi:type="dcterms:W3CDTF">2013-03-20T20:30:17Z</dcterms:modified>
  <cp:revision>24</cp:revision>
  <dc:subject/>
  <dc:title>Математичний марафон</dc:title>
</cp:coreProperties>
</file>