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5.jpeg" ContentType="image/jpeg"/>
  <Override PartName="/ppt/media/image14.gif" ContentType="image/gif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E1F0-5975-4815-A9CC-D45BF954DC8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C51F-89C0-49EC-AB8E-7B1982D4E96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A9AB-A43B-4D9F-8C5B-435115F6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936E-C927-413C-8AE0-3C0225CC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2A7C-E334-45B6-A8FA-95CAFEA53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7398-F363-4F7A-9F36-A6A70E71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DAB6-DA19-4D28-BC46-2289A08A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B1CB-3304-4E3A-BB25-747625C8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540B-B073-46E8-B15D-24C1FC6E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378C-2C82-45D6-8309-2033843B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3F17-1CB4-4515-8BEA-B8FB88DD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6B9D-7519-4011-BB9B-B4A4E174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5E96-9096-42DE-B816-9430B38E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B0CC-504F-4FD1-939C-F4B007F0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2037-9CFD-431B-A496-6C7C5C82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DCCD-2B55-4EFD-996D-E15118DD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11CE-A48D-4788-9473-A74AE984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DB24-643C-431A-90B8-655E149F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42A3-37B5-4EA3-846D-7A8A1965E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8BF7A-085A-4D1B-AE7A-CD0B3908A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04096-54B7-4BFE-B442-8E48F288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7D523-2DC9-493B-AEB8-776B1B8D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6C58F-36CE-499B-BF84-382753D2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014DA-B610-4074-86B7-77D0066C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5FD6-F124-48AA-BC0D-5DB96D5E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D5C3A-BDAA-4E36-8AE8-560711BD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BD630-2B48-4E63-A2B5-DFE12174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AF7C2-4534-4B89-B202-86F4964C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31435-4171-4FDF-90D2-FC5663F4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AFC37-5EDC-4BDD-8D57-9C796D4B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47369-312C-4E0F-BE04-6AB110158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1AC8C-4562-473A-8E8D-A0FA5879E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95A0D-36C3-43D2-9765-575BAF7B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D406C-FC74-4660-B73E-53CC9C28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A4604-CD1F-4E51-AF8C-448EC6B1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A8A4-A9AA-4A8A-AF06-1F49FF1E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CC5EE-46B0-403C-BDCA-568F5BA8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00D18-A914-4668-808A-E542E3A4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A8EF4-8A0C-4C98-9B0B-5B7C2B46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E20E1-B7B5-4E33-8E46-E0D58A74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83D74-DCB4-4F82-8572-A2F5E95E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2EB22-6D84-4ECF-A4EF-37B9BC71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E4E17-BB90-4346-A70B-89B296CA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324AD-1BC0-4028-98CE-7A5A407D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E97DD-6FF8-41E0-B64B-E7824B785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50758-7BBD-4683-8E3C-4B846CC2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59CA-FBC2-41AD-8087-6B662227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2A337-ED95-46BD-8379-2925340A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BFDF9-7C8B-4648-AB9B-BE74CCA5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C0E64-7D84-4CA0-8F11-B30C9CCF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DA213-B55C-43B0-AC3A-CD709FF6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BCAEB-FD01-4B5B-B6B9-527D599E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18AB2-47F9-44A8-B44A-F7D093AD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B2B2C-F972-43F4-919B-075A7460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53BE0-3E40-4DF4-AB3C-37560E8E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B07B0-1593-4E24-94A7-B716C73E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D01BD-6AE9-453B-933E-7F8338628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4D83-D397-4BEF-B763-811616E9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80E56-A6F1-425B-8993-6E11C368A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1462B-0323-444D-AA10-DC8F37EF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E82BA-FCEB-4D14-8305-E7F46108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6B25C-C6E7-4DCB-B66F-50ED7881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D4534-ED2C-42A8-B576-3E9B82D3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0A16C-4A30-4878-804A-BDA123A4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98140-4338-49AE-A856-4E2430F9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F60E0-7EA8-43C1-8C06-F1E350EF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07819-5974-4C3B-B380-50C9E64E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09F29-FCA5-44E9-B640-AE052616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294E-C334-4553-B9DB-571D3F9D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B2D75-741C-47F7-8421-D34F5BD3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275C6-07AD-4B30-B0D0-984FC1667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87DA5-6574-4C40-8C8E-037DAFA10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743DF-26AB-432C-ADE5-3C427CAB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16938-77DD-4505-8D7C-7D635FE1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F7BFD-9190-4B6D-AE68-53369486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C82CF-FB17-45FB-833F-2094A0C8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FEBBE-CF1B-4BF2-B220-7741E21E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02682-C2E3-42B9-BB91-5AD743EC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C3D8C-751D-4D0E-8048-5E3565B4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644E-C358-45E1-AD4B-E9B42CAB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82F49-4E68-4CE7-A9F2-AAC87BB3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99731-896B-43BB-A963-32AB0B9F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4A637-672D-49DB-9D8E-A0917EDD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816CC-35BB-4666-A0B1-5F8AB7B12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A1E5D-2C54-4DE9-94E1-1F94CB8C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EB03-BD09-4BEC-8B64-81B14056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екторна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" name="Кільце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ільце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" name="Прямокут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CA4A-343E-4158-8AF3-311EF9D2EE61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кут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екторна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" name="Кільце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ільце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3" name="Прямокут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Прямокут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5" name="Овал 3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3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8" name="Овал 4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4090-CB5B-4AFE-943F-782C45CE75C2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кутник 3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Прямокутник 4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Овал 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5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5" name="Овал 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E8F3-4F70-43A2-8D30-6E398BA76ECF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7884-67D4-43A4-9E0B-6900049C781E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кутник 1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Прямокутник 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16DF-A9A9-4617-9106-7CD31B361CE5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41E7-472B-49FB-9388-C24278791707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кутник 4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кутник 4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5" name="Блок-схема: процес 5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Блок-схема: процес 6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7E27-B3E0-4655-B3D1-009F10FE89D3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80a"/>
            </a:gs>
            <a:gs pos="100000">
              <a:srgbClr val="3096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63280" y="907560"/>
            <a:ext cx="6913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300" spc="-1" strike="noStrike">
                <a:solidFill>
                  <a:srgbClr val="572314"/>
                </a:solidFill>
                <a:latin typeface="Corbel"/>
              </a:rPr>
              <a:t>Узагальнення знань з теми “Металічні елементи та їхні сполуки”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3825360" y="5084280"/>
            <a:ext cx="5318280" cy="10810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Підготувала: Челов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ян Н.М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Викладач ВСП НАУ СК НАУ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375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70600" cy="649080"/>
          </a:xfrm>
          <a:prstGeom prst="rect">
            <a:avLst/>
          </a:prstGeom>
          <a:solidFill>
            <a:srgbClr val="e17b7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4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Завдання 2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763640" y="5157720"/>
          <a:ext cx="5688000" cy="1440000"/>
        </p:xfrm>
        <a:graphic>
          <a:graphicData uri="http://schemas.openxmlformats.org/drawingml/2006/table">
            <a:tbl>
              <a:tblPr/>
              <a:tblGrid>
                <a:gridCol w="1041480"/>
                <a:gridCol w="960480"/>
                <a:gridCol w="869760"/>
                <a:gridCol w="831960"/>
                <a:gridCol w="1001880"/>
                <a:gridCol w="982440"/>
              </a:tblGrid>
              <a:tr h="1440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</a:tbl>
          </a:graphicData>
        </a:graphic>
      </p:graphicFrame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15640" y="980640"/>
            <a:ext cx="7921800" cy="3745080"/>
          </a:xfrm>
          <a:prstGeom prst="rect">
            <a:avLst/>
          </a:prstGeom>
          <a:solidFill>
            <a:srgbClr val="d7ddeb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За температури, нижчої від 13</a:t>
            </a:r>
            <a:r>
              <a:rPr b="1" lang="en-US" sz="2800" spc="-1" strike="noStrike" baseline="40000">
                <a:solidFill>
                  <a:srgbClr val="000000"/>
                </a:solidFill>
                <a:latin typeface="Gill Sans MT"/>
              </a:rPr>
              <a:t>o</a:t>
            </a: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С, цей метал перетворюється на порошок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Цей метал та його оксид використовують в харчовій промисловості для покриття консервних банок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Електронна формула цього елемента має таке закінчення …4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1" lang="ru-RU" sz="2800" spc="-1" strike="noStrike" baseline="35000">
                <a:solidFill>
                  <a:srgbClr val="000000"/>
                </a:solidFill>
                <a:latin typeface="Corbel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1" lang="ru-RU" sz="2800" spc="-1" strike="noStrike" baseline="35000">
                <a:solidFill>
                  <a:srgbClr val="000000"/>
                </a:solidFill>
                <a:latin typeface="Corbe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1" lang="ru-RU" sz="2800" spc="-1" strike="noStrike" baseline="35000">
                <a:solidFill>
                  <a:srgbClr val="000000"/>
                </a:solidFill>
                <a:latin typeface="Corbe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1692360" y="5084640"/>
          <a:ext cx="5759280" cy="1584360"/>
        </p:xfrm>
        <a:graphic>
          <a:graphicData uri="http://schemas.openxmlformats.org/drawingml/2006/table">
            <a:tbl>
              <a:tblPr/>
              <a:tblGrid>
                <a:gridCol w="1079280"/>
                <a:gridCol w="1008360"/>
                <a:gridCol w="863280"/>
                <a:gridCol w="792360"/>
                <a:gridCol w="1008000"/>
                <a:gridCol w="1008000"/>
              </a:tblGrid>
              <a:tr h="158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С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т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а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н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у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м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70600" cy="64908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4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Завдання 3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979640" y="5157720"/>
          <a:ext cx="6913440" cy="1440000"/>
        </p:xfrm>
        <a:graphic>
          <a:graphicData uri="http://schemas.openxmlformats.org/drawingml/2006/table">
            <a:tbl>
              <a:tblPr/>
              <a:tblGrid>
                <a:gridCol w="865080"/>
                <a:gridCol w="862200"/>
                <a:gridCol w="865080"/>
                <a:gridCol w="865080"/>
                <a:gridCol w="863640"/>
                <a:gridCol w="865080"/>
                <a:gridCol w="862200"/>
                <a:gridCol w="86508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</a:tbl>
          </a:graphicData>
        </a:graphic>
      </p:graphicFrame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4000" y="907920"/>
            <a:ext cx="7848360" cy="4105440"/>
          </a:xfrm>
          <a:prstGeom prst="rect">
            <a:avLst/>
          </a:prstGeom>
          <a:solidFill>
            <a:srgbClr val="d0e4a6"/>
          </a:solidFill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rbel"/>
              </a:rPr>
              <a:t>Давньогрецький учений Арістотель назвав просту речовину, утворену цим елементом, «срібною водою»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66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66640" indent="-56664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rbel"/>
              </a:rPr>
              <a:t>Випари цієї речовини і її сполук - отруйні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66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66640" indent="-56664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rbel"/>
              </a:rPr>
              <a:t>Єдиний метал, який за кімнатної температури перебуває у рідкому стані. Назвіть елемен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979640" y="5157720"/>
          <a:ext cx="6910200" cy="1440000"/>
        </p:xfrm>
        <a:graphic>
          <a:graphicData uri="http://schemas.openxmlformats.org/drawingml/2006/table">
            <a:tbl>
              <a:tblPr/>
              <a:tblGrid>
                <a:gridCol w="865080"/>
                <a:gridCol w="862200"/>
                <a:gridCol w="865080"/>
                <a:gridCol w="863640"/>
                <a:gridCol w="865080"/>
                <a:gridCol w="862200"/>
                <a:gridCol w="861840"/>
                <a:gridCol w="86508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М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е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р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к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у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р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і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й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709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572314"/>
                </a:solidFill>
                <a:latin typeface="Corbel"/>
              </a:rPr>
              <a:t>Хіміки-”фальшивомонетники”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4" name="Menu41.avi" descr=""/>
          <p:cNvPicPr/>
          <p:nvPr/>
        </p:nvPicPr>
        <p:blipFill>
          <a:blip r:embed="rId1"/>
          <a:stretch/>
        </p:blipFill>
        <p:spPr>
          <a:xfrm>
            <a:off x="2746440" y="201924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293" nodeType="clickEffect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6" dur="1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70600" cy="64908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4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cc"/>
                </a:solidFill>
                <a:latin typeface="Arial"/>
              </a:rPr>
              <a:t>Завдання 4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2411280" y="5157720"/>
          <a:ext cx="4321440" cy="1440000"/>
        </p:xfrm>
        <a:graphic>
          <a:graphicData uri="http://schemas.openxmlformats.org/drawingml/2006/table">
            <a:tbl>
              <a:tblPr/>
              <a:tblGrid>
                <a:gridCol w="865440"/>
                <a:gridCol w="861840"/>
                <a:gridCol w="865080"/>
                <a:gridCol w="863640"/>
                <a:gridCol w="86544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55280" y="907560"/>
            <a:ext cx="8101080" cy="4033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rbel"/>
              </a:rPr>
              <a:t>З XIX ст. цей метал набув ролі світових грошей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lang="uk-UA" sz="3200" spc="-1" strike="noStrike">
                <a:solidFill>
                  <a:srgbClr val="000000"/>
                </a:solidFill>
                <a:latin typeface="Corbel"/>
              </a:rPr>
              <a:t>Метал, утворений цим елементом може розчинитися лише в «царській горілці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rbel"/>
              </a:rPr>
              <a:t>В ядрі атома цього елемента 79 протоні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2411280" y="5157720"/>
          <a:ext cx="4321440" cy="1440000"/>
        </p:xfrm>
        <a:graphic>
          <a:graphicData uri="http://schemas.openxmlformats.org/drawingml/2006/table">
            <a:tbl>
              <a:tblPr/>
              <a:tblGrid>
                <a:gridCol w="865440"/>
                <a:gridCol w="861840"/>
                <a:gridCol w="865080"/>
                <a:gridCol w="863640"/>
                <a:gridCol w="86544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А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у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р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у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м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70600" cy="649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4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Завдання 5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411280" y="4869000"/>
          <a:ext cx="5183280" cy="1439640"/>
        </p:xfrm>
        <a:graphic>
          <a:graphicData uri="http://schemas.openxmlformats.org/drawingml/2006/table">
            <a:tbl>
              <a:tblPr/>
              <a:tblGrid>
                <a:gridCol w="865440"/>
                <a:gridCol w="861840"/>
                <a:gridCol w="865080"/>
                <a:gridCol w="863640"/>
                <a:gridCol w="865440"/>
                <a:gridCol w="86184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</a:tbl>
          </a:graphicData>
        </a:graphic>
      </p:graphicFrame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71640" y="980640"/>
            <a:ext cx="7921440" cy="3529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 fontScale="90000"/>
          </a:bodyPr>
          <a:p>
            <a:pPr marL="479880" indent="-479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Цей легкий, сріблясто-білий метал уперше добув 1808 року Г.Деві. Він змішав зволожену </a:t>
            </a:r>
            <a:r>
              <a:rPr b="1" i="1" lang="uk-UA" sz="2400" spc="-1" strike="noStrike">
                <a:solidFill>
                  <a:srgbClr val="000000"/>
                </a:solidFill>
                <a:latin typeface="Corbel"/>
              </a:rPr>
              <a:t>магнезію</a:t>
            </a: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 з оксидом ртуті і отримав сплав металу з ртуттю.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9880" indent="-479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Цей метал здатний горіти. Ошурки легко займаються й горять сліпучим яскравим полум’ям. Тому його використовують в феєрверках.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9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9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3.    В електронній оболонці атома цього елемента є 12 електронів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2411280" y="4869000"/>
          <a:ext cx="5183280" cy="1439640"/>
        </p:xfrm>
        <a:graphic>
          <a:graphicData uri="http://schemas.openxmlformats.org/drawingml/2006/table">
            <a:tbl>
              <a:tblPr/>
              <a:tblGrid>
                <a:gridCol w="865440"/>
                <a:gridCol w="861840"/>
                <a:gridCol w="865080"/>
                <a:gridCol w="863640"/>
                <a:gridCol w="865440"/>
                <a:gridCol w="861840"/>
              </a:tblGrid>
              <a:tr h="143964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М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а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г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н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і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й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300" spc="-1" strike="noStrike">
                <a:solidFill>
                  <a:srgbClr val="572314"/>
                </a:solidFill>
                <a:latin typeface="Corbel"/>
              </a:rPr>
              <a:t>Крапля води - каталізатор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4" name="Menu34.avi" descr=""/>
          <p:cNvPicPr/>
          <p:nvPr/>
        </p:nvPicPr>
        <p:blipFill>
          <a:blip r:embed="rId1"/>
          <a:stretch/>
        </p:blipFill>
        <p:spPr>
          <a:xfrm>
            <a:off x="2746440" y="201924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357" nodeType="clickEffect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0" dur="1" fill="hold"/>
                                        <p:tgtEl>
                                          <p:spTgt spid="3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70600" cy="64908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4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cc"/>
                </a:solidFill>
                <a:latin typeface="Arial"/>
              </a:rPr>
              <a:t>Завдання 6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3132000" y="5157720"/>
          <a:ext cx="4464360" cy="1440000"/>
        </p:xfrm>
        <a:graphic>
          <a:graphicData uri="http://schemas.openxmlformats.org/drawingml/2006/table">
            <a:tbl>
              <a:tblPr/>
              <a:tblGrid>
                <a:gridCol w="893880"/>
                <a:gridCol w="890640"/>
                <a:gridCol w="895320"/>
                <a:gridCol w="892080"/>
                <a:gridCol w="892440"/>
              </a:tblGrid>
              <a:tr h="144000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15640" y="1052280"/>
            <a:ext cx="7921800" cy="3816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Гном на прізвисько Старий </a:t>
            </a:r>
            <a:r>
              <a:rPr b="1" i="1" lang="uk-UA" sz="2800" spc="-1" strike="noStrike">
                <a:solidFill>
                  <a:srgbClr val="000000"/>
                </a:solidFill>
                <a:latin typeface="Corbel"/>
              </a:rPr>
              <a:t>Нік</a:t>
            </a: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 любив вводити гірників в оману. За ім’ям цього гнома й назвали елемент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4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42160" indent="-542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Щоб запобігти корозії, цей метал наносять тонким шаром на інши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4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42160" indent="-542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Ядро цього елемента містить 28 позитивно заряджених елементарних частинок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42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132000" y="5157720"/>
          <a:ext cx="4464360" cy="1440000"/>
        </p:xfrm>
        <a:graphic>
          <a:graphicData uri="http://schemas.openxmlformats.org/drawingml/2006/table">
            <a:tbl>
              <a:tblPr/>
              <a:tblGrid>
                <a:gridCol w="893880"/>
                <a:gridCol w="890640"/>
                <a:gridCol w="895320"/>
                <a:gridCol w="892080"/>
                <a:gridCol w="892440"/>
              </a:tblGrid>
              <a:tr h="144000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Н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 </a:t>
                      </a:r>
                      <a:r>
                        <a:rPr b="0" lang="uk-UA" sz="8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і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к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о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л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70600" cy="6490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4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Завдання 7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411280" y="4869000"/>
          <a:ext cx="4321440" cy="1439640"/>
        </p:xfrm>
        <a:graphic>
          <a:graphicData uri="http://schemas.openxmlformats.org/drawingml/2006/table">
            <a:tbl>
              <a:tblPr/>
              <a:tblGrid>
                <a:gridCol w="865440"/>
                <a:gridCol w="861840"/>
                <a:gridCol w="865080"/>
                <a:gridCol w="863640"/>
                <a:gridCol w="86544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de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de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de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de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dec9"/>
                    </a:solidFill>
                  </a:tcPr>
                </a:tc>
              </a:tr>
            </a:tbl>
          </a:graphicData>
        </a:graphic>
      </p:graphicFrame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16000" y="836280"/>
            <a:ext cx="8028000" cy="38876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1. Болонський алхімік Касціароло підібрав у горах важкий камінь. Ним отримано речовину, що світилась у темряві червоним світлом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57560" indent="-4575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2. Шведські хіміки Карл Шеєле і Юхан Ган дослідили «болонський камінь» і встановили, що в ньому міститься особлива «важка земля», яку вони назвали «барит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57560" indent="-4575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3. Це лужноземельний метал з 6-го період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2411280" y="4869000"/>
          <a:ext cx="4321440" cy="1439640"/>
        </p:xfrm>
        <a:graphic>
          <a:graphicData uri="http://schemas.openxmlformats.org/drawingml/2006/table">
            <a:tbl>
              <a:tblPr/>
              <a:tblGrid>
                <a:gridCol w="865440"/>
                <a:gridCol w="861840"/>
                <a:gridCol w="865080"/>
                <a:gridCol w="863640"/>
                <a:gridCol w="865440"/>
              </a:tblGrid>
              <a:tr h="143964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Б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dec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а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dec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р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dec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r>
                        <a:rPr b="0" lang="uk-UA" sz="8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і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dec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й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dec9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70600" cy="649080"/>
          </a:xfrm>
          <a:prstGeom prst="rect">
            <a:avLst/>
          </a:prstGeom>
          <a:solidFill>
            <a:srgbClr val="a9d7e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4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cc"/>
                </a:solidFill>
                <a:latin typeface="Arial"/>
              </a:rPr>
              <a:t>Завдання 8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619280" y="5157720"/>
          <a:ext cx="6192720" cy="1440000"/>
        </p:xfrm>
        <a:graphic>
          <a:graphicData uri="http://schemas.openxmlformats.org/drawingml/2006/table">
            <a:tbl>
              <a:tblPr/>
              <a:tblGrid>
                <a:gridCol w="876240"/>
                <a:gridCol w="852480"/>
                <a:gridCol w="863640"/>
                <a:gridCol w="792000"/>
                <a:gridCol w="576360"/>
                <a:gridCol w="657360"/>
                <a:gridCol w="787320"/>
                <a:gridCol w="787320"/>
              </a:tblGrid>
              <a:tr h="144000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064720" cy="3816360"/>
          </a:xfrm>
          <a:prstGeom prst="rect">
            <a:avLst/>
          </a:prstGeom>
          <a:solidFill>
            <a:srgbClr val="d7ddeb"/>
          </a:solidFill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rbel"/>
              </a:rPr>
              <a:t>Це найпоширеніший метал на Землі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rbel"/>
              </a:rPr>
              <a:t>Він легко витягується в тонкий дріт, прокатується в фольг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rbel"/>
              </a:rPr>
              <a:t>Літаки на 2/3 складаються із сплавів цього металу, тому його називають крилатим метало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1619280" y="5157720"/>
          <a:ext cx="6192720" cy="1511280"/>
        </p:xfrm>
        <a:graphic>
          <a:graphicData uri="http://schemas.openxmlformats.org/drawingml/2006/table">
            <a:tbl>
              <a:tblPr/>
              <a:tblGrid>
                <a:gridCol w="952560"/>
                <a:gridCol w="793800"/>
                <a:gridCol w="933480"/>
                <a:gridCol w="776160"/>
                <a:gridCol w="533520"/>
                <a:gridCol w="688680"/>
                <a:gridCol w="757440"/>
                <a:gridCol w="757080"/>
              </a:tblGrid>
              <a:tr h="1511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ю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і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і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й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300" spc="-1" strike="noStrike">
                <a:solidFill>
                  <a:srgbClr val="572314"/>
                </a:solidFill>
                <a:latin typeface="Corbel"/>
              </a:rPr>
              <a:t>Амфотерність алюмінію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8" name="Menu35.avi" descr=""/>
          <p:cNvPicPr/>
          <p:nvPr/>
        </p:nvPicPr>
        <p:blipFill>
          <a:blip r:embed="rId1"/>
          <a:stretch/>
        </p:blipFill>
        <p:spPr>
          <a:xfrm>
            <a:off x="2746440" y="201924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450" nodeType="clickEffect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3" dur="1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5292720" y="4026960"/>
            <a:ext cx="3851280" cy="28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orbel"/>
              </a:rPr>
              <a:t>Форми роботи: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- усне опитування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- дидактична гра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-демонстрації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00000" y="115920"/>
            <a:ext cx="5400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orbel"/>
              </a:rPr>
              <a:t>Мета: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Узагальнити і систематизувати теоретичні знання теми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розширити знання учнів про метали, історію їх відкриття, значення для організму та  практичне застосування 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зацікавити вивченням предмет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70600" cy="64908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4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cc"/>
                </a:solidFill>
                <a:latin typeface="Arial"/>
              </a:rPr>
              <a:t>Завдання 9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2771640" y="5157720"/>
          <a:ext cx="6121440" cy="1440000"/>
        </p:xfrm>
        <a:graphic>
          <a:graphicData uri="http://schemas.openxmlformats.org/drawingml/2006/table">
            <a:tbl>
              <a:tblPr/>
              <a:tblGrid>
                <a:gridCol w="765360"/>
                <a:gridCol w="765000"/>
                <a:gridCol w="763560"/>
                <a:gridCol w="765360"/>
                <a:gridCol w="765000"/>
                <a:gridCol w="766800"/>
                <a:gridCol w="765360"/>
                <a:gridCol w="765000"/>
              </a:tblGrid>
              <a:tr h="144000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16000" y="980640"/>
            <a:ext cx="8028000" cy="4033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Цей метал алхіміки називали “металом Місяця”. Назвіть елемент, що утворює цей мета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Для загоювання ран воїни Олександра Македонського накладали пластини з цього метал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Електрони в атомі цього елемента розташовані на п’ятьох енергетичних рівнях. Це елемент І групи.</a:t>
            </a: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2771640" y="5157720"/>
          <a:ext cx="6121440" cy="1440000"/>
        </p:xfrm>
        <a:graphic>
          <a:graphicData uri="http://schemas.openxmlformats.org/drawingml/2006/table">
            <a:tbl>
              <a:tblPr/>
              <a:tblGrid>
                <a:gridCol w="766800"/>
                <a:gridCol w="765360"/>
                <a:gridCol w="765000"/>
                <a:gridCol w="763560"/>
                <a:gridCol w="765360"/>
                <a:gridCol w="765000"/>
                <a:gridCol w="765360"/>
                <a:gridCol w="765000"/>
              </a:tblGrid>
              <a:tr h="144000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А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р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г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е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н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т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у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м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70600" cy="649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4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Завдання 10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2411280" y="4869000"/>
          <a:ext cx="4321440" cy="1439640"/>
        </p:xfrm>
        <a:graphic>
          <a:graphicData uri="http://schemas.openxmlformats.org/drawingml/2006/table">
            <a:tbl>
              <a:tblPr/>
              <a:tblGrid>
                <a:gridCol w="720720"/>
                <a:gridCol w="719280"/>
                <a:gridCol w="720720"/>
                <a:gridCol w="719280"/>
                <a:gridCol w="720720"/>
                <a:gridCol w="72072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</a:tbl>
          </a:graphicData>
        </a:graphic>
      </p:graphicFrame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748720" cy="3816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1" lang="uk-UA" sz="3200" spc="-1" strike="noStrike">
                <a:solidFill>
                  <a:srgbClr val="000000"/>
                </a:solidFill>
                <a:latin typeface="Corbel"/>
              </a:rPr>
              <a:t>1807 року в Лондоні на засіданні Королівського товариства сер Гемфрі Деві повідомив, що відкрив новий елемен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uk-UA" sz="3200" spc="-1" strike="noStrike">
                <a:solidFill>
                  <a:srgbClr val="000000"/>
                </a:solidFill>
                <a:latin typeface="Corbel"/>
              </a:rPr>
              <a:t>Цей метал у природі не зустрічається. Деві вдалося виділити його із сполуки за     допомогою електричного струм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orbel"/>
              </a:rPr>
              <a:t>Навколо ядра атома цього елемента рухається 11 електроні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29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29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2411280" y="4869000"/>
          <a:ext cx="4321440" cy="1439640"/>
        </p:xfrm>
        <a:graphic>
          <a:graphicData uri="http://schemas.openxmlformats.org/drawingml/2006/table">
            <a:tbl>
              <a:tblPr/>
              <a:tblGrid>
                <a:gridCol w="720720"/>
                <a:gridCol w="719280"/>
                <a:gridCol w="720720"/>
                <a:gridCol w="719280"/>
                <a:gridCol w="720720"/>
                <a:gridCol w="72072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Н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а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т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р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і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й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300" spc="-1" strike="noStrike">
                <a:solidFill>
                  <a:srgbClr val="572314"/>
                </a:solidFill>
                <a:latin typeface="Corbel"/>
              </a:rPr>
              <a:t>“</a:t>
            </a:r>
            <a:r>
              <a:rPr b="1" lang="uk-UA" sz="4300" spc="-1" strike="noStrike">
                <a:solidFill>
                  <a:srgbClr val="572314"/>
                </a:solidFill>
                <a:latin typeface="Corbel"/>
              </a:rPr>
              <a:t>Шалений” натрі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8" name="Menu19.avi" descr=""/>
          <p:cNvPicPr/>
          <p:nvPr/>
        </p:nvPicPr>
        <p:blipFill>
          <a:blip r:embed="rId1"/>
          <a:stretch/>
        </p:blipFill>
        <p:spPr>
          <a:xfrm>
            <a:off x="2746440" y="201924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521" nodeType="clickEffect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4" dur="1" fill="hold"/>
                                        <p:tgtEl>
                                          <p:spTgt spid="3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70600" cy="649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4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Завдання 11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2411280" y="4869000"/>
          <a:ext cx="3456000" cy="1439640"/>
        </p:xfrm>
        <a:graphic>
          <a:graphicData uri="http://schemas.openxmlformats.org/drawingml/2006/table">
            <a:tbl>
              <a:tblPr/>
              <a:tblGrid>
                <a:gridCol w="865440"/>
                <a:gridCol w="861840"/>
                <a:gridCol w="865080"/>
                <a:gridCol w="86364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</a:tbl>
          </a:graphicData>
        </a:graphic>
      </p:graphicFrame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42560" y="1125000"/>
            <a:ext cx="7921800" cy="3527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Покриття з цього металу найкраще захищає чавун і сталь від корозії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З цього металу виготовляють корпуси сучасних батарейок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В ядрі атома цього елемента 30 протоні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2411280" y="4869000"/>
          <a:ext cx="3456000" cy="1439640"/>
        </p:xfrm>
        <a:graphic>
          <a:graphicData uri="http://schemas.openxmlformats.org/drawingml/2006/table">
            <a:tbl>
              <a:tblPr/>
              <a:tblGrid>
                <a:gridCol w="865440"/>
                <a:gridCol w="861840"/>
                <a:gridCol w="865080"/>
                <a:gridCol w="86364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Ц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и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н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к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300" spc="-1" strike="noStrike">
                <a:solidFill>
                  <a:srgbClr val="572314"/>
                </a:solidFill>
                <a:latin typeface="Corbel"/>
              </a:rPr>
              <a:t>Цинк і хлоридна кислот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4" name="Menu15.avi" descr=""/>
          <p:cNvPicPr/>
          <p:nvPr/>
        </p:nvPicPr>
        <p:blipFill>
          <a:blip r:embed="rId1"/>
          <a:stretch/>
        </p:blipFill>
        <p:spPr>
          <a:xfrm>
            <a:off x="2746440" y="201924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556" nodeType="clickEffect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9" dur="1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300" spc="-1" strike="noStrike">
                <a:solidFill>
                  <a:srgbClr val="2a6d7d"/>
                </a:solidFill>
                <a:latin typeface="Corbel"/>
              </a:rPr>
              <a:t>Рефлексі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6" name="Місце для вмісту 3" descr=""/>
          <p:cNvPicPr/>
          <p:nvPr/>
        </p:nvPicPr>
        <p:blipFill>
          <a:blip r:embed="rId1"/>
          <a:stretch/>
        </p:blipFill>
        <p:spPr>
          <a:xfrm>
            <a:off x="1285920" y="1444680"/>
            <a:ext cx="773568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300" spc="-1" strike="noStrike">
                <a:solidFill>
                  <a:srgbClr val="572314"/>
                </a:solidFill>
                <a:latin typeface="Corbel"/>
              </a:rPr>
              <a:t>Домашнє завданн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434960" y="1773000"/>
            <a:ext cx="385776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orbel"/>
              </a:rPr>
              <a:t>Повторити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orbel"/>
                <a:ea typeface="Vani"/>
              </a:rPr>
              <a:t>§ § 17-25 ,лекційний матеріал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orbel"/>
                <a:ea typeface="Vani"/>
              </a:rPr>
              <a:t>підготуватись до контрольної робот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9" name="Місце для вмісту 4" descr="8e2890cd002f77200d38046b44873c0c.gif"/>
          <p:cNvPicPr/>
          <p:nvPr/>
        </p:nvPicPr>
        <p:blipFill>
          <a:blip r:embed="rId1"/>
          <a:stretch/>
        </p:blipFill>
        <p:spPr>
          <a:xfrm>
            <a:off x="5337000" y="2276640"/>
            <a:ext cx="356904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0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4" dur="1000" fill="hold"/>
                                        <p:tgtEl>
                                          <p:spTgt spid="3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2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641600"/>
          </a:xfrm>
          <a:prstGeom prst="rect">
            <a:avLst/>
          </a:prstGeom>
          <a:noFill/>
          <a:ln w="9360">
            <a:solidFill>
              <a:srgbClr val="feb80a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900" spc="-1" strike="noStrike">
                <a:solidFill>
                  <a:srgbClr val="e17b7c"/>
                </a:solidFill>
                <a:latin typeface="Times New Roman"/>
              </a:rPr>
              <a:t>Вітання переможцям</a:t>
            </a:r>
            <a:r>
              <a:rPr b="1" lang="uk-UA" sz="5400" spc="-1" strike="noStrike">
                <a:solidFill>
                  <a:srgbClr val="e17b7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01" name="Місце для вмісту 3" descr="untitled.bmp"/>
          <p:cNvPicPr/>
          <p:nvPr/>
        </p:nvPicPr>
        <p:blipFill>
          <a:blip r:embed="rId1"/>
          <a:stretch/>
        </p:blipFill>
        <p:spPr>
          <a:xfrm>
            <a:off x="3708360" y="2565360"/>
            <a:ext cx="3032280" cy="3048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0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572314"/>
                </a:solidFill>
                <a:latin typeface="Corbel"/>
              </a:rPr>
              <a:t>Девіз уроку</a:t>
            </a:r>
            <a:r>
              <a:rPr b="1" lang="uk-UA" sz="4300" spc="-1" strike="noStrike">
                <a:solidFill>
                  <a:srgbClr val="572314"/>
                </a:solidFill>
                <a:latin typeface="Corbel"/>
              </a:rPr>
              <a:t>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115640" y="1989000"/>
            <a:ext cx="410364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uk-UA" sz="4400" spc="-1" strike="noStrike">
                <a:solidFill>
                  <a:srgbClr val="000000"/>
                </a:solidFill>
                <a:latin typeface="Calibri"/>
              </a:rPr>
              <a:t>Ключем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 до </a:t>
            </a:r>
            <a:r>
              <a:rPr b="1" i="1" lang="uk-UA" sz="4400" spc="-1" strike="noStrike">
                <a:solidFill>
                  <a:srgbClr val="000000"/>
                </a:solidFill>
                <a:latin typeface="Calibri"/>
              </a:rPr>
              <a:t>всякої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 науки </a:t>
            </a:r>
            <a:r>
              <a:rPr b="1" i="1" lang="uk-UA" sz="4400" spc="-1" strike="noStrike">
                <a:solidFill>
                  <a:srgbClr val="000000"/>
                </a:solidFill>
                <a:latin typeface="Calibri"/>
              </a:rPr>
              <a:t>є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 знак </a:t>
            </a:r>
            <a:r>
              <a:rPr b="1" i="1" lang="uk-UA" sz="4400" spc="-1" strike="noStrike">
                <a:solidFill>
                  <a:srgbClr val="000000"/>
                </a:solidFill>
                <a:latin typeface="Calibri"/>
              </a:rPr>
              <a:t>питання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uk-UA" sz="3600" spc="-1" strike="noStrike">
                <a:solidFill>
                  <a:srgbClr val="000000"/>
                </a:solidFill>
                <a:latin typeface="Calibri"/>
              </a:rPr>
              <a:t>Оноре де                Бальзак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Місце для вмісту 13" descr="77e79e7d4ec34c3f08d980c717863921.gif"/>
          <p:cNvPicPr/>
          <p:nvPr/>
        </p:nvPicPr>
        <p:blipFill>
          <a:blip r:embed="rId1"/>
          <a:stretch/>
        </p:blipFill>
        <p:spPr>
          <a:xfrm>
            <a:off x="4932360" y="2276640"/>
            <a:ext cx="4950000" cy="267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300" spc="-1" strike="noStrike">
                <a:solidFill>
                  <a:srgbClr val="572314"/>
                </a:solidFill>
                <a:latin typeface="Corbel"/>
              </a:rPr>
              <a:t>Подумай і відповідай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826920" y="1196640"/>
            <a:ext cx="84981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42880" indent="-4680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Де знаходяться елементи-метали в періодичній таблиці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42880" indent="-4680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В якій групі періодичної таблиці розміщені лише металічні елементи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42880" indent="-4680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Скільки протонів, електронів і нейтронів містить елемент Натрій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42880" indent="-4680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Скільки електронів містить атом металічного елемента на зовнішньому рівні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42880" indent="-4680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Як змінюються металічні властивості в періоді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42880" indent="-4680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В групі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42880" indent="-4680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Між якими частинками виникає металічний зв’язок 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42880" indent="-4680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42880" indent="-4680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826920" y="0"/>
            <a:ext cx="8569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891a7"/>
                </a:solidFill>
                <a:latin typeface="Corbel"/>
              </a:rPr>
              <a:t>8. </a:t>
            </a: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Які метали мають найвищу електропровідність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891a7"/>
                </a:solidFill>
                <a:latin typeface="Corbel"/>
              </a:rPr>
              <a:t>9. </a:t>
            </a: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Які метали здатні намагнічуватись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891a7"/>
                </a:solidFill>
                <a:latin typeface="Corbel"/>
              </a:rPr>
              <a:t>10. </a:t>
            </a: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Назвіть коштовні метал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Що таке корозія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Яку загальну назву мають елементи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групи головної підгрупи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Назвіть формулу їдкого натр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Чому в природі немає лужних металів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Йони яких металів обумовлюють твердість води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Назвіть формулу залізної ожарини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Чим відрізняється чавун від сталі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Яка галузь промисловості займається добуванням металів із руд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7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71640" y="115560"/>
            <a:ext cx="5727600" cy="647640"/>
          </a:xfrm>
          <a:prstGeom prst="rect">
            <a:avLst/>
          </a:prstGeom>
          <a:solidFill>
            <a:srgbClr val="d4ebf1"/>
          </a:solidFill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33cc"/>
                </a:solidFill>
                <a:latin typeface="Corbel"/>
              </a:rPr>
              <a:t>Правила гри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539280" y="980640"/>
            <a:ext cx="8425080" cy="4969080"/>
          </a:xfrm>
          <a:prstGeom prst="rect">
            <a:avLst/>
          </a:prstGeom>
          <a:solidFill>
            <a:srgbClr val="d4ebf1"/>
          </a:solidFill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У грі беруть участь дві команди по шість-сім учасників у кожні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Учасникам зачитується перший фрагмент тексту про певний хімічний елемент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Час на обговорення – 1 хвилин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играє команда,  яка першою відгадає вказаний елемент. Вона отримує 5 балі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Якщо в учасників немає правильної відповіді – їм зачитується другий фрагмент тексту про цей же хімічний елемент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415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1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14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899640" y="620640"/>
            <a:ext cx="7634520" cy="5184720"/>
          </a:xfrm>
          <a:prstGeom prst="rect">
            <a:avLst/>
          </a:prstGeom>
          <a:solidFill>
            <a:srgbClr val="d7ddeb"/>
          </a:solidFill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Правильна відповідь оцінюється 3 балам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Якщо учасники досі не знайшли правильної відповіді, то їм зачитують третій (останній) фрагмент тексту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За відгаданий хімічний елемент команда отримує 1 ба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Виграє команда, яка набрала більше балі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Роль ведучого виконує вчитель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33cc"/>
                </a:solidFill>
                <a:latin typeface="Corbel"/>
              </a:rPr>
              <a:t>Нехай щастить!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1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1000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70600" cy="649080"/>
          </a:xfrm>
          <a:prstGeom prst="rect">
            <a:avLst/>
          </a:prstGeom>
          <a:solidFill>
            <a:srgbClr val="d7dde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4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75a8d"/>
                </a:solidFill>
                <a:latin typeface="Arial"/>
              </a:rPr>
              <a:t>Завдання 1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2340000" y="4869000"/>
          <a:ext cx="4968720" cy="1439640"/>
        </p:xfrm>
        <a:graphic>
          <a:graphicData uri="http://schemas.openxmlformats.org/drawingml/2006/table">
            <a:tbl>
              <a:tblPr/>
              <a:tblGrid>
                <a:gridCol w="804960"/>
                <a:gridCol w="803160"/>
                <a:gridCol w="804960"/>
                <a:gridCol w="803160"/>
                <a:gridCol w="876240"/>
                <a:gridCol w="876240"/>
              </a:tblGrid>
              <a:tr h="143964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dec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dec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dec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dec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dec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dec9"/>
                    </a:solidFill>
                  </a:tcPr>
                </a:tc>
              </a:tr>
            </a:tbl>
          </a:graphicData>
        </a:graphic>
      </p:graphicFrame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893080" cy="360036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txBody>
          <a:bodyPr anchor="t">
            <a:normAutofit fontScale="76000"/>
          </a:bodyPr>
          <a:p>
            <a:pPr marL="272520" indent="-2725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Великий період в історії людства названий на честь простої речовини. Це був перехідний період від кам’яного віку до бронзового, коли з’явилися  інструменти з простої речовини цього елементу.</a:t>
            </a: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2520" indent="-2725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Ця речовина за електропровідністю – друга після срібла серед металів.</a:t>
            </a: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Назвіть елемент, що утворює цю речовину.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2520" indent="-2725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Це d-елемент з першої групи періодичної системи.</a:t>
            </a: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2195640" y="4869000"/>
          <a:ext cx="5182920" cy="1439640"/>
        </p:xfrm>
        <a:graphic>
          <a:graphicData uri="http://schemas.openxmlformats.org/drawingml/2006/table">
            <a:tbl>
              <a:tblPr/>
              <a:tblGrid>
                <a:gridCol w="865080"/>
                <a:gridCol w="861840"/>
                <a:gridCol w="865440"/>
                <a:gridCol w="863640"/>
                <a:gridCol w="865080"/>
                <a:gridCol w="86184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922223"/>
                          </a:solidFill>
                          <a:latin typeface="Comic Sans MS"/>
                        </a:rPr>
                        <a:t>К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922223"/>
                          </a:solidFill>
                          <a:latin typeface="Comic Sans MS"/>
                        </a:rPr>
                        <a:t>у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922223"/>
                          </a:solidFill>
                          <a:latin typeface="Comic Sans MS"/>
                        </a:rPr>
                        <a:t>п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922223"/>
                          </a:solidFill>
                          <a:latin typeface="Comic Sans MS"/>
                        </a:rPr>
                        <a:t>р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922223"/>
                          </a:solidFill>
                          <a:latin typeface="Comic Sans MS"/>
                        </a:rPr>
                        <a:t>у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922223"/>
                          </a:solidFill>
                          <a:latin typeface="Comic Sans MS"/>
                        </a:rPr>
                        <a:t>м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572314"/>
                </a:solidFill>
                <a:latin typeface="Corbel"/>
              </a:rPr>
              <a:t>Мідь + концентрована сульфатна кислот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4" name="Menu45.avi" descr=""/>
          <p:cNvPicPr/>
          <p:nvPr/>
        </p:nvPicPr>
        <p:blipFill>
          <a:blip r:embed="rId1"/>
          <a:stretch/>
        </p:blipFill>
        <p:spPr>
          <a:xfrm>
            <a:off x="2746440" y="201924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229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2" dur="1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12:57:23Z</dcterms:created>
  <dc:creator>Mama</dc:creator>
  <dc:description/>
  <dc:language>en-US</dc:language>
  <cp:lastModifiedBy>Admin</cp:lastModifiedBy>
  <dcterms:modified xsi:type="dcterms:W3CDTF">2016-04-23T05:23:54Z</dcterms:modified>
  <cp:revision>162</cp:revision>
  <dc:subject/>
  <dc:title>Брейн-рин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16000000000001024140</vt:lpwstr>
  </property>
</Properties>
</file>