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2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7C86-35DB-4146-AA7F-FFE9FA15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7700-6808-4E91-88BA-5409A7F1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1DD-EA27-4520-9267-85BCC321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AF2-415C-48C4-9ABA-8E546AFFC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2BC-7DC0-44CF-8772-B47170C2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A6A-C5E5-4074-9002-CC3045AB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C31-E974-4FB9-8E2E-F776E8C3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710-669F-4520-98A9-953865E5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2A7-C25F-432C-B4E1-A672F758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D33-E1FD-4FE1-8AAF-F266E2C5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C55-42E6-4EB0-8684-6120CE6F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E03-02AF-4E6C-A89B-302C8331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578E-39D3-4BCE-B7E0-FA3BA442F8E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fishki.net/46371-tainstvennaja-antarktida-36-foto.html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pn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image" Target="../media/image33.jpe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image" Target="../media/image36.jpeg"/><Relationship Id="rId19" Type="http://schemas.openxmlformats.org/officeDocument/2006/relationships/image" Target="../media/image37.jpeg"/><Relationship Id="rId20" Type="http://schemas.openxmlformats.org/officeDocument/2006/relationships/image" Target="../media/image38.jpeg"/><Relationship Id="rId21" Type="http://schemas.openxmlformats.org/officeDocument/2006/relationships/image" Target="../media/image39.png"/><Relationship Id="rId22" Type="http://schemas.openxmlformats.org/officeDocument/2006/relationships/image" Target="../media/image38.jpeg"/><Relationship Id="rId23" Type="http://schemas.openxmlformats.org/officeDocument/2006/relationships/image" Target="../media/image38.jpeg"/><Relationship Id="rId24" Type="http://schemas.openxmlformats.org/officeDocument/2006/relationships/image" Target="../media/image37.jpeg"/><Relationship Id="rId25" Type="http://schemas.openxmlformats.org/officeDocument/2006/relationships/image" Target="../media/image40.jpeg"/><Relationship Id="rId26" Type="http://schemas.openxmlformats.org/officeDocument/2006/relationships/image" Target="../media/image41.jpeg"/><Relationship Id="rId27" Type="http://schemas.openxmlformats.org/officeDocument/2006/relationships/image" Target="../media/image41.jpeg"/><Relationship Id="rId28" Type="http://schemas.openxmlformats.org/officeDocument/2006/relationships/image" Target="../media/image42.jpeg"/><Relationship Id="rId29" Type="http://schemas.openxmlformats.org/officeDocument/2006/relationships/image" Target="../media/image43.jpeg"/><Relationship Id="rId30" Type="http://schemas.openxmlformats.org/officeDocument/2006/relationships/image" Target="../media/image44.png"/><Relationship Id="rId31" Type="http://schemas.openxmlformats.org/officeDocument/2006/relationships/image" Target="../media/image45.jpeg"/><Relationship Id="rId32" Type="http://schemas.openxmlformats.org/officeDocument/2006/relationships/image" Target="../media/image46.jpeg"/><Relationship Id="rId33" Type="http://schemas.openxmlformats.org/officeDocument/2006/relationships/image" Target="../media/image47.jpeg"/><Relationship Id="rId34" Type="http://schemas.openxmlformats.org/officeDocument/2006/relationships/image" Target="../media/image47.jpeg"/><Relationship Id="rId35" Type="http://schemas.openxmlformats.org/officeDocument/2006/relationships/image" Target="../media/image37.jpeg"/><Relationship Id="rId36" Type="http://schemas.openxmlformats.org/officeDocument/2006/relationships/image" Target="../media/image42.jpeg"/><Relationship Id="rId37" Type="http://schemas.openxmlformats.org/officeDocument/2006/relationships/image" Target="../media/image48.jpeg"/><Relationship Id="rId38" Type="http://schemas.openxmlformats.org/officeDocument/2006/relationships/image" Target="../media/image38.jpeg"/><Relationship Id="rId39" Type="http://schemas.openxmlformats.org/officeDocument/2006/relationships/image" Target="../media/image46.jpeg"/><Relationship Id="rId40" Type="http://schemas.openxmlformats.org/officeDocument/2006/relationships/image" Target="../media/image37.jpeg"/><Relationship Id="rId41" Type="http://schemas.openxmlformats.org/officeDocument/2006/relationships/image" Target="../media/image38.jpeg"/><Relationship Id="rId42" Type="http://schemas.openxmlformats.org/officeDocument/2006/relationships/image" Target="../media/image41.jpeg"/><Relationship Id="rId43" Type="http://schemas.openxmlformats.org/officeDocument/2006/relationships/image" Target="../media/image49.jpeg"/><Relationship Id="rId44" Type="http://schemas.openxmlformats.org/officeDocument/2006/relationships/image" Target="../media/image50.jpeg"/><Relationship Id="rId45" Type="http://schemas.openxmlformats.org/officeDocument/2006/relationships/image" Target="../media/image38.jpeg"/><Relationship Id="rId46" Type="http://schemas.openxmlformats.org/officeDocument/2006/relationships/image" Target="../media/image51.jpeg"/><Relationship Id="rId4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fishki.net/46371-tainstvennaja-antarktida-36-foto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1680" y="357120"/>
          <a:ext cx="8191440" cy="6276960"/>
        </p:xfrm>
        <a:graphic>
          <a:graphicData uri="http://schemas.openxmlformats.org/drawingml/2006/table">
            <a:tbl>
              <a:tblPr/>
              <a:tblGrid>
                <a:gridCol w="411120"/>
                <a:gridCol w="2550960"/>
                <a:gridCol w="5229360"/>
              </a:tblGrid>
              <a:tr h="316080">
                <a:tc gridSpan="3">
                  <a:txBody>
                    <a:bodyPr lIns="39600" rIns="39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ртка опису цифрового ресурс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зва ресурсу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тарктида. Відкриття та дослідженн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нотація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комендується для використання під час вивчення розділу «Полярний материк», 7 клас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ип ресурсу(ів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зентаці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втор(и)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люта Валентина Афанасіївна, учитель географії Мар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івського навчально-виховного комплексу «Дошкільний навчальний заклад-загальноосвітня школа І-ІІІ ступенів» Лисянської районної ради Черкаської області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вчальна дисциплін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гальна середня освіта → </a:t>
                      </a: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і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ас, розділ, тем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клас, «Полярний материк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удиторі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ителі, учн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ік видання ресурс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ількість сторінок, слайдів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жерело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р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’</a:t>
                      </a: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нівський навчально-виховний комплекс «Дошкільний навчальний заклад-загальноосвітня школа І-ІІІ ступенів» Лисянської районної ради Черкаської області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дреса джерел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https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://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vasylko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files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wordpress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om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/2011/12/768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x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b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hill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_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oss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_1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jp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fishki.net/46371-tainstvennaja-antarktida-36-foto.htm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radumo pp.ua/uploads/post/2015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ва ресурсу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українсь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39600" rIns="3960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Calibri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лючові слов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0" rIns="39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нтарктида, дослідження, відкртт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9600" marR="39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560" y="404280"/>
            <a:ext cx="84596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Південний полюс Земл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outh Pole (англ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т о ч к а,  в  я к і й  в і с ь З е м л і   п е р е т и н а є   ї ї  п о в е р х н ю   в                       п і в д е н н і й п і в к у л і.  К о о р д и н а т 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9 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º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п д.  ш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 н а х о д и т ь с я   в  А н т а р к т и д і,  н а  П о л я р н о м у п л а т 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257800" cy="37461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5580000" y="2852640"/>
            <a:ext cx="34020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Знак, що вказує місце географічного</a:t>
            </a:r>
            <a:r>
              <a:rPr b="1" lang="uk-UA" sz="2400" spc="-1" strike="noStrike">
                <a:solidFill>
                  <a:srgbClr val="000000"/>
                </a:solidFill>
                <a:latin typeface="Arial Narrow"/>
              </a:rPr>
              <a:t> Південного полюс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Arial Narrow"/>
              </a:rPr>
              <a:t>Полярна станція</a:t>
            </a:r>
            <a:r>
              <a:rPr b="1" lang="uk-U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«Амундсен-Скот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1309680" y="573120"/>
            <a:ext cx="648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309680" y="573120"/>
            <a:ext cx="6480" cy="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134" descr="ANd9GcS_eIh58oQaK0xfBd1kOg6I4AVbH3tsglhSXVM3so6rGQxhbH8ocg"/>
          <p:cNvPicPr/>
          <p:nvPr/>
        </p:nvPicPr>
        <p:blipFill>
          <a:blip r:embed="rId1"/>
          <a:srcRect l="0" t="1100" r="4136" b="0"/>
          <a:stretch/>
        </p:blipFill>
        <p:spPr>
          <a:xfrm>
            <a:off x="701640" y="2182680"/>
            <a:ext cx="3249720" cy="4416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8" descr="ANd9GcTkT1cx88hkc7gboTTyNiRFWeCzeiYdc447Nudnej8oDQWWcsdA"/>
          <p:cNvPicPr/>
          <p:nvPr/>
        </p:nvPicPr>
        <p:blipFill>
          <a:blip r:embed="rId2"/>
          <a:stretch/>
        </p:blipFill>
        <p:spPr>
          <a:xfrm>
            <a:off x="5378400" y="2182680"/>
            <a:ext cx="3086280" cy="4422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9"/>
          <p:cNvSpPr/>
          <p:nvPr/>
        </p:nvSpPr>
        <p:spPr>
          <a:xfrm>
            <a:off x="395280" y="18864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Першовідкривачі   Південного полюс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40"/>
          <p:cNvSpPr/>
          <p:nvPr/>
        </p:nvSpPr>
        <p:spPr>
          <a:xfrm>
            <a:off x="5378400" y="1197000"/>
            <a:ext cx="279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обер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кот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41"/>
          <p:cNvSpPr/>
          <p:nvPr/>
        </p:nvSpPr>
        <p:spPr>
          <a:xfrm>
            <a:off x="1207080" y="1109160"/>
            <a:ext cx="231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уаль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Амундсе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6" descr="http://ukrmap.su/program2010/g6/rozdil1_files/image042.gif"/>
          <p:cNvPicPr/>
          <p:nvPr/>
        </p:nvPicPr>
        <p:blipFill>
          <a:blip r:embed="rId1"/>
          <a:stretch/>
        </p:blipFill>
        <p:spPr>
          <a:xfrm>
            <a:off x="857160" y="142920"/>
            <a:ext cx="6858000" cy="650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3640" y="620280"/>
            <a:ext cx="81342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Норвезька експедиція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Руаля  Амундсена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підкорила   Південний Полюс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4 грудня 1911 р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7" descr="ANd9GcQ4v0Exm7GBWqubnbiVmlLIiwcvvJ7tOUyXxUYxJgXNIwDJgAvq"/>
          <p:cNvPicPr/>
          <p:nvPr/>
        </p:nvPicPr>
        <p:blipFill>
          <a:blip r:embed="rId1"/>
          <a:stretch/>
        </p:blipFill>
        <p:spPr>
          <a:xfrm>
            <a:off x="179280" y="2565360"/>
            <a:ext cx="5473800" cy="3760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ANd9GcQccEDiA7HXm0LToA0EQ3f7btkCeM5eb0nlGQtTYqmi6xPaQzdTfw"/>
          <p:cNvPicPr/>
          <p:nvPr/>
        </p:nvPicPr>
        <p:blipFill>
          <a:blip r:embed="rId2"/>
          <a:stretch/>
        </p:blipFill>
        <p:spPr>
          <a:xfrm>
            <a:off x="5834160" y="2509920"/>
            <a:ext cx="3100320" cy="417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ANd9GcS_eIh58oQaK0xfBd1kOg6I4AVbH3tsglhSXVM3so6rGQxhbH8ocg"/>
          <p:cNvPicPr/>
          <p:nvPr/>
        </p:nvPicPr>
        <p:blipFill>
          <a:blip r:embed="rId1"/>
          <a:stretch/>
        </p:blipFill>
        <p:spPr>
          <a:xfrm>
            <a:off x="108000" y="115920"/>
            <a:ext cx="2351160" cy="3097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8920" y="764640"/>
            <a:ext cx="51894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Руаль Амундсен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        про  відкриття:</a:t>
            </a: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2781000"/>
            <a:ext cx="8516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2256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«Не можу сказати.., що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досягнув мети свого життя. Це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 Narrow"/>
              </a:rPr>
              <a:t>було б дуже явною та відвертою видумкою. Краще… я скажу прямо, що, по-моєму, ще ніколи ніхто із людей не стояв в точці, діаметрально протилежній меті його прагнень, в такому повному розумінні слова, як в цьому випадку. Район Північного полюсу — чого там! — сам Південний полюс манив мене з дитинства, і ось я на Південному полюсі. Воістину, все навиворіт!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l_fi" descr="22"/>
          <p:cNvPicPr/>
          <p:nvPr/>
        </p:nvPicPr>
        <p:blipFill>
          <a:blip r:embed="rId1"/>
          <a:stretch/>
        </p:blipFill>
        <p:spPr>
          <a:xfrm>
            <a:off x="1147680" y="1870200"/>
            <a:ext cx="6848640" cy="4802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23640" y="333000"/>
            <a:ext cx="84596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Експедиція офіцера Британських королівських ВМС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Роберта Скотта (на фото стоїть в центрі)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дійшла до самої південної точки Землі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18 січня 1912 року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12"/>
          <p:cNvSpPr/>
          <p:nvPr/>
        </p:nvSpPr>
        <p:spPr>
          <a:xfrm rot="3192600">
            <a:off x="3295800" y="2533680"/>
            <a:ext cx="25524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ANd9GcTkT1cx88hkc7gboTTyNiRFWeCzeiYdc447Nudnej8oDQWWcsdA"/>
          <p:cNvPicPr/>
          <p:nvPr/>
        </p:nvPicPr>
        <p:blipFill>
          <a:blip r:embed="rId1"/>
          <a:stretch/>
        </p:blipFill>
        <p:spPr>
          <a:xfrm>
            <a:off x="6553080" y="189000"/>
            <a:ext cx="2413080" cy="3456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96560" y="1052280"/>
            <a:ext cx="8947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 той день (</a:t>
            </a:r>
            <a:r>
              <a:rPr b="1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8 січня 1912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р.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берт Скотт  записав в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вій  щоденник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«Норвежці нас випередили — Амундсен опинився першим на полюсі! Страшне розчарування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Всі муки, все тягості — заради чого?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Я з жахом думаю про зворотній шлях...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24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50716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котта і інших поховали там де знайшли. А біля берегової бази на г.Обсервейшн, що на о. Росса поклали дерев’яний хрест з вирізьбленими іменами та словами з поеми Теннісона “Уліс”: “Боротися і шукати, знайти і не здаватися”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Рисунок 4" descr="https://vasylko.files.wordpress.com/2011/12/768px-ob_hill_cross_1.jpg?w=634&amp;h=494"/>
          <p:cNvPicPr/>
          <p:nvPr/>
        </p:nvPicPr>
        <p:blipFill>
          <a:blip r:embed="rId1"/>
          <a:srcRect l="0" t="1980" r="0" b="1980"/>
          <a:stretch/>
        </p:blipFill>
        <p:spPr>
          <a:xfrm>
            <a:off x="357120" y="285840"/>
            <a:ext cx="7858080" cy="4471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2600" y="499680"/>
            <a:ext cx="55213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Documents and Settings\Admin\Рабочий стол\image046.gif"/>
          <p:cNvPicPr/>
          <p:nvPr/>
        </p:nvPicPr>
        <p:blipFill>
          <a:blip r:embed="rId1"/>
          <a:stretch/>
        </p:blipFill>
        <p:spPr>
          <a:xfrm>
            <a:off x="1928880" y="0"/>
            <a:ext cx="7215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19288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Міжнародне </a:t>
            </a:r>
            <a:r>
              <a:rPr b="1" lang="uk-U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івробітництво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в Антарктиді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Picture 3" descr="Антарктида-без станций1"/>
          <p:cNvPicPr/>
          <p:nvPr/>
        </p:nvPicPr>
        <p:blipFill>
          <a:blip r:embed="rId3"/>
          <a:stretch/>
        </p:blipFill>
        <p:spPr>
          <a:xfrm>
            <a:off x="1371600" y="0"/>
            <a:ext cx="653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0" y="289080"/>
            <a:ext cx="1447920" cy="6876000"/>
            <a:chOff x="0" y="289080"/>
            <a:chExt cx="1447920" cy="6876000"/>
          </a:xfrm>
        </p:grpSpPr>
        <p:sp>
          <p:nvSpPr>
            <p:cNvPr id="95" name="Text Box 6"/>
            <p:cNvSpPr/>
            <p:nvPr/>
          </p:nvSpPr>
          <p:spPr>
            <a:xfrm>
              <a:off x="0" y="304812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000000"/>
                  </a:solidFill>
                  <a:latin typeface="Tahoma"/>
                </a:rPr>
                <a:t>Німеччин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7"/>
            <p:cNvGrpSpPr/>
            <p:nvPr/>
          </p:nvGrpSpPr>
          <p:grpSpPr>
            <a:xfrm>
              <a:off x="0" y="289080"/>
              <a:ext cx="1447920" cy="6876000"/>
              <a:chOff x="0" y="289080"/>
              <a:chExt cx="1447920" cy="6876000"/>
            </a:xfrm>
          </p:grpSpPr>
          <p:sp>
            <p:nvSpPr>
              <p:cNvPr id="97" name="Text Box 8"/>
              <p:cNvSpPr/>
              <p:nvPr/>
            </p:nvSpPr>
            <p:spPr>
              <a:xfrm>
                <a:off x="0" y="5715000"/>
                <a:ext cx="144792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000000"/>
                    </a:solidFill>
                    <a:latin typeface="Tahoma"/>
                  </a:rPr>
                  <a:t>Норвегія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8" name="Group 9"/>
              <p:cNvGrpSpPr/>
              <p:nvPr/>
            </p:nvGrpSpPr>
            <p:grpSpPr>
              <a:xfrm>
                <a:off x="0" y="289080"/>
                <a:ext cx="1371600" cy="6876000"/>
                <a:chOff x="0" y="289080"/>
                <a:chExt cx="1371600" cy="6876000"/>
              </a:xfrm>
            </p:grpSpPr>
            <p:pic>
              <p:nvPicPr>
                <p:cNvPr id="99" name="Picture 10" descr="Флаг США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04920" y="1828800"/>
                  <a:ext cx="838080" cy="519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100" name="Picture 11" descr="Флаг России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04920" y="289080"/>
                  <a:ext cx="838080" cy="50940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grpSp>
              <p:nvGrpSpPr>
                <p:cNvPr id="101" name="Group 12"/>
                <p:cNvGrpSpPr/>
                <p:nvPr/>
              </p:nvGrpSpPr>
              <p:grpSpPr>
                <a:xfrm>
                  <a:off x="304920" y="1050840"/>
                  <a:ext cx="837360" cy="532440"/>
                  <a:chOff x="304920" y="1050840"/>
                  <a:chExt cx="837360" cy="532440"/>
                </a:xfrm>
              </p:grpSpPr>
              <p:sp>
                <p:nvSpPr>
                  <p:cNvPr id="102" name="Rectangle 13"/>
                  <p:cNvSpPr/>
                  <p:nvPr/>
                </p:nvSpPr>
                <p:spPr>
                  <a:xfrm>
                    <a:off x="304920" y="1050840"/>
                    <a:ext cx="837360" cy="266760"/>
                  </a:xfrm>
                  <a:prstGeom prst="rect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Rectangle 14"/>
                  <p:cNvSpPr/>
                  <p:nvPr/>
                </p:nvSpPr>
                <p:spPr>
                  <a:xfrm>
                    <a:off x="304920" y="1317600"/>
                    <a:ext cx="837360" cy="26568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04" name="Text Box 15"/>
                <p:cNvSpPr/>
                <p:nvPr/>
              </p:nvSpPr>
              <p:spPr>
                <a:xfrm>
                  <a:off x="0" y="1508040"/>
                  <a:ext cx="129528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8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uk-UA" sz="1900" spc="-1" strike="noStrike">
                      <a:solidFill>
                        <a:srgbClr val="000000"/>
                      </a:solidFill>
                      <a:latin typeface="Tahoma"/>
                    </a:rPr>
                    <a:t>  </a:t>
                  </a:r>
                  <a:r>
                    <a:rPr b="1" i="1" lang="uk-UA" sz="1900" spc="-1" strike="noStrike">
                      <a:solidFill>
                        <a:srgbClr val="000000"/>
                      </a:solidFill>
                      <a:latin typeface="Tahoma"/>
                    </a:rPr>
                    <a:t>Україна</a:t>
                  </a:r>
                  <a:endParaRPr b="0" lang="en-US" sz="19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5" name="Text Box 16"/>
                <p:cNvSpPr/>
                <p:nvPr/>
              </p:nvSpPr>
              <p:spPr>
                <a:xfrm>
                  <a:off x="228600" y="66996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uk-UA" sz="2000" spc="-1" strike="noStrike">
                      <a:solidFill>
                        <a:srgbClr val="000000"/>
                      </a:solidFill>
                      <a:latin typeface="Tahoma"/>
                    </a:rPr>
                    <a:t>Росія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6" name="Text Box 17"/>
                <p:cNvSpPr/>
                <p:nvPr/>
              </p:nvSpPr>
              <p:spPr>
                <a:xfrm>
                  <a:off x="228600" y="227016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uk-UA" sz="2000" spc="-1" strike="noStrike">
                      <a:solidFill>
                        <a:srgbClr val="000000"/>
                      </a:solidFill>
                      <a:latin typeface="Tahoma"/>
                    </a:rPr>
                    <a:t>США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pic>
              <p:nvPicPr>
                <p:cNvPr id="107" name="Picture 18" descr="fra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04920" y="3489480"/>
                  <a:ext cx="838080" cy="5619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108" name="Text Box 19"/>
                <p:cNvSpPr/>
                <p:nvPr/>
              </p:nvSpPr>
              <p:spPr>
                <a:xfrm>
                  <a:off x="0" y="394668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uk-UA" sz="2000" spc="-1" strike="noStrike">
                      <a:solidFill>
                        <a:srgbClr val="000000"/>
                      </a:solidFill>
                      <a:latin typeface="Tahoma"/>
                    </a:rPr>
                    <a:t>Франція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pic>
              <p:nvPicPr>
                <p:cNvPr id="109" name="Picture 20" descr="Флаг Германии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04920" y="2651040"/>
                  <a:ext cx="838080" cy="5191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110" name="Picture 21" descr="Флаг Польши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04920" y="6080040"/>
                  <a:ext cx="799920" cy="49860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sp>
              <p:nvSpPr>
                <p:cNvPr id="111" name="Text Box 22"/>
                <p:cNvSpPr/>
                <p:nvPr/>
              </p:nvSpPr>
              <p:spPr>
                <a:xfrm>
                  <a:off x="152280" y="6461280"/>
                  <a:ext cx="11430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uk-UA" sz="2000" spc="-1" strike="noStrike">
                      <a:solidFill>
                        <a:srgbClr val="000000"/>
                      </a:solidFill>
                      <a:latin typeface="Tahoma"/>
                    </a:rPr>
                    <a:t>Польща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pic>
              <p:nvPicPr>
                <p:cNvPr id="112" name="Picture 23" descr="Флаг Норвегии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04920" y="5241960"/>
                  <a:ext cx="825480" cy="50940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113" name="Picture 24" descr="Флаг Бельгии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04920" y="4403880"/>
                  <a:ext cx="838080" cy="51408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114" name="Text Box 25"/>
                <p:cNvSpPr/>
                <p:nvPr/>
              </p:nvSpPr>
              <p:spPr>
                <a:xfrm>
                  <a:off x="152280" y="4876920"/>
                  <a:ext cx="1143000" cy="32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5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uk-UA" sz="2000" spc="-1" strike="noStrike">
                      <a:solidFill>
                        <a:srgbClr val="000000"/>
                      </a:solidFill>
                      <a:latin typeface="Tahoma"/>
                    </a:rPr>
                    <a:t>Бельгія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15" name="Group 27"/>
          <p:cNvGrpSpPr/>
          <p:nvPr/>
        </p:nvGrpSpPr>
        <p:grpSpPr>
          <a:xfrm>
            <a:off x="7772400" y="0"/>
            <a:ext cx="1523880" cy="7408080"/>
            <a:chOff x="7772400" y="0"/>
            <a:chExt cx="1523880" cy="7408080"/>
          </a:xfrm>
        </p:grpSpPr>
        <p:grpSp>
          <p:nvGrpSpPr>
            <p:cNvPr id="116" name="Group 28"/>
            <p:cNvGrpSpPr/>
            <p:nvPr/>
          </p:nvGrpSpPr>
          <p:grpSpPr>
            <a:xfrm>
              <a:off x="7772400" y="762120"/>
              <a:ext cx="1523880" cy="6645960"/>
              <a:chOff x="7772400" y="762120"/>
              <a:chExt cx="1523880" cy="6645960"/>
            </a:xfrm>
          </p:grpSpPr>
          <p:pic>
            <p:nvPicPr>
              <p:cNvPr id="117" name="Picture 29" descr="Флаг Австралии"/>
              <p:cNvPicPr/>
              <p:nvPr/>
            </p:nvPicPr>
            <p:blipFill>
              <a:blip r:embed="rId11"/>
              <a:stretch/>
            </p:blipFill>
            <p:spPr>
              <a:xfrm>
                <a:off x="8153280" y="1676520"/>
                <a:ext cx="83844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Text Box 30"/>
              <p:cNvSpPr/>
              <p:nvPr/>
            </p:nvSpPr>
            <p:spPr>
              <a:xfrm>
                <a:off x="7848720" y="2057400"/>
                <a:ext cx="1447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000000"/>
                    </a:solidFill>
                    <a:latin typeface="Tahoma"/>
                  </a:rPr>
                  <a:t>Австралія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19" name="Picture 31" descr="Флаг Индии"/>
              <p:cNvPicPr/>
              <p:nvPr/>
            </p:nvPicPr>
            <p:blipFill>
              <a:blip r:embed="rId12"/>
              <a:stretch/>
            </p:blipFill>
            <p:spPr>
              <a:xfrm>
                <a:off x="8153280" y="4495680"/>
                <a:ext cx="838440" cy="561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20" name="Text Box 32"/>
              <p:cNvSpPr/>
              <p:nvPr/>
            </p:nvSpPr>
            <p:spPr>
              <a:xfrm>
                <a:off x="8001000" y="4952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000000"/>
                    </a:solidFill>
                    <a:latin typeface="Tahoma"/>
                  </a:rPr>
                  <a:t>Індія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21" name="Picture 33" descr="Флаг Аргентины"/>
              <p:cNvPicPr/>
              <p:nvPr/>
            </p:nvPicPr>
            <p:blipFill>
              <a:blip r:embed="rId13"/>
              <a:stretch/>
            </p:blipFill>
            <p:spPr>
              <a:xfrm>
                <a:off x="8153280" y="6095880"/>
                <a:ext cx="838440" cy="50976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122" name="Text Box 34"/>
              <p:cNvSpPr/>
              <p:nvPr/>
            </p:nvSpPr>
            <p:spPr>
              <a:xfrm>
                <a:off x="7772400" y="6491160"/>
                <a:ext cx="1371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uk-UA" sz="1800" spc="-1" strike="noStrike">
                    <a:solidFill>
                      <a:srgbClr val="000000"/>
                    </a:solidFill>
                    <a:latin typeface="Tahoma"/>
                  </a:rPr>
                  <a:t>Аргентина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23" name="Picture 35" descr="Флаг Великобритании"/>
              <p:cNvPicPr/>
              <p:nvPr/>
            </p:nvPicPr>
            <p:blipFill>
              <a:blip r:embed="rId14"/>
              <a:stretch/>
            </p:blipFill>
            <p:spPr>
              <a:xfrm>
                <a:off x="8153280" y="762120"/>
                <a:ext cx="838440" cy="5140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124" name="Text Box 36"/>
              <p:cNvSpPr/>
              <p:nvPr/>
            </p:nvSpPr>
            <p:spPr>
              <a:xfrm>
                <a:off x="7848720" y="1219320"/>
                <a:ext cx="1295280" cy="70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900" spc="-1" strike="noStrike">
                    <a:solidFill>
                      <a:srgbClr val="000000"/>
                    </a:solidFill>
                    <a:latin typeface="Tahoma"/>
                  </a:rPr>
                  <a:t>Велика  Британія</a:t>
                </a:r>
                <a:endParaRPr b="0" lang="en-US" sz="19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25" name="Picture 37" descr="Флаг Чили"/>
              <p:cNvPicPr/>
              <p:nvPr/>
            </p:nvPicPr>
            <p:blipFill>
              <a:blip r:embed="rId15"/>
              <a:stretch/>
            </p:blipFill>
            <p:spPr>
              <a:xfrm>
                <a:off x="8153280" y="5334120"/>
                <a:ext cx="838440" cy="5140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126" name="Text Box 38"/>
              <p:cNvSpPr/>
              <p:nvPr/>
            </p:nvSpPr>
            <p:spPr>
              <a:xfrm>
                <a:off x="8153280" y="571500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000000"/>
                    </a:solidFill>
                    <a:latin typeface="Tahoma"/>
                  </a:rPr>
                  <a:t>Чилі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27" name="Picture 39" descr="Флаг ЮАР"/>
              <p:cNvPicPr/>
              <p:nvPr/>
            </p:nvPicPr>
            <p:blipFill>
              <a:blip r:embed="rId16"/>
              <a:stretch/>
            </p:blipFill>
            <p:spPr>
              <a:xfrm>
                <a:off x="8153280" y="3429000"/>
                <a:ext cx="838440" cy="512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28" name="Text Box 40"/>
              <p:cNvSpPr/>
              <p:nvPr/>
            </p:nvSpPr>
            <p:spPr>
              <a:xfrm>
                <a:off x="7924680" y="3962520"/>
                <a:ext cx="12193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000000"/>
                    </a:solidFill>
                    <a:latin typeface="Tahoma"/>
                  </a:rPr>
                  <a:t>Південна Африка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pic>
            <p:nvPicPr>
              <p:cNvPr id="129" name="Picture 41" descr="Флаг Нов"/>
              <p:cNvPicPr/>
              <p:nvPr/>
            </p:nvPicPr>
            <p:blipFill>
              <a:blip r:embed="rId17"/>
              <a:stretch/>
            </p:blipFill>
            <p:spPr>
              <a:xfrm>
                <a:off x="8153280" y="2438280"/>
                <a:ext cx="838440" cy="5176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130" name="Text Box 42"/>
              <p:cNvSpPr/>
              <p:nvPr/>
            </p:nvSpPr>
            <p:spPr>
              <a:xfrm>
                <a:off x="7924680" y="2895480"/>
                <a:ext cx="12193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000000"/>
                    </a:solidFill>
                    <a:latin typeface="Tahoma"/>
                  </a:rPr>
                  <a:t>Нова Зеландія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31" name="Picture 43" descr="Флаг Японии"/>
            <p:cNvPicPr/>
            <p:nvPr/>
          </p:nvPicPr>
          <p:blipFill>
            <a:blip r:embed="rId18"/>
            <a:stretch/>
          </p:blipFill>
          <p:spPr>
            <a:xfrm>
              <a:off x="8153280" y="0"/>
              <a:ext cx="825480" cy="5079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132" name="Text Box 44"/>
            <p:cNvSpPr/>
            <p:nvPr/>
          </p:nvSpPr>
          <p:spPr>
            <a:xfrm>
              <a:off x="8077320" y="3808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>
                  <a:solidFill>
                    <a:srgbClr val="000000"/>
                  </a:solidFill>
                  <a:latin typeface="Tahoma"/>
                </a:rPr>
                <a:t>Японія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" name="Line 45"/>
          <p:cNvSpPr/>
          <p:nvPr/>
        </p:nvSpPr>
        <p:spPr>
          <a:xfrm>
            <a:off x="4419720" y="4724280"/>
            <a:ext cx="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4" name="Group 166"/>
          <p:cNvGrpSpPr/>
          <p:nvPr/>
        </p:nvGrpSpPr>
        <p:grpSpPr>
          <a:xfrm>
            <a:off x="1371600" y="0"/>
            <a:ext cx="6477120" cy="6692400"/>
            <a:chOff x="1371600" y="0"/>
            <a:chExt cx="6477120" cy="6692400"/>
          </a:xfrm>
        </p:grpSpPr>
        <p:sp>
          <p:nvSpPr>
            <p:cNvPr id="135" name="Text Box 4"/>
            <p:cNvSpPr/>
            <p:nvPr/>
          </p:nvSpPr>
          <p:spPr>
            <a:xfrm>
              <a:off x="2743200" y="533520"/>
              <a:ext cx="1676520" cy="7333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000" spc="-1" strike="noStrike" u="sng">
                  <a:solidFill>
                    <a:srgbClr val="ff0000"/>
                  </a:solidFill>
                  <a:uFillTx/>
                  <a:latin typeface="Tahoma"/>
                </a:rPr>
                <a:t>Академік Вернадський</a:t>
              </a:r>
              <a:r>
                <a:rPr b="1" i="1" lang="uk-UA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uk-UA" sz="2000" spc="-1" strike="noStrike">
                  <a:solidFill>
                    <a:srgbClr val="ff0000"/>
                  </a:solidFill>
                  <a:latin typeface="Tahoma"/>
                </a:rPr>
                <a:t>(Україна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6" name="Group 165"/>
            <p:cNvGrpSpPr/>
            <p:nvPr/>
          </p:nvGrpSpPr>
          <p:grpSpPr>
            <a:xfrm>
              <a:off x="1371600" y="0"/>
              <a:ext cx="6477120" cy="6692400"/>
              <a:chOff x="1371600" y="0"/>
              <a:chExt cx="6477120" cy="6692400"/>
            </a:xfrm>
          </p:grpSpPr>
          <p:grpSp>
            <p:nvGrpSpPr>
              <p:cNvPr id="137" name="Group 46"/>
              <p:cNvGrpSpPr/>
              <p:nvPr/>
            </p:nvGrpSpPr>
            <p:grpSpPr>
              <a:xfrm>
                <a:off x="1371600" y="0"/>
                <a:ext cx="6477120" cy="6692400"/>
                <a:chOff x="1371600" y="0"/>
                <a:chExt cx="6477120" cy="6692400"/>
              </a:xfrm>
            </p:grpSpPr>
            <p:sp>
              <p:nvSpPr>
                <p:cNvPr id="138" name="Text Box 47"/>
                <p:cNvSpPr/>
                <p:nvPr/>
              </p:nvSpPr>
              <p:spPr>
                <a:xfrm>
                  <a:off x="4648320" y="1447920"/>
                  <a:ext cx="990360" cy="52020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uk-UA" sz="2000" spc="-1" strike="noStrike">
                      <a:solidFill>
                        <a:srgbClr val="ffffff"/>
                      </a:solidFill>
                      <a:latin typeface="Tahoma"/>
                    </a:rPr>
                    <a:t>Санае </a:t>
                  </a:r>
                  <a:r>
                    <a:rPr b="0" i="1" lang="uk-UA" sz="2000" spc="-1" strike="noStrike">
                      <a:solidFill>
                        <a:srgbClr val="ffffff"/>
                      </a:solidFill>
                      <a:latin typeface="Tahoma"/>
                    </a:rPr>
                    <a:t>(ПА)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39" name="Text Box 48"/>
                <p:cNvSpPr/>
                <p:nvPr/>
              </p:nvSpPr>
              <p:spPr>
                <a:xfrm rot="2584200">
                  <a:off x="5180040" y="1675800"/>
                  <a:ext cx="112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uk-UA" sz="2000" spc="-1" strike="noStrike">
                      <a:solidFill>
                        <a:srgbClr val="ffffff"/>
                      </a:solidFill>
                      <a:latin typeface="Tahoma"/>
                    </a:rPr>
                    <a:t>Майтрі </a:t>
                  </a:r>
                  <a:r>
                    <a:rPr b="0" i="1" lang="uk-UA" sz="2000" spc="-1" strike="noStrike">
                      <a:solidFill>
                        <a:srgbClr val="ffffff"/>
                      </a:solidFill>
                      <a:latin typeface="Tahoma"/>
                    </a:rPr>
                    <a:t>(Індія)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40" name="Group 49"/>
                <p:cNvGrpSpPr/>
                <p:nvPr/>
              </p:nvGrpSpPr>
              <p:grpSpPr>
                <a:xfrm>
                  <a:off x="1371600" y="0"/>
                  <a:ext cx="6477120" cy="6692400"/>
                  <a:chOff x="1371600" y="0"/>
                  <a:chExt cx="6477120" cy="6692400"/>
                </a:xfrm>
              </p:grpSpPr>
              <p:sp>
                <p:nvSpPr>
                  <p:cNvPr id="141" name="Text Box 50"/>
                  <p:cNvSpPr/>
                  <p:nvPr/>
                </p:nvSpPr>
                <p:spPr>
                  <a:xfrm>
                    <a:off x="4876920" y="3048120"/>
                    <a:ext cx="198108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Амундсен-Скотт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США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2" name="Text Box 51"/>
                  <p:cNvSpPr/>
                  <p:nvPr/>
                </p:nvSpPr>
                <p:spPr>
                  <a:xfrm>
                    <a:off x="4648320" y="4267080"/>
                    <a:ext cx="11430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Восток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Росія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3" name="Text Box 52"/>
                  <p:cNvSpPr/>
                  <p:nvPr/>
                </p:nvSpPr>
                <p:spPr>
                  <a:xfrm>
                    <a:off x="5867280" y="3581280"/>
                    <a:ext cx="11430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Мирний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Росія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44" name="Group 53"/>
                  <p:cNvGrpSpPr/>
                  <p:nvPr/>
                </p:nvGrpSpPr>
                <p:grpSpPr>
                  <a:xfrm>
                    <a:off x="4495680" y="3124080"/>
                    <a:ext cx="381240" cy="381240"/>
                    <a:chOff x="4495680" y="3124080"/>
                    <a:chExt cx="381240" cy="381240"/>
                  </a:xfrm>
                </p:grpSpPr>
                <p:sp>
                  <p:nvSpPr>
                    <p:cNvPr id="145" name="Line 54"/>
                    <p:cNvSpPr/>
                    <p:nvPr/>
                  </p:nvSpPr>
                  <p:spPr>
                    <a:xfrm>
                      <a:off x="4495680" y="3124080"/>
                      <a:ext cx="0" cy="38124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146" name="Picture 55" descr="Флаг США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495680" y="3124080"/>
                      <a:ext cx="381240" cy="2350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grpSp>
                <p:nvGrpSpPr>
                  <p:cNvPr id="147" name="Group 56"/>
                  <p:cNvGrpSpPr/>
                  <p:nvPr/>
                </p:nvGrpSpPr>
                <p:grpSpPr>
                  <a:xfrm>
                    <a:off x="5257800" y="3886200"/>
                    <a:ext cx="380880" cy="380880"/>
                    <a:chOff x="5257800" y="3886200"/>
                    <a:chExt cx="380880" cy="380880"/>
                  </a:xfrm>
                </p:grpSpPr>
                <p:sp>
                  <p:nvSpPr>
                    <p:cNvPr id="148" name="Line 57"/>
                    <p:cNvSpPr/>
                    <p:nvPr/>
                  </p:nvSpPr>
                  <p:spPr>
                    <a:xfrm>
                      <a:off x="5257800" y="38862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149" name="Picture 58" descr="Флаг России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257800" y="3886200"/>
                      <a:ext cx="380880" cy="2318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grpSp>
                <p:nvGrpSpPr>
                  <p:cNvPr id="150" name="Group 59"/>
                  <p:cNvGrpSpPr/>
                  <p:nvPr/>
                </p:nvGrpSpPr>
                <p:grpSpPr>
                  <a:xfrm>
                    <a:off x="5334120" y="5791320"/>
                    <a:ext cx="380880" cy="380880"/>
                    <a:chOff x="5334120" y="5791320"/>
                    <a:chExt cx="380880" cy="380880"/>
                  </a:xfrm>
                </p:grpSpPr>
                <p:sp>
                  <p:nvSpPr>
                    <p:cNvPr id="151" name="Line 60"/>
                    <p:cNvSpPr/>
                    <p:nvPr/>
                  </p:nvSpPr>
                  <p:spPr>
                    <a:xfrm>
                      <a:off x="5334120" y="57913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152" name="Picture 61" descr="fra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334120" y="5791320"/>
                      <a:ext cx="380880" cy="228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grpSp>
                <p:nvGrpSpPr>
                  <p:cNvPr id="153" name="Group 62"/>
                  <p:cNvGrpSpPr/>
                  <p:nvPr/>
                </p:nvGrpSpPr>
                <p:grpSpPr>
                  <a:xfrm>
                    <a:off x="6934320" y="3429000"/>
                    <a:ext cx="380880" cy="380880"/>
                    <a:chOff x="6934320" y="3429000"/>
                    <a:chExt cx="380880" cy="380880"/>
                  </a:xfrm>
                </p:grpSpPr>
                <p:sp>
                  <p:nvSpPr>
                    <p:cNvPr id="154" name="Line 63"/>
                    <p:cNvSpPr/>
                    <p:nvPr/>
                  </p:nvSpPr>
                  <p:spPr>
                    <a:xfrm>
                      <a:off x="6934320" y="34290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155" name="Picture 64" descr="Флаг России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934320" y="3429000"/>
                      <a:ext cx="380880" cy="2318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sp>
                <p:nvSpPr>
                  <p:cNvPr id="156" name="Text Box 65"/>
                  <p:cNvSpPr/>
                  <p:nvPr/>
                </p:nvSpPr>
                <p:spPr>
                  <a:xfrm>
                    <a:off x="6248520" y="1523880"/>
                    <a:ext cx="16002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Молодіжна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Росія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57" name="Group 66"/>
                  <p:cNvGrpSpPr/>
                  <p:nvPr/>
                </p:nvGrpSpPr>
                <p:grpSpPr>
                  <a:xfrm>
                    <a:off x="6934320" y="2057400"/>
                    <a:ext cx="380880" cy="380880"/>
                    <a:chOff x="6934320" y="2057400"/>
                    <a:chExt cx="380880" cy="380880"/>
                  </a:xfrm>
                </p:grpSpPr>
                <p:sp>
                  <p:nvSpPr>
                    <p:cNvPr id="158" name="Line 67"/>
                    <p:cNvSpPr/>
                    <p:nvPr/>
                  </p:nvSpPr>
                  <p:spPr>
                    <a:xfrm>
                      <a:off x="6934320" y="20574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159" name="Picture 68" descr="Флаг России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6934320" y="2057400"/>
                      <a:ext cx="380880" cy="2318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grpSp>
                <p:nvGrpSpPr>
                  <p:cNvPr id="160" name="Group 69"/>
                  <p:cNvGrpSpPr/>
                  <p:nvPr/>
                </p:nvGrpSpPr>
                <p:grpSpPr>
                  <a:xfrm>
                    <a:off x="4267080" y="4572000"/>
                    <a:ext cx="381240" cy="380880"/>
                    <a:chOff x="4267080" y="4572000"/>
                    <a:chExt cx="381240" cy="380880"/>
                  </a:xfrm>
                </p:grpSpPr>
                <p:sp>
                  <p:nvSpPr>
                    <p:cNvPr id="161" name="Line 70"/>
                    <p:cNvSpPr/>
                    <p:nvPr/>
                  </p:nvSpPr>
                  <p:spPr>
                    <a:xfrm>
                      <a:off x="4267080" y="45720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162" name="Picture 71" descr="Флаг США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267080" y="4572000"/>
                      <a:ext cx="381240" cy="234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sp>
                <p:nvSpPr>
                  <p:cNvPr id="163" name="Text Box 72"/>
                  <p:cNvSpPr/>
                  <p:nvPr/>
                </p:nvSpPr>
                <p:spPr>
                  <a:xfrm>
                    <a:off x="1905120" y="4876920"/>
                    <a:ext cx="2438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Мак-Мердо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США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64" name="Group 73"/>
                  <p:cNvGrpSpPr/>
                  <p:nvPr/>
                </p:nvGrpSpPr>
                <p:grpSpPr>
                  <a:xfrm>
                    <a:off x="2209680" y="533520"/>
                    <a:ext cx="343080" cy="380880"/>
                    <a:chOff x="2209680" y="533520"/>
                    <a:chExt cx="343080" cy="380880"/>
                  </a:xfrm>
                </p:grpSpPr>
                <p:pic>
                  <p:nvPicPr>
                    <p:cNvPr id="165" name="Picture 74" descr="Флаг Польши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2209680" y="533520"/>
                      <a:ext cx="343080" cy="2142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166" name="Line 75"/>
                    <p:cNvSpPr/>
                    <p:nvPr/>
                  </p:nvSpPr>
                  <p:spPr>
                    <a:xfrm>
                      <a:off x="2209680" y="5335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67" name="Text Box 76"/>
                  <p:cNvSpPr/>
                  <p:nvPr/>
                </p:nvSpPr>
                <p:spPr>
                  <a:xfrm>
                    <a:off x="1371600" y="0"/>
                    <a:ext cx="16765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Арктовські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Польща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8" name="Text Box 77"/>
                  <p:cNvSpPr/>
                  <p:nvPr/>
                </p:nvSpPr>
                <p:spPr>
                  <a:xfrm>
                    <a:off x="3200400" y="1295280"/>
                    <a:ext cx="106668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Халлі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Брит.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69" name="Group 78"/>
                  <p:cNvGrpSpPr/>
                  <p:nvPr/>
                </p:nvGrpSpPr>
                <p:grpSpPr>
                  <a:xfrm>
                    <a:off x="6553080" y="5029200"/>
                    <a:ext cx="457200" cy="457200"/>
                    <a:chOff x="6553080" y="5029200"/>
                    <a:chExt cx="457200" cy="457200"/>
                  </a:xfrm>
                </p:grpSpPr>
                <p:pic>
                  <p:nvPicPr>
                    <p:cNvPr id="170" name="Picture 79" descr="Флаг Австралии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553080" y="5029200"/>
                      <a:ext cx="457200" cy="2793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171" name="Line 80"/>
                    <p:cNvSpPr/>
                    <p:nvPr/>
                  </p:nvSpPr>
                  <p:spPr>
                    <a:xfrm>
                      <a:off x="6553080" y="51055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72" name="Text Box 81"/>
                  <p:cNvSpPr/>
                  <p:nvPr/>
                </p:nvSpPr>
                <p:spPr>
                  <a:xfrm>
                    <a:off x="5105520" y="4952880"/>
                    <a:ext cx="1371600" cy="733320"/>
                  </a:xfrm>
                  <a:prstGeom prst="rect">
                    <a:avLst/>
                  </a:prstGeom>
                  <a:solidFill>
                    <a:srgbClr val="ff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Кейсі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Австрал.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73" name="Group 82"/>
                  <p:cNvGrpSpPr/>
                  <p:nvPr/>
                </p:nvGrpSpPr>
                <p:grpSpPr>
                  <a:xfrm>
                    <a:off x="7086600" y="2514600"/>
                    <a:ext cx="457200" cy="457200"/>
                    <a:chOff x="7086600" y="2514600"/>
                    <a:chExt cx="457200" cy="457200"/>
                  </a:xfrm>
                </p:grpSpPr>
                <p:pic>
                  <p:nvPicPr>
                    <p:cNvPr id="174" name="Picture 83" descr="Флаг Австралии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7086600" y="2514600"/>
                      <a:ext cx="457200" cy="2793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175" name="Line 84"/>
                    <p:cNvSpPr/>
                    <p:nvPr/>
                  </p:nvSpPr>
                  <p:spPr>
                    <a:xfrm>
                      <a:off x="7086600" y="25909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76" name="Text Box 85"/>
                  <p:cNvSpPr/>
                  <p:nvPr/>
                </p:nvSpPr>
                <p:spPr>
                  <a:xfrm>
                    <a:off x="5562720" y="2666880"/>
                    <a:ext cx="152388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Моусон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Австрал.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7" name="Text Box 86"/>
                  <p:cNvSpPr/>
                  <p:nvPr/>
                </p:nvSpPr>
                <p:spPr>
                  <a:xfrm>
                    <a:off x="2666880" y="2057400"/>
                    <a:ext cx="1600200" cy="946440"/>
                  </a:xfrm>
                  <a:prstGeom prst="rect">
                    <a:avLst/>
                  </a:prstGeom>
                  <a:solidFill>
                    <a:srgbClr val="ff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Бельґрано ІІ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Аргентина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78" name="Group 87"/>
                  <p:cNvGrpSpPr/>
                  <p:nvPr/>
                </p:nvGrpSpPr>
                <p:grpSpPr>
                  <a:xfrm>
                    <a:off x="3962520" y="1828800"/>
                    <a:ext cx="380880" cy="380880"/>
                    <a:chOff x="3962520" y="1828800"/>
                    <a:chExt cx="380880" cy="380880"/>
                  </a:xfrm>
                </p:grpSpPr>
                <p:pic>
                  <p:nvPicPr>
                    <p:cNvPr id="179" name="Picture 88" descr="Флаг Аргентины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962520" y="1828800"/>
                      <a:ext cx="380880" cy="2318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180" name="Line 89"/>
                    <p:cNvSpPr/>
                    <p:nvPr/>
                  </p:nvSpPr>
                  <p:spPr>
                    <a:xfrm>
                      <a:off x="3962520" y="18288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81" name="Text Box 90"/>
                  <p:cNvSpPr/>
                  <p:nvPr/>
                </p:nvSpPr>
                <p:spPr>
                  <a:xfrm>
                    <a:off x="5943600" y="1066680"/>
                    <a:ext cx="1905120" cy="701280"/>
                  </a:xfrm>
                  <a:prstGeom prst="rect">
                    <a:avLst/>
                  </a:prstGeom>
                  <a:solidFill>
                    <a:srgbClr val="cc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7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1900" spc="-1" strike="noStrike">
                        <a:solidFill>
                          <a:srgbClr val="ffffff"/>
                        </a:solidFill>
                        <a:latin typeface="Tahoma"/>
                      </a:rPr>
                      <a:t>  </a:t>
                    </a:r>
                    <a:r>
                      <a:rPr b="1" i="1" lang="uk-UA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Король Бодуен</a:t>
                    </a: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 </a:t>
                    </a:r>
                    <a:r>
                      <a:rPr b="0" i="1" lang="uk-UA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(Бельгія)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Text Box 91"/>
                  <p:cNvSpPr/>
                  <p:nvPr/>
                </p:nvSpPr>
                <p:spPr>
                  <a:xfrm>
                    <a:off x="4419720" y="457200"/>
                    <a:ext cx="1523880" cy="946440"/>
                  </a:xfrm>
                  <a:prstGeom prst="rect">
                    <a:avLst/>
                  </a:prstGeom>
                  <a:solidFill>
                    <a:srgbClr val="cc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Георг-фон-Ноймайєр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Нім.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83" name="Group 92"/>
                  <p:cNvGrpSpPr/>
                  <p:nvPr/>
                </p:nvGrpSpPr>
                <p:grpSpPr>
                  <a:xfrm>
                    <a:off x="4495680" y="990720"/>
                    <a:ext cx="380880" cy="380880"/>
                    <a:chOff x="4495680" y="990720"/>
                    <a:chExt cx="380880" cy="380880"/>
                  </a:xfrm>
                </p:grpSpPr>
                <p:pic>
                  <p:nvPicPr>
                    <p:cNvPr id="184" name="Picture 93" descr="Флаг Германии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4495680" y="990720"/>
                      <a:ext cx="380880" cy="234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185" name="Line 94"/>
                    <p:cNvSpPr/>
                    <p:nvPr/>
                  </p:nvSpPr>
                  <p:spPr>
                    <a:xfrm>
                      <a:off x="4495680" y="9907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86" name="Group 95"/>
                  <p:cNvGrpSpPr/>
                  <p:nvPr/>
                </p:nvGrpSpPr>
                <p:grpSpPr>
                  <a:xfrm>
                    <a:off x="5257800" y="1143000"/>
                    <a:ext cx="380880" cy="380880"/>
                    <a:chOff x="5257800" y="1143000"/>
                    <a:chExt cx="380880" cy="380880"/>
                  </a:xfrm>
                </p:grpSpPr>
                <p:pic>
                  <p:nvPicPr>
                    <p:cNvPr id="187" name="Picture 96" descr="Флаг Индии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5257800" y="1143000"/>
                      <a:ext cx="380880" cy="2556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188" name="Line 97"/>
                    <p:cNvSpPr/>
                    <p:nvPr/>
                  </p:nvSpPr>
                  <p:spPr>
                    <a:xfrm>
                      <a:off x="5257800" y="11430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89" name="Group 98"/>
                  <p:cNvGrpSpPr/>
                  <p:nvPr/>
                </p:nvGrpSpPr>
                <p:grpSpPr>
                  <a:xfrm>
                    <a:off x="6477120" y="1828800"/>
                    <a:ext cx="380880" cy="380880"/>
                    <a:chOff x="6477120" y="1828800"/>
                    <a:chExt cx="380880" cy="380880"/>
                  </a:xfrm>
                </p:grpSpPr>
                <p:pic>
                  <p:nvPicPr>
                    <p:cNvPr id="190" name="Picture 99" descr="Флаг Японии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6477120" y="1828800"/>
                      <a:ext cx="380880" cy="233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191" name="Line 100"/>
                    <p:cNvSpPr/>
                    <p:nvPr/>
                  </p:nvSpPr>
                  <p:spPr>
                    <a:xfrm>
                      <a:off x="6477120" y="18288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92" name="Text Box 101"/>
                  <p:cNvSpPr/>
                  <p:nvPr/>
                </p:nvSpPr>
                <p:spPr>
                  <a:xfrm rot="19941600">
                    <a:off x="5487120" y="2285640"/>
                    <a:ext cx="11239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Сьова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Японія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3" name="Text Box 102"/>
                  <p:cNvSpPr/>
                  <p:nvPr/>
                </p:nvSpPr>
                <p:spPr>
                  <a:xfrm>
                    <a:off x="1447920" y="1447920"/>
                    <a:ext cx="106668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Палмер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США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94" name="Group 103"/>
                  <p:cNvGrpSpPr/>
                  <p:nvPr/>
                </p:nvGrpSpPr>
                <p:grpSpPr>
                  <a:xfrm>
                    <a:off x="4267080" y="1447920"/>
                    <a:ext cx="380880" cy="380880"/>
                    <a:chOff x="4267080" y="1447920"/>
                    <a:chExt cx="380880" cy="380880"/>
                  </a:xfrm>
                </p:grpSpPr>
                <p:pic>
                  <p:nvPicPr>
                    <p:cNvPr id="195" name="Picture 104" descr="Флаг Великобритании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267080" y="1447920"/>
                      <a:ext cx="380880" cy="2350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196" name="Line 105"/>
                    <p:cNvSpPr/>
                    <p:nvPr/>
                  </p:nvSpPr>
                  <p:spPr>
                    <a:xfrm>
                      <a:off x="4267080" y="14479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97" name="Group 106"/>
                  <p:cNvGrpSpPr/>
                  <p:nvPr/>
                </p:nvGrpSpPr>
                <p:grpSpPr>
                  <a:xfrm>
                    <a:off x="1981080" y="914400"/>
                    <a:ext cx="380880" cy="380880"/>
                    <a:chOff x="1981080" y="914400"/>
                    <a:chExt cx="380880" cy="380880"/>
                  </a:xfrm>
                </p:grpSpPr>
                <p:pic>
                  <p:nvPicPr>
                    <p:cNvPr id="198" name="Picture 107" descr="Флаг Чили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1981080" y="914400"/>
                      <a:ext cx="380880" cy="233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199" name="Line 108"/>
                    <p:cNvSpPr/>
                    <p:nvPr/>
                  </p:nvSpPr>
                  <p:spPr>
                    <a:xfrm>
                      <a:off x="1981080" y="9144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00" name="Group 109"/>
                  <p:cNvGrpSpPr/>
                  <p:nvPr/>
                </p:nvGrpSpPr>
                <p:grpSpPr>
                  <a:xfrm>
                    <a:off x="2133720" y="1066680"/>
                    <a:ext cx="380880" cy="380880"/>
                    <a:chOff x="2133720" y="1066680"/>
                    <a:chExt cx="380880" cy="380880"/>
                  </a:xfrm>
                </p:grpSpPr>
                <p:pic>
                  <p:nvPicPr>
                    <p:cNvPr id="201" name="Picture 110" descr="Флаг Чили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2133720" y="1066680"/>
                      <a:ext cx="380880" cy="233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202" name="Line 111"/>
                    <p:cNvSpPr/>
                    <p:nvPr/>
                  </p:nvSpPr>
                  <p:spPr>
                    <a:xfrm>
                      <a:off x="2133720" y="106668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03" name="Group 112"/>
                  <p:cNvGrpSpPr/>
                  <p:nvPr/>
                </p:nvGrpSpPr>
                <p:grpSpPr>
                  <a:xfrm>
                    <a:off x="2286000" y="1219320"/>
                    <a:ext cx="380880" cy="380880"/>
                    <a:chOff x="2286000" y="1219320"/>
                    <a:chExt cx="380880" cy="380880"/>
                  </a:xfrm>
                </p:grpSpPr>
                <p:sp>
                  <p:nvSpPr>
                    <p:cNvPr id="204" name="Line 113"/>
                    <p:cNvSpPr/>
                    <p:nvPr/>
                  </p:nvSpPr>
                  <p:spPr>
                    <a:xfrm>
                      <a:off x="2286000" y="12193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205" name="Picture 114" descr="Флаг США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2286000" y="1219320"/>
                      <a:ext cx="380880" cy="234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grpSp>
                <p:nvGrpSpPr>
                  <p:cNvPr id="206" name="Group 115"/>
                  <p:cNvGrpSpPr/>
                  <p:nvPr/>
                </p:nvGrpSpPr>
                <p:grpSpPr>
                  <a:xfrm>
                    <a:off x="2666880" y="1371600"/>
                    <a:ext cx="381240" cy="380880"/>
                    <a:chOff x="2666880" y="1371600"/>
                    <a:chExt cx="381240" cy="380880"/>
                  </a:xfrm>
                </p:grpSpPr>
                <p:pic>
                  <p:nvPicPr>
                    <p:cNvPr id="207" name="Picture 116" descr="Флаг Аргентины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2666880" y="1371600"/>
                      <a:ext cx="381240" cy="2318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208" name="Line 117"/>
                    <p:cNvSpPr/>
                    <p:nvPr/>
                  </p:nvSpPr>
                  <p:spPr>
                    <a:xfrm>
                      <a:off x="2666880" y="13716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pic>
                <p:nvPicPr>
                  <p:cNvPr id="209" name="Picture 118" descr="Флаг Нов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419720" y="4724280"/>
                    <a:ext cx="380880" cy="236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  <p:sp>
                <p:nvSpPr>
                  <p:cNvPr id="210" name="Text Box 119"/>
                  <p:cNvSpPr/>
                  <p:nvPr/>
                </p:nvSpPr>
                <p:spPr>
                  <a:xfrm>
                    <a:off x="1981080" y="5105520"/>
                    <a:ext cx="25146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Скотт-Бейс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Н.Зел.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11" name="Group 120"/>
                  <p:cNvGrpSpPr/>
                  <p:nvPr/>
                </p:nvGrpSpPr>
                <p:grpSpPr>
                  <a:xfrm>
                    <a:off x="2895480" y="3962520"/>
                    <a:ext cx="380880" cy="380880"/>
                    <a:chOff x="2895480" y="3962520"/>
                    <a:chExt cx="380880" cy="380880"/>
                  </a:xfrm>
                </p:grpSpPr>
                <p:sp>
                  <p:nvSpPr>
                    <p:cNvPr id="212" name="Line 121"/>
                    <p:cNvSpPr/>
                    <p:nvPr/>
                  </p:nvSpPr>
                  <p:spPr>
                    <a:xfrm>
                      <a:off x="2895480" y="39625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213" name="Picture 122" descr="Флаг России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2895480" y="3962520"/>
                      <a:ext cx="380880" cy="2318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sp>
                <p:nvSpPr>
                  <p:cNvPr id="214" name="Text Box 123"/>
                  <p:cNvSpPr/>
                  <p:nvPr/>
                </p:nvSpPr>
                <p:spPr>
                  <a:xfrm>
                    <a:off x="1600200" y="3962520"/>
                    <a:ext cx="129528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Російська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Росія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Text Box 124"/>
                  <p:cNvSpPr/>
                  <p:nvPr/>
                </p:nvSpPr>
                <p:spPr>
                  <a:xfrm>
                    <a:off x="1523880" y="1981080"/>
                    <a:ext cx="1067040" cy="733320"/>
                  </a:xfrm>
                  <a:prstGeom prst="rect">
                    <a:avLst/>
                  </a:prstGeom>
                  <a:solidFill>
                    <a:srgbClr val="cc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Ротера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Брит.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16" name="Group 125"/>
                  <p:cNvGrpSpPr/>
                  <p:nvPr/>
                </p:nvGrpSpPr>
                <p:grpSpPr>
                  <a:xfrm>
                    <a:off x="2438280" y="1676520"/>
                    <a:ext cx="380880" cy="380880"/>
                    <a:chOff x="2438280" y="1676520"/>
                    <a:chExt cx="380880" cy="380880"/>
                  </a:xfrm>
                </p:grpSpPr>
                <p:pic>
                  <p:nvPicPr>
                    <p:cNvPr id="217" name="Picture 126" descr="Флаг Великобритании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2438280" y="1676520"/>
                      <a:ext cx="380880" cy="2350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218" name="Line 127"/>
                    <p:cNvSpPr/>
                    <p:nvPr/>
                  </p:nvSpPr>
                  <p:spPr>
                    <a:xfrm>
                      <a:off x="2438280" y="16765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19" name="Group 128"/>
                  <p:cNvGrpSpPr/>
                  <p:nvPr/>
                </p:nvGrpSpPr>
                <p:grpSpPr>
                  <a:xfrm>
                    <a:off x="2743200" y="2590920"/>
                    <a:ext cx="380880" cy="380880"/>
                    <a:chOff x="2743200" y="2590920"/>
                    <a:chExt cx="380880" cy="380880"/>
                  </a:xfrm>
                </p:grpSpPr>
                <p:sp>
                  <p:nvSpPr>
                    <p:cNvPr id="220" name="Line 129"/>
                    <p:cNvSpPr/>
                    <p:nvPr/>
                  </p:nvSpPr>
                  <p:spPr>
                    <a:xfrm>
                      <a:off x="2743200" y="25909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221" name="Picture 130" descr="Флаг США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2743200" y="2590920"/>
                      <a:ext cx="380880" cy="234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sp>
                <p:nvSpPr>
                  <p:cNvPr id="222" name="Text Box 131"/>
                  <p:cNvSpPr/>
                  <p:nvPr/>
                </p:nvSpPr>
                <p:spPr>
                  <a:xfrm>
                    <a:off x="2514600" y="2971800"/>
                    <a:ext cx="99072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Сайп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США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3" name="Text Box 132"/>
                  <p:cNvSpPr/>
                  <p:nvPr/>
                </p:nvSpPr>
                <p:spPr>
                  <a:xfrm>
                    <a:off x="2666880" y="5715000"/>
                    <a:ext cx="1828800" cy="520200"/>
                  </a:xfrm>
                  <a:prstGeom prst="rect">
                    <a:avLst/>
                  </a:prstGeom>
                  <a:solidFill>
                    <a:srgbClr val="cc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Ленінградська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Росія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24" name="Group 133"/>
                  <p:cNvGrpSpPr/>
                  <p:nvPr/>
                </p:nvGrpSpPr>
                <p:grpSpPr>
                  <a:xfrm>
                    <a:off x="4495680" y="5638680"/>
                    <a:ext cx="380880" cy="380880"/>
                    <a:chOff x="4495680" y="5638680"/>
                    <a:chExt cx="380880" cy="380880"/>
                  </a:xfrm>
                </p:grpSpPr>
                <p:sp>
                  <p:nvSpPr>
                    <p:cNvPr id="225" name="Line 134"/>
                    <p:cNvSpPr/>
                    <p:nvPr/>
                  </p:nvSpPr>
                  <p:spPr>
                    <a:xfrm>
                      <a:off x="4495680" y="563868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226" name="Picture 135" descr="Флаг России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4495680" y="5638680"/>
                      <a:ext cx="380880" cy="2318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sp>
                <p:nvSpPr>
                  <p:cNvPr id="227" name="Text Box 136"/>
                  <p:cNvSpPr/>
                  <p:nvPr/>
                </p:nvSpPr>
                <p:spPr>
                  <a:xfrm>
                    <a:off x="4038480" y="6172200"/>
                    <a:ext cx="2286000" cy="520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7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Дюмон-д</a:t>
                    </a:r>
                    <a:r>
                      <a:rPr b="1" i="1" lang="en-US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’</a:t>
                    </a: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Юрвіль  </a:t>
                    </a:r>
                    <a:r>
                      <a:rPr b="0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(Фр.)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28" name="Group 137"/>
                  <p:cNvGrpSpPr/>
                  <p:nvPr/>
                </p:nvGrpSpPr>
                <p:grpSpPr>
                  <a:xfrm>
                    <a:off x="7162920" y="2895480"/>
                    <a:ext cx="457200" cy="457200"/>
                    <a:chOff x="7162920" y="2895480"/>
                    <a:chExt cx="457200" cy="457200"/>
                  </a:xfrm>
                </p:grpSpPr>
                <p:pic>
                  <p:nvPicPr>
                    <p:cNvPr id="229" name="Picture 138" descr="Флаг Австралии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7162920" y="2895480"/>
                      <a:ext cx="457200" cy="2793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230" name="Line 139"/>
                    <p:cNvSpPr/>
                    <p:nvPr/>
                  </p:nvSpPr>
                  <p:spPr>
                    <a:xfrm>
                      <a:off x="7162920" y="29718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31" name="Group 140"/>
                  <p:cNvGrpSpPr/>
                  <p:nvPr/>
                </p:nvGrpSpPr>
                <p:grpSpPr>
                  <a:xfrm>
                    <a:off x="4572000" y="1219320"/>
                    <a:ext cx="380880" cy="380880"/>
                    <a:chOff x="4572000" y="1219320"/>
                    <a:chExt cx="380880" cy="380880"/>
                  </a:xfrm>
                </p:grpSpPr>
                <p:sp>
                  <p:nvSpPr>
                    <p:cNvPr id="232" name="Line 141"/>
                    <p:cNvSpPr/>
                    <p:nvPr/>
                  </p:nvSpPr>
                  <p:spPr>
                    <a:xfrm>
                      <a:off x="4572000" y="12193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233" name="Picture 142" descr="Флаг Норвегии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4572000" y="1219320"/>
                      <a:ext cx="380880" cy="234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grpSp>
                <p:nvGrpSpPr>
                  <p:cNvPr id="234" name="Group 143"/>
                  <p:cNvGrpSpPr/>
                  <p:nvPr/>
                </p:nvGrpSpPr>
                <p:grpSpPr>
                  <a:xfrm>
                    <a:off x="4800600" y="1143000"/>
                    <a:ext cx="380880" cy="380880"/>
                    <a:chOff x="4800600" y="1143000"/>
                    <a:chExt cx="380880" cy="380880"/>
                  </a:xfrm>
                </p:grpSpPr>
                <p:pic>
                  <p:nvPicPr>
                    <p:cNvPr id="235" name="Picture 144" descr="Флаг ЮАР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800600" y="1143000"/>
                      <a:ext cx="380880" cy="233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236" name="Line 145"/>
                    <p:cNvSpPr/>
                    <p:nvPr/>
                  </p:nvSpPr>
                  <p:spPr>
                    <a:xfrm>
                      <a:off x="4800600" y="114300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37" name="Text Box 146"/>
                  <p:cNvSpPr/>
                  <p:nvPr/>
                </p:nvSpPr>
                <p:spPr>
                  <a:xfrm>
                    <a:off x="5867280" y="609480"/>
                    <a:ext cx="1905120" cy="498960"/>
                  </a:xfrm>
                  <a:prstGeom prst="rect">
                    <a:avLst/>
                  </a:prstGeom>
                  <a:solidFill>
                    <a:srgbClr val="ccff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7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uk-UA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Новолазаревська</a:t>
                    </a:r>
                    <a:r>
                      <a:rPr b="1" i="1" lang="uk-UA" sz="2000" spc="-1" strike="noStrike">
                        <a:solidFill>
                          <a:srgbClr val="ffffff"/>
                        </a:solidFill>
                        <a:latin typeface="Tahoma"/>
                      </a:rPr>
                      <a:t> </a:t>
                    </a:r>
                    <a:r>
                      <a:rPr b="0" i="1" lang="uk-UA" sz="1800" spc="-1" strike="noStrike">
                        <a:solidFill>
                          <a:srgbClr val="ffffff"/>
                        </a:solidFill>
                        <a:latin typeface="Tahoma"/>
                      </a:rPr>
                      <a:t>(Росія)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38" name="Group 147"/>
                  <p:cNvGrpSpPr/>
                  <p:nvPr/>
                </p:nvGrpSpPr>
                <p:grpSpPr>
                  <a:xfrm>
                    <a:off x="5562720" y="1066680"/>
                    <a:ext cx="380880" cy="380880"/>
                    <a:chOff x="5562720" y="1066680"/>
                    <a:chExt cx="380880" cy="380880"/>
                  </a:xfrm>
                </p:grpSpPr>
                <p:sp>
                  <p:nvSpPr>
                    <p:cNvPr id="239" name="Line 148"/>
                    <p:cNvSpPr/>
                    <p:nvPr/>
                  </p:nvSpPr>
                  <p:spPr>
                    <a:xfrm>
                      <a:off x="5562720" y="106668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pic>
                  <p:nvPicPr>
                    <p:cNvPr id="240" name="Picture 149" descr="Флаг России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5562720" y="1066680"/>
                      <a:ext cx="380880" cy="23184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grpSp>
              <p:grpSp>
                <p:nvGrpSpPr>
                  <p:cNvPr id="241" name="Group 150"/>
                  <p:cNvGrpSpPr/>
                  <p:nvPr/>
                </p:nvGrpSpPr>
                <p:grpSpPr>
                  <a:xfrm>
                    <a:off x="5867280" y="1219320"/>
                    <a:ext cx="381240" cy="380880"/>
                    <a:chOff x="5867280" y="1219320"/>
                    <a:chExt cx="381240" cy="380880"/>
                  </a:xfrm>
                </p:grpSpPr>
                <p:pic>
                  <p:nvPicPr>
                    <p:cNvPr id="242" name="Picture 151" descr="Флаг Бельгии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5867280" y="1219320"/>
                      <a:ext cx="381240" cy="23472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  <p:sp>
                  <p:nvSpPr>
                    <p:cNvPr id="243" name="Line 152"/>
                    <p:cNvSpPr/>
                    <p:nvPr/>
                  </p:nvSpPr>
                  <p:spPr>
                    <a:xfrm>
                      <a:off x="5867280" y="1219320"/>
                      <a:ext cx="0" cy="380880"/>
                    </a:xfrm>
                    <a:prstGeom prst="line">
                      <a:avLst/>
                    </a:prstGeom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244" name="Group 156"/>
              <p:cNvGrpSpPr/>
              <p:nvPr/>
            </p:nvGrpSpPr>
            <p:grpSpPr>
              <a:xfrm>
                <a:off x="2438280" y="914400"/>
                <a:ext cx="380880" cy="380880"/>
                <a:chOff x="2438280" y="914400"/>
                <a:chExt cx="380880" cy="380880"/>
              </a:xfrm>
            </p:grpSpPr>
            <p:sp>
              <p:nvSpPr>
                <p:cNvPr id="245" name="Line 157"/>
                <p:cNvSpPr/>
                <p:nvPr/>
              </p:nvSpPr>
              <p:spPr>
                <a:xfrm>
                  <a:off x="2438280" y="914400"/>
                  <a:ext cx="0" cy="380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46" name="Group 158"/>
                <p:cNvGrpSpPr/>
                <p:nvPr/>
              </p:nvGrpSpPr>
              <p:grpSpPr>
                <a:xfrm>
                  <a:off x="2438280" y="914400"/>
                  <a:ext cx="380880" cy="228240"/>
                  <a:chOff x="2438280" y="914400"/>
                  <a:chExt cx="380880" cy="228240"/>
                </a:xfrm>
              </p:grpSpPr>
              <p:sp>
                <p:nvSpPr>
                  <p:cNvPr id="247" name="Rectangle 159"/>
                  <p:cNvSpPr/>
                  <p:nvPr/>
                </p:nvSpPr>
                <p:spPr>
                  <a:xfrm>
                    <a:off x="2438280" y="914400"/>
                    <a:ext cx="380880" cy="114480"/>
                  </a:xfrm>
                  <a:prstGeom prst="rect">
                    <a:avLst/>
                  </a:prstGeom>
                  <a:solidFill>
                    <a:srgbClr val="0099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8" name="Rectangle 160"/>
                  <p:cNvSpPr/>
                  <p:nvPr/>
                </p:nvSpPr>
                <p:spPr>
                  <a:xfrm>
                    <a:off x="2438280" y="1028880"/>
                    <a:ext cx="380880" cy="11376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249" name="WordArt 168"/>
          <p:cNvSpPr txBox="1"/>
          <p:nvPr/>
        </p:nvSpPr>
        <p:spPr>
          <a:xfrm>
            <a:off x="1447920" y="6400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Полярні станції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Admin\Рабочий стол\картинки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арктида</a:t>
            </a:r>
            <a:br>
              <a:rPr sz="2800"/>
            </a:br>
            <a:r>
              <a:rPr b="0" lang="uk-U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ідкриття та дослідження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99760" y="3886200"/>
            <a:ext cx="6272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юта Валентина Афанасіївна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ії Мар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’</a:t>
            </a:r>
            <a:r>
              <a:rPr b="0" lang="uk-U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нівського НВК “Дошкільний навчальний заклад-загальноосвітня школа І-ІІІступенів” Лисянської районної ради Черкаської області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Documents and Settings\Admin\Рабочий стол\картинки\17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4071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C:\Documents and Settings\Admin\Рабочий стол\картинки\16.jpg"/>
          <p:cNvPicPr/>
          <p:nvPr/>
        </p:nvPicPr>
        <p:blipFill>
          <a:blip r:embed="rId2"/>
          <a:stretch/>
        </p:blipFill>
        <p:spPr>
          <a:xfrm>
            <a:off x="0" y="342900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C:\Documents and Settings\Admin\Рабочий стол\картинки\14.jpg"/>
          <p:cNvPicPr/>
          <p:nvPr/>
        </p:nvPicPr>
        <p:blipFill>
          <a:blip r:embed="rId3"/>
          <a:stretch/>
        </p:blipFill>
        <p:spPr>
          <a:xfrm>
            <a:off x="4429080" y="3429000"/>
            <a:ext cx="44290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svitppt.com.ua/images/7/6814/960/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Documents and Settings\Admin\Рабочий стол\картинки\15.jpg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C:\Documents and Settings\Admin\Рабочий стол\картинки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Documents and Settings\Admin\Рабочий стол\картинки\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500" spc="-1" strike="noStrike">
                <a:solidFill>
                  <a:srgbClr val="0000ff"/>
                </a:solidFill>
                <a:latin typeface="Calibri"/>
              </a:rPr>
              <a:t>Вставити  пропущені  слова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85840" y="114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Антарктида за площею займає </a:t>
            </a: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…..….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 місце,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поступаючись розмірами тільки материку </a:t>
            </a: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…………………….…..…..</a:t>
            </a:r>
            <a:r>
              <a:rPr b="0" lang="uk-UA" sz="2300" spc="-1" strike="noStrike">
                <a:solidFill>
                  <a:srgbClr val="ffffff"/>
                </a:solidFill>
                <a:latin typeface="Calibri"/>
              </a:rPr>
              <a:t> .</a:t>
            </a: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uk-UA" sz="2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Майже в центрі Антарктиди розташований </a:t>
            </a: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…………..…………….…</a:t>
            </a:r>
            <a:r>
              <a:rPr b="0" lang="uk-UA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полюс, тому всі береги материка дивляться на</a:t>
            </a:r>
            <a:r>
              <a:rPr b="1" lang="uk-UA" sz="23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…………....…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uk-UA" sz="23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Омивають  ї ї  береги води Тихого, </a:t>
            </a: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……….………….……..……………</a:t>
            </a:r>
            <a:r>
              <a:rPr b="0" lang="uk-UA" sz="2300" spc="-1" strike="noStrike">
                <a:solidFill>
                  <a:srgbClr val="cc0000"/>
                </a:solidFill>
                <a:latin typeface="Calibri"/>
              </a:rPr>
              <a:t>   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та </a:t>
            </a: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……………..…………………. </a:t>
            </a:r>
            <a:r>
              <a:rPr b="0" lang="en-US" sz="12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океанів, які пов'язані потужною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холодною течією </a:t>
            </a: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.......................................................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Антарктида значно віддалена від усіх материків, але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найближче всього до неї розташована </a:t>
            </a: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….……..………………………………....</a:t>
            </a:r>
            <a:r>
              <a:rPr b="0" lang="ru-RU" sz="23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Антарктида  була відкрита  у </a:t>
            </a: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………….…</a:t>
            </a:r>
            <a:r>
              <a:rPr b="0" lang="uk-UA" sz="2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році  російськими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мореплавцями  </a:t>
            </a: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……………………………………………………………</a:t>
            </a:r>
            <a:r>
              <a:rPr b="0" lang="uk-UA" sz="2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0" lang="uk-UA" sz="2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та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0000"/>
                </a:solidFill>
                <a:latin typeface="Calibri"/>
              </a:rPr>
              <a:t>…………………………………………</a:t>
            </a:r>
            <a:r>
              <a:rPr b="0" lang="uk-UA" sz="23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uk-UA" sz="23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5143680" y="112428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5715000" y="1500120"/>
            <a:ext cx="1714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Австралія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5072040" y="1857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cc0000"/>
                </a:solidFill>
                <a:latin typeface="Arial"/>
              </a:rPr>
              <a:t>Півден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6286680" y="2286000"/>
            <a:ext cx="1047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північ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71680" y="3000240"/>
            <a:ext cx="1928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І</a:t>
            </a:r>
            <a:r>
              <a:rPr b="1" lang="ru-RU" sz="2300" spc="-1" strike="noStrike">
                <a:solidFill>
                  <a:srgbClr val="cc0000"/>
                </a:solidFill>
                <a:latin typeface="Arial"/>
              </a:rPr>
              <a:t>нд</a:t>
            </a: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і</a:t>
            </a:r>
            <a:r>
              <a:rPr b="1" lang="ru-RU" sz="2300" spc="-1" strike="noStrike">
                <a:solidFill>
                  <a:srgbClr val="cc0000"/>
                </a:solidFill>
                <a:latin typeface="Arial"/>
              </a:rPr>
              <a:t>йськ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500280" y="2571840"/>
            <a:ext cx="221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Атлантичн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2571840" y="3429000"/>
            <a:ext cx="2887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Західних Вітрів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5214960" y="4365720"/>
            <a:ext cx="2857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cc0000"/>
                </a:solidFill>
                <a:latin typeface="Arial"/>
              </a:rPr>
              <a:t>Південна Америк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357800" y="4797360"/>
            <a:ext cx="1071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Arial"/>
              </a:rPr>
              <a:t>1820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2556000" y="5143680"/>
            <a:ext cx="337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Arial"/>
              </a:rPr>
              <a:t>Ф.Ф.Беллінсгаузено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284040" y="5643720"/>
            <a:ext cx="23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300" spc="-1" strike="noStrike">
                <a:solidFill>
                  <a:srgbClr val="cc0000"/>
                </a:solidFill>
                <a:latin typeface="Arial"/>
              </a:rPr>
              <a:t>М.П.Лазаревє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18" descr="http://vasi.net/uploads/podbor/v28634/19.jpg"/>
          <p:cNvPicPr/>
          <p:nvPr/>
        </p:nvPicPr>
        <p:blipFill>
          <a:blip r:embed="rId1"/>
          <a:stretch/>
        </p:blipFill>
        <p:spPr>
          <a:xfrm>
            <a:off x="785880" y="214200"/>
            <a:ext cx="7619760" cy="42753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642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арктида чекає молодих розумних  мужніх полярників нового покоління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alibri"/>
              </a:rPr>
              <a:t>Інтернет ресурс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Прямоугольник 3"/>
          <p:cNvSpPr/>
          <p:nvPr/>
        </p:nvSpPr>
        <p:spPr>
          <a:xfrm>
            <a:off x="2286000" y="2457360"/>
            <a:ext cx="4572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http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vasylko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file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wordpres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com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/2011/12/768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p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ob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hill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cros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_1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jp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http://fishki.net/46371-tainstvennaja-antarktida-36-foto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poradumo pp.ua/uploads/post/2015-11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www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.картинки.сс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ua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  <a:ea typeface="Calibri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549000"/>
            <a:ext cx="8244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ВІЗИТНА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КАРТКА  АНТАРКТИД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187280" y="1341360"/>
            <a:ext cx="734544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гальна площа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: 14 млн. кв. км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селення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: постійне населення  відсутнє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 1959р. підписаний міжнародний  договір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згідно якому в Антарктиді  </a:t>
            </a:r>
            <a:r>
              <a:rPr b="1" lang="uk-UA" sz="23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бороняється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будувати промислові та військові об'єкти,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идобувати корисні копалини, проводити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випробування зброї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Антарктида – материк міжнародного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300" spc="-1" strike="noStrike">
                <a:solidFill>
                  <a:srgbClr val="000000"/>
                </a:solidFill>
                <a:latin typeface="Arial"/>
                <a:ea typeface="Arial"/>
              </a:rPr>
              <a:t>співробітництва,  континент вчених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2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2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2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90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2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2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2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2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2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2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3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2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2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2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9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2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2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2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2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2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2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29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2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2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2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2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2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2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Admin\Рабочий стол\карти\r_29-1.jpg"/>
          <p:cNvPicPr/>
          <p:nvPr/>
        </p:nvPicPr>
        <p:blipFill>
          <a:blip r:embed="rId1"/>
          <a:stretch/>
        </p:blipFill>
        <p:spPr>
          <a:xfrm>
            <a:off x="0" y="0"/>
            <a:ext cx="9381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240" y="92160"/>
            <a:ext cx="8805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6500" spc="-1" strike="noStrike">
                <a:solidFill>
                  <a:srgbClr val="57dfff"/>
                </a:solidFill>
                <a:latin typeface="Arial"/>
              </a:rPr>
              <a:t>А н т а р к т и д а</a:t>
            </a: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752720" cy="4019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5219640" y="4076640"/>
            <a:ext cx="3753000" cy="2543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3"/>
          <a:srcRect l="0" t="0" r="58" b="0"/>
          <a:stretch/>
        </p:blipFill>
        <p:spPr>
          <a:xfrm>
            <a:off x="5189400" y="1239840"/>
            <a:ext cx="372456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lang="uk-UA" sz="4000" spc="-1" strike="noStrike">
                <a:solidFill>
                  <a:srgbClr val="0000ff"/>
                </a:solidFill>
                <a:latin typeface="Arial"/>
              </a:rPr>
              <a:t>і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криття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Антарктид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0" t="0" r="107" b="171"/>
          <a:stretch/>
        </p:blipFill>
        <p:spPr>
          <a:xfrm>
            <a:off x="620640" y="2276640"/>
            <a:ext cx="3176640" cy="4357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5418000" y="2276640"/>
            <a:ext cx="3251160" cy="4340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5429160" y="1268280"/>
            <a:ext cx="30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Л а з а р є 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 и х а й л о  П е т р о в и 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-295200" y="1268280"/>
            <a:ext cx="503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Б е л л і н с г а у з е н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Ф а д д е й  Ф а д д е й о в и 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24000" y="333000"/>
            <a:ext cx="8820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Антарктида була офіційно відкрита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16 (28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–за новим стилем</a:t>
            </a:r>
            <a:r>
              <a:rPr b="1" lang="uk-UA" sz="3200" spc="-1" strike="noStrike" u="sng">
                <a:solidFill>
                  <a:srgbClr val="000000"/>
                </a:solidFill>
                <a:uFillTx/>
                <a:latin typeface="Arial"/>
              </a:rPr>
              <a:t>) січня 1820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. російською експедиціє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0" t="0" r="85" b="0"/>
          <a:stretch/>
        </p:blipFill>
        <p:spPr>
          <a:xfrm>
            <a:off x="179280" y="2492280"/>
            <a:ext cx="5664240" cy="3872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580000" y="2176200"/>
            <a:ext cx="331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  а        ш    л    ю    п     а      х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    В    о      с      т     о     к     »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   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   М     и     р      н    и      й     »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ukrmap.su/program2010/g7/materiki_files/image3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4000" y="54936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Мандрівка продовжувалась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з 16 червня 1819 р. по 5 серпня 1821р.  -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51 день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Було пройдено більше 92 тис. км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(Ця відстань в 2,3 рази більше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довжини екватора)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Крім Антарктиди, експедиція відкрила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29 островів и  1 кораловий риф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2T15:47:16Z</dcterms:created>
  <dc:creator>Света</dc:creator>
  <dc:description/>
  <dc:language>en-US</dc:language>
  <cp:lastModifiedBy>Admin</cp:lastModifiedBy>
  <dcterms:modified xsi:type="dcterms:W3CDTF">2016-02-01T13:53:56Z</dcterms:modified>
  <cp:revision>7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d000000000001024140</vt:lpwstr>
  </property>
</Properties>
</file>