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BCA-E53B-4B06-A992-CE96902E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37F-B951-44F4-A5A4-E81A8429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F2D-F82D-449C-AFEB-12C64A7D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88C-74CD-47ED-966F-F31FAB38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BDF-F58E-4E88-80F5-F8C7A492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E1B-1A4E-469D-ABF2-F8F6E458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8E1-03D0-4664-9F4D-6F976599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CF8-3831-402D-85E2-5D1E4EEA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BD4-0973-4FCE-BF10-21969210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C16-8FF0-40C4-84E7-25DFE27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89A-3948-40FE-A2BB-B6D95526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63A-27F7-474C-BB17-08C4B6F4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3A1E-A779-4240-9549-ECB456C3F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images.jpg"/>
          <p:cNvPicPr/>
          <p:nvPr/>
        </p:nvPicPr>
        <p:blipFill>
          <a:blip r:embed="rId1"/>
          <a:stretch/>
        </p:blipFill>
        <p:spPr>
          <a:xfrm>
            <a:off x="1071720" y="0"/>
            <a:ext cx="72151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Фізкультхвилинка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“Україно, ми твоя надія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фізхвилинка  'Україно, ми твоя надія'.mp4" descr=""/>
          <p:cNvPicPr/>
          <p:nvPr/>
        </p:nvPicPr>
        <p:blipFill>
          <a:blip r:embed="rId1"/>
          <a:stretch/>
        </p:blipFill>
        <p:spPr>
          <a:xfrm>
            <a:off x="1643040" y="1785960"/>
            <a:ext cx="60721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Фізкультхвилинка для оч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Гімнастика для очей.mp4" descr=""/>
          <p:cNvPicPr/>
          <p:nvPr/>
        </p:nvPicPr>
        <p:blipFill>
          <a:blip r:embed="rId1"/>
          <a:stretch/>
        </p:blipFill>
        <p:spPr>
          <a:xfrm>
            <a:off x="785880" y="1290600"/>
            <a:ext cx="72151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7:01:34Z</dcterms:created>
  <dc:creator>Администратор</dc:creator>
  <dc:description/>
  <dc:language>en-US</dc:language>
  <cp:lastModifiedBy>Администратор</cp:lastModifiedBy>
  <dcterms:modified xsi:type="dcterms:W3CDTF">2017-10-17T18:18:39Z</dcterms:modified>
  <cp:revision>8</cp:revision>
  <dc:subject/>
  <dc:title>Закріплення звукового значення букви  Б  б.</dc:title>
</cp:coreProperties>
</file>