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F4E-B761-4544-B88B-6741B5AD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A9E-7298-4A13-A01B-6846B17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F77-1173-4199-887D-78B7C72B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3C6-7475-4075-9F2F-9B5226BC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4AD1-7267-4AF7-A645-343DE7DA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07A1-9033-49E2-89CD-74F3D66D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13B1-27BB-4696-BC79-4D2CEEE8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62F5-37EA-4A31-887F-A32B1ED4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63E4-934E-486E-9B61-A441573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027-3DBA-4EAC-93F7-0D7ABCF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B886-2EAA-49FF-962B-06C000BF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DA5-5A26-4D85-99C9-791BBB17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2C8B-9CA2-4CAF-9BFB-355FA73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9D59-1489-4323-BB55-DF570D2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BAF7-22D9-4423-88AA-61D97468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45E-1592-4733-9BC7-AD7EBBCF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BC6A-C911-4BCC-8D1D-2A675459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668-DA9E-4B55-A2B9-96F19F7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A31-322A-4032-9495-0F171AF1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EA7-0369-4330-A28C-5A1D1088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876-AC67-4BA5-A574-9273BFD3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E8A-8F10-4BB4-82CA-B06F896A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EEFC-4AC2-4BFD-8C5B-5E3357F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B75-4EA8-4490-A306-2F5FAD7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7C98-0D49-41AE-B199-CE5309C6CE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2844-8864-4354-AE5D-81BC27B6B9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План уро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. Перевірка домашнього завданн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 зареєстрована Ваша поштова скринь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гадаймо етикет електронного лист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голошення результатів міні-конкурсу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кращий ли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зюм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І. Що в твоїх долонях? (прит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доро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орія виникнення символу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дорож з сервіс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r.net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3" descr="150px-@@@.svg.png"/>
          <p:cNvPicPr/>
          <p:nvPr/>
        </p:nvPicPr>
        <p:blipFill>
          <a:blip r:embed="rId1"/>
          <a:stretch/>
        </p:blipFill>
        <p:spPr>
          <a:xfrm>
            <a:off x="5791320" y="4952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Завдання 3. </a:t>
            </a:r>
            <a:br>
              <a:rPr sz="3800"/>
            </a:b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Ділова гра “Інтерактивна мишка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Що таке електронна скринь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і способи доступу до скриньки знає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 Що таке  веб-інтерфей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Найпопулярніші поштові серві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Перевага та недоліки електронної пошти зі звичайн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Домашнє завданн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3.1-3.3,обмінятись електронними адресами, питання 16-19 ст. 22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ознайомитись 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3.4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долучитися в програм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k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:\сонце..png"/>
          <p:cNvPicPr/>
          <p:nvPr/>
        </p:nvPicPr>
        <p:blipFill>
          <a:blip r:embed="rId1"/>
          <a:stretch/>
        </p:blipFill>
        <p:spPr>
          <a:xfrm>
            <a:off x="5943600" y="2666880"/>
            <a:ext cx="247500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План урок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доров’я-збе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юча в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ав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кр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Підведення підсумків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ІІ. Притча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мудре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Тема:”  Де живе Ваша електронна скринька?”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 у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Девіз уро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«Дорогу здолає той, хто йд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3" descr="150px-@@@.svg.png"/>
          <p:cNvPicPr/>
          <p:nvPr/>
        </p:nvPicPr>
        <p:blipFill>
          <a:blip r:embed="rId1"/>
          <a:stretch/>
        </p:blipFill>
        <p:spPr>
          <a:xfrm>
            <a:off x="3886200" y="3352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Відео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150px-@@@.svg.png"/>
          <p:cNvPicPr/>
          <p:nvPr/>
        </p:nvPicPr>
        <p:blipFill>
          <a:blip r:embed="rId1"/>
          <a:stretch/>
        </p:blipFill>
        <p:spPr>
          <a:xfrm>
            <a:off x="1828800" y="15238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Робота з словнико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еб- і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еб-серв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нна скрин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нна адреса, логін, па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рауз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Завдання №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28480" y="2798640"/>
            <a:ext cx="556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лік поштових сервер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раузері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штових-клієнтів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бота в гру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Завдання 2. Настроювання електронної скринь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міст па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л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кріпл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гл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 відповід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лаштування фільт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права для зняття м’язевого навантаж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lang="uk-UA" sz="3800" spc="-1" strike="noStrike">
                <a:solidFill>
                  <a:srgbClr val="ffffff"/>
                </a:solidFill>
                <a:latin typeface="Arial"/>
              </a:rPr>
              <a:t>Робота з ”Ретро-комп’ютером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акт робота №8 “Листування через веб-інтерфей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0T01:05:0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