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A29-7DC1-487E-9C1D-7B255A48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149-9788-4F6E-B6AE-BD2A70BE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0C0-56FD-4DB0-A842-DFAD2B32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A9E-726A-412E-8CFE-C38E83D0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B63-AE9B-4E5B-9FEB-9DC4D239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71F-336E-41A8-A071-1FA4FE33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C33-A53E-41AA-A082-6C85795C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0B1-8FCE-4D3A-81D8-BEEED58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993-72E4-4D11-B24C-3B53D79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B26-974B-4398-BA4B-177D590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403-3A95-4BB9-A62A-DC93718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88C-AECB-4D02-820B-DB4EF8D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689-5047-47B6-8FD9-99B1708DC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28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36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13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6:44:40Z</dcterms:created>
  <dc:creator>Дом</dc:creator>
  <dc:description/>
  <dc:language>en-US</dc:language>
  <cp:lastModifiedBy>Дом</cp:lastModifiedBy>
  <dcterms:modified xsi:type="dcterms:W3CDTF">2013-09-15T11:06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