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105650" cy="1023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7106400" cy="102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024080" y="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body"/>
          </p:nvPr>
        </p:nvSpPr>
        <p:spPr>
          <a:xfrm>
            <a:off x="711360" y="4863600"/>
            <a:ext cx="5682960" cy="46069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ftr" idx="11"/>
          </p:nvPr>
        </p:nvSpPr>
        <p:spPr>
          <a:xfrm>
            <a:off x="-360" y="972648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 type="sldNum" idx="12"/>
          </p:nvPr>
        </p:nvSpPr>
        <p:spPr>
          <a:xfrm>
            <a:off x="4024080" y="9726480"/>
            <a:ext cx="307980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1C0B46E9-43E1-440F-98F7-DBFA0EF97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11360" y="4863600"/>
            <a:ext cx="568296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4024440" y="9726480"/>
            <a:ext cx="3079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fld id="{9EBEA763-7F6C-4AB8-9CBA-D36C6464535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E5BE-128B-475D-BBAC-52E845CE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ABB-B7AA-4483-9556-BF5596E4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F2B-847A-4E40-A183-FD14795A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977-2D12-4C8B-8376-5CFEB76A6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A7C7-4E44-4232-84E1-D5B8C23D2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5369-2ED8-48A1-BC65-961509B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A33F-6C57-4015-ABA9-C6CA0B0E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BEEB-3709-44B7-87C4-275A9424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83CC0-426A-40F7-BC9A-CBCCB72D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49DA-4767-44D8-A115-12D88BF70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861F-3C54-468D-BCBA-DF6AECFB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735-1D1B-4D39-838C-8A19C863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6363-1B6A-40F3-B9E0-A092CA44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A804-F4ED-4C4E-9CEF-08170447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5423-4B19-4729-A0BD-9AF9F6FC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E1DC-EE4C-43ED-8001-9DF59B50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6334-2DB8-4CBF-BAB8-118863AF0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5CF9A-B4BF-4433-91C2-3E1C8CCD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9FC6D-A070-4FE2-9BBB-5B36FAB3F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9FCCF-8046-47B1-8A6F-DF5FB5C3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D5E5-D52A-4EA9-B775-A56D9F89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56ED-7E91-4497-AB6C-8C1421B4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AB32-FBA7-4E5E-B53E-BB4F6B40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59D7-CE3A-4C84-80EF-3E10ACE2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CAA5-0762-4B3B-A842-AB9B679B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B572-1BED-4A2E-8060-A0486EEE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6280-4756-4621-BF10-4EF1066F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F8710-D45B-406A-A259-B0A29B8A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B5CD8-F8BE-41CC-B61B-45E5D01D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013E1-4490-411A-8001-2EAA84EA1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B5D-6301-4145-A403-4F2890B23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12D-9A19-45B3-BB6E-D35475FC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262-5772-4ECB-9C3F-A5DDCA6A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8F8-A100-4003-BD86-43992F0E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A3E5-66E8-4835-B03D-B5D9B4E9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3ABC-0D73-4D5D-BB49-3927DA04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3CF2-4AFC-4322-B776-7AE7844080FF}" type="slidenum">
              <a:rPr b="0" lang="uk-U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7114-F80B-406B-A943-40D16B67A23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9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1986-B43D-4A8A-BAF2-FF4AC5268AC5}" type="slidenum">
              <a:rPr b="0" lang="uk-U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iology.univ.kiev.ua/ua/vykladachi/515-savchuk-oleksij-mikolajovich.html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753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Times New Roman"/>
              </a:rPr>
              <a:t>У кожної школи повинне бути своє обличчя </a:t>
            </a:r>
            <a:br>
              <a:rPr sz="2800"/>
            </a:b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                                  В.О.Сухомлинський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1298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ff"/>
                </a:solidFill>
                <a:latin typeface="Times New Roman"/>
              </a:rPr>
              <a:t>Коростенська  школа-гімназія № 2 ім.В.Сингаївсь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Олександр Пономарьов - Соколята (mp3cut.ru).mp3" descr=""/>
          <p:cNvPicPr/>
          <p:nvPr/>
        </p:nvPicPr>
        <p:blipFill>
          <a:blip r:embed="rId1"/>
          <a:stretch/>
        </p:blipFill>
        <p:spPr>
          <a:xfrm>
            <a:off x="324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5" descr="C:\Users\User\Desktop\image.jpg"/>
          <p:cNvPicPr/>
          <p:nvPr/>
        </p:nvPicPr>
        <p:blipFill>
          <a:blip r:embed="rId2"/>
          <a:stretch/>
        </p:blipFill>
        <p:spPr>
          <a:xfrm>
            <a:off x="1187280" y="1484280"/>
            <a:ext cx="6337440" cy="43210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35388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Дубок Володимир Васильович</a:t>
            </a:r>
            <a:br>
              <a:rPr sz="3600"/>
            </a:br>
            <a:r>
              <a:rPr b="1" i="1" lang="ru-RU" sz="2800" spc="-1" strike="noStrike">
                <a:solidFill>
                  <a:srgbClr val="990033"/>
                </a:solidFill>
                <a:latin typeface="Times New Roman"/>
              </a:rPr>
              <a:t>народний артист Україн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Picture 3" descr="дубок"/>
          <p:cNvPicPr/>
          <p:nvPr/>
        </p:nvPicPr>
        <p:blipFill>
          <a:blip r:embed="rId1"/>
          <a:stretch/>
        </p:blipFill>
        <p:spPr>
          <a:xfrm>
            <a:off x="4211640" y="404640"/>
            <a:ext cx="4253040" cy="5805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дубок2"/>
          <p:cNvPicPr/>
          <p:nvPr/>
        </p:nvPicPr>
        <p:blipFill>
          <a:blip r:embed="rId2"/>
          <a:stretch/>
        </p:blipFill>
        <p:spPr>
          <a:xfrm>
            <a:off x="6732720" y="3573360"/>
            <a:ext cx="206208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анк2 001"/>
          <p:cNvPicPr/>
          <p:nvPr/>
        </p:nvPicPr>
        <p:blipFill>
          <a:blip r:embed="rId3"/>
          <a:stretch/>
        </p:blipFill>
        <p:spPr>
          <a:xfrm>
            <a:off x="324000" y="2997360"/>
            <a:ext cx="4500360" cy="35906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ff"/>
                </a:solidFill>
                <a:latin typeface="Times New Roman"/>
              </a:rPr>
              <a:t>Охріменко Людмила Іванівна</a:t>
            </a:r>
            <a:br>
              <a:rPr sz="3600"/>
            </a:br>
            <a:r>
              <a:rPr b="1" i="1" lang="uk-UA" sz="3200" spc="-1" strike="noStrike">
                <a:solidFill>
                  <a:srgbClr val="0000ff"/>
                </a:solidFill>
                <a:latin typeface="Times New Roman"/>
              </a:rPr>
              <a:t>кандидат педагогічних наук,доцен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4" descr="IMG_0048"/>
          <p:cNvPicPr/>
          <p:nvPr/>
        </p:nvPicPr>
        <p:blipFill>
          <a:blip r:embed="rId1"/>
          <a:stretch/>
        </p:blipFill>
        <p:spPr>
          <a:xfrm>
            <a:off x="2556000" y="2060640"/>
            <a:ext cx="5545080" cy="432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IMG_0048"/>
          <p:cNvPicPr/>
          <p:nvPr/>
        </p:nvPicPr>
        <p:blipFill>
          <a:blip r:embed="rId2"/>
          <a:stretch/>
        </p:blipFill>
        <p:spPr>
          <a:xfrm>
            <a:off x="1332000" y="1484280"/>
            <a:ext cx="2120760" cy="2376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http://uld15.mycdn.me/image?t=0&amp;bid=146604102368&amp;id=146604102368&amp;plc=WEB&amp;tkn=wj9-SfOU7IS3shy7fddBtZK7a4o"/>
          <p:cNvPicPr/>
          <p:nvPr/>
        </p:nvPicPr>
        <p:blipFill>
          <a:blip r:embed="rId1"/>
          <a:stretch/>
        </p:blipFill>
        <p:spPr>
          <a:xfrm>
            <a:off x="2556000" y="1628640"/>
            <a:ext cx="3030480" cy="48643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6"/>
          <p:cNvSpPr/>
          <p:nvPr/>
        </p:nvSpPr>
        <p:spPr>
          <a:xfrm>
            <a:off x="971640" y="260280"/>
            <a:ext cx="7345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00ff"/>
                </a:solidFill>
                <a:latin typeface="Times New Roman"/>
              </a:rPr>
              <a:t>Дайрабаєв Валерій Уракбайови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ff"/>
                </a:solidFill>
                <a:latin typeface="Times New Roman"/>
              </a:rPr>
              <a:t>КАНДИДАТ ІСТОРИЧНИХ НАУК , ДОЦЕНТ   м.Моск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1000">
    <p:circl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611280" y="404640"/>
            <a:ext cx="7921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33"/>
                </a:solidFill>
                <a:latin typeface="Times New Roman"/>
              </a:rPr>
              <a:t>Туровець Михайло Юхимович</a:t>
            </a:r>
            <a:br>
              <a:rPr sz="3600"/>
            </a:br>
            <a:r>
              <a:rPr b="1" i="1" lang="uk-UA" sz="3200" spc="-1" strike="noStrike">
                <a:solidFill>
                  <a:srgbClr val="990033"/>
                </a:solidFill>
                <a:latin typeface="Times New Roman"/>
              </a:rPr>
              <a:t>                    </a:t>
            </a:r>
            <a:r>
              <a:rPr b="0" i="1" lang="uk-UA" sz="3200" spc="-1" strike="noStrike">
                <a:solidFill>
                  <a:srgbClr val="990033"/>
                </a:solidFill>
                <a:latin typeface="Times New Roman"/>
              </a:rPr>
              <a:t>поет , прозаї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8" descr="http://uld7.mycdn.me/image?t=0&amp;bid=481350855527&amp;id=481350855527&amp;plc=WEB&amp;tkn=MVPnHYYxTXaWmqMXdrO0hF5X2Z0"/>
          <p:cNvPicPr/>
          <p:nvPr/>
        </p:nvPicPr>
        <p:blipFill>
          <a:blip r:embed="rId1"/>
          <a:stretch/>
        </p:blipFill>
        <p:spPr>
          <a:xfrm>
            <a:off x="1908000" y="2060640"/>
            <a:ext cx="5064480" cy="3798720"/>
          </a:xfrm>
          <a:prstGeom prst="rect">
            <a:avLst/>
          </a:prstGeom>
          <a:ln w="0">
            <a:noFill/>
          </a:ln>
        </p:spPr>
      </p:pic>
      <p:pic>
        <p:nvPicPr>
          <p:cNvPr id="183" name="Олександр Пономарьов - Соколята (mp3cut.ru).mp3" descr=""/>
          <p:cNvPicPr/>
          <p:nvPr/>
        </p:nvPicPr>
        <p:blipFill>
          <a:blip r:embed="rId2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Черняєва Світлана Володимирівна</a:t>
            </a:r>
            <a:r>
              <a:rPr b="1" i="1" lang="ru-RU" sz="3600" spc="-1" strike="noStrike">
                <a:solidFill>
                  <a:srgbClr val="0000ff"/>
                </a:solidFill>
                <a:latin typeface="Calibri"/>
              </a:rPr>
              <a:t>  </a:t>
            </a:r>
            <a:br>
              <a:rPr sz="3600"/>
            </a:b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Завідувач 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методичного кабінету</a:t>
            </a: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  у 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Відділ</a:t>
            </a:r>
            <a:r>
              <a:rPr b="0" i="1" lang="uk-UA" sz="3200" spc="-1" strike="noStrike">
                <a:solidFill>
                  <a:srgbClr val="0000ff"/>
                </a:solidFill>
                <a:latin typeface="Times New Roman"/>
              </a:rPr>
              <a:t>і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 освіти</a:t>
            </a:r>
            <a:r>
              <a:rPr b="0" i="1" lang="ru-RU" sz="3200" spc="-1" strike="noStrike">
                <a:solidFill>
                  <a:srgbClr val="0000ff"/>
                </a:solidFill>
                <a:latin typeface="Calibri"/>
              </a:rPr>
              <a:t> </a:t>
            </a:r>
            <a:r>
              <a:rPr b="0" i="1" lang="ru-RU" sz="3200" spc="-1" strike="noStrike">
                <a:solidFill>
                  <a:srgbClr val="0000ff"/>
                </a:solidFill>
                <a:latin typeface="Times New Roman"/>
              </a:rPr>
              <a:t>Коростенського міськвиконком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Picture 4" descr="image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352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Семененко Олег Юр</a:t>
            </a:r>
            <a:r>
              <a:rPr b="1" i="1" lang="uk-UA" sz="3600" spc="-1" strike="noStrike">
                <a:solidFill>
                  <a:srgbClr val="990033"/>
                </a:solidFill>
                <a:latin typeface="Times New Roman"/>
              </a:rPr>
              <a:t>і</a:t>
            </a: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йович</a:t>
            </a:r>
            <a:br>
              <a:rPr sz="3600"/>
            </a:br>
            <a:r>
              <a:rPr b="0" i="1" lang="ru-RU" sz="2800" spc="-1" strike="noStrike">
                <a:solidFill>
                  <a:srgbClr val="990033"/>
                </a:solidFill>
                <a:latin typeface="Times New Roman"/>
              </a:rPr>
              <a:t>заступник начальника Департаменту розвитку митної інфраструктури та міжнародного співробітництва Державної митної служби України,</a:t>
            </a:r>
            <a:r>
              <a:rPr b="0" i="1" lang="uk-UA" sz="2800" spc="-1" strike="noStrike">
                <a:solidFill>
                  <a:srgbClr val="990033"/>
                </a:solidFill>
                <a:latin typeface="Times New Roman"/>
              </a:rPr>
              <a:t>кандидат політичних наук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7" name="Picture 4" descr="семененко"/>
          <p:cNvPicPr/>
          <p:nvPr/>
        </p:nvPicPr>
        <p:blipFill>
          <a:blip r:embed="rId1"/>
          <a:stretch/>
        </p:blipFill>
        <p:spPr>
          <a:xfrm>
            <a:off x="3203640" y="2997360"/>
            <a:ext cx="2320920" cy="34290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ircl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1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600360" cy="53150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1394280" y="0"/>
            <a:ext cx="67096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33"/>
                </a:solidFill>
                <a:latin typeface="Times New Roman"/>
              </a:rPr>
              <a:t>Пінчук Анатолій Михайл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Гвардії полковник у в</a:t>
            </a:r>
            <a:r>
              <a:rPr b="1" i="1" lang="uk-UA" sz="1600" spc="-1" strike="noStrike">
                <a:solidFill>
                  <a:srgbClr val="990033"/>
                </a:solidFill>
                <a:latin typeface="Times New Roman"/>
              </a:rPr>
              <a:t>ідставці</a:t>
            </a: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. Поч</a:t>
            </a:r>
            <a:r>
              <a:rPr b="1" i="1" lang="uk-UA" sz="1600" spc="-1" strike="noStrike">
                <a:solidFill>
                  <a:srgbClr val="990033"/>
                </a:solidFill>
                <a:latin typeface="Times New Roman"/>
              </a:rPr>
              <a:t>ес</a:t>
            </a: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ний залізнични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990033"/>
                </a:solidFill>
                <a:latin typeface="Times New Roman"/>
              </a:rPr>
              <a:t>Голова Ради Асоціації ветеранів війни та праці залізничників Україн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520720" cy="17557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702160" cy="186372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6" descr=""/>
          <p:cNvPicPr/>
          <p:nvPr/>
        </p:nvPicPr>
        <p:blipFill>
          <a:blip r:embed="rId4"/>
          <a:stretch/>
        </p:blipFill>
        <p:spPr>
          <a:xfrm>
            <a:off x="250920" y="4653000"/>
            <a:ext cx="2449440" cy="1800360"/>
          </a:xfrm>
          <a:prstGeom prst="rect">
            <a:avLst/>
          </a:prstGeom>
          <a:ln w="0">
            <a:noFill/>
          </a:ln>
        </p:spPr>
      </p:pic>
      <p:pic>
        <p:nvPicPr>
          <p:cNvPr id="193" name="Рисунок 7" descr=""/>
          <p:cNvPicPr/>
          <p:nvPr/>
        </p:nvPicPr>
        <p:blipFill>
          <a:blip r:embed="rId5"/>
          <a:stretch/>
        </p:blipFill>
        <p:spPr>
          <a:xfrm>
            <a:off x="6300720" y="4653000"/>
            <a:ext cx="2617920" cy="1812960"/>
          </a:xfrm>
          <a:prstGeom prst="rect">
            <a:avLst/>
          </a:prstGeom>
          <a:ln w="0">
            <a:noFill/>
          </a:ln>
        </p:spPr>
      </p:pic>
    </p:spTree>
  </p:cSld>
  <p:transition spd="slow" advTm="25000">
    <p:circl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3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Рисунок 7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3456000" cy="23922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638520" cy="250992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3" descr=""/>
          <p:cNvPicPr/>
          <p:nvPr/>
        </p:nvPicPr>
        <p:blipFill>
          <a:blip r:embed="rId3"/>
          <a:stretch/>
        </p:blipFill>
        <p:spPr>
          <a:xfrm>
            <a:off x="468360" y="404640"/>
            <a:ext cx="3240000" cy="225612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4" descr=""/>
          <p:cNvPicPr/>
          <p:nvPr/>
        </p:nvPicPr>
        <p:blipFill>
          <a:blip r:embed="rId4"/>
          <a:stretch/>
        </p:blipFill>
        <p:spPr>
          <a:xfrm>
            <a:off x="5435640" y="333360"/>
            <a:ext cx="3193920" cy="21337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6" descr=""/>
          <p:cNvPicPr/>
          <p:nvPr/>
        </p:nvPicPr>
        <p:blipFill>
          <a:blip r:embed="rId5"/>
          <a:stretch/>
        </p:blipFill>
        <p:spPr>
          <a:xfrm>
            <a:off x="2843280" y="1773360"/>
            <a:ext cx="3960720" cy="27208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circl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2000" fill="hold"/>
                                        <p:tgtEl>
                                          <p:spTgt spid="19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3" dur="2000" fill="hold"/>
                                        <p:tgtEl>
                                          <p:spTgt spid="19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7000"/>
                            </p:stCondLst>
                            <p:childTnLst>
                              <p:par>
                                <p:cTn id="3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4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5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5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50000">
              <a:srgbClr val="99ff66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3095640" y="327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1"/>
          <p:cNvSpPr/>
          <p:nvPr/>
        </p:nvSpPr>
        <p:spPr>
          <a:xfrm>
            <a:off x="3605040" y="25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2"/>
          <p:cNvSpPr/>
          <p:nvPr/>
        </p:nvSpPr>
        <p:spPr>
          <a:xfrm>
            <a:off x="395280" y="765720"/>
            <a:ext cx="54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ХОЧ ВІК МІЙ ПОВАЖНИЙ</a:t>
            </a: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,</a:t>
            </a:r>
            <a:r>
              <a:rPr b="1" i="1" lang="ru-RU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ТА СИВІЮТЬ СКРОНІ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ДУШЕЮ Я ВСЕ Ж МОЛО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</a:t>
            </a: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ЩОРОКУ МАЛЕНЬКІ ДИТЯЧІ ДОЛО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</a:t>
            </a: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СТРІЧАЄ НАДІЙНА РУ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І ДУШІ ЦІ ЮН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МОВ СКАРБ НАЙДОРОЖЧ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ПЛЕКАЮТЬ МОЇ ВЧИТЕЛ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</a:t>
            </a: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ЩОБ В СВІТ ЦЕЙ ШИРОКИ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</a:t>
            </a: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РОЗПРАВИВШИ КРИЛ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     </a:t>
            </a:r>
            <a:r>
              <a:rPr b="1" i="1" lang="uk-UA" sz="1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ВІД МЕНЕ ЗЛЕТІТИ ЗМОГЛ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2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31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Рисунок 8" descr="C:\Users\User\Desktop\image.jpg"/>
          <p:cNvPicPr/>
          <p:nvPr/>
        </p:nvPicPr>
        <p:blipFill>
          <a:blip r:embed="rId1"/>
          <a:stretch/>
        </p:blipFill>
        <p:spPr>
          <a:xfrm>
            <a:off x="4643280" y="3284640"/>
            <a:ext cx="3816360" cy="293184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50000">
              <a:srgbClr val="99ff66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1033560" y="2059200"/>
            <a:ext cx="8110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33"/>
                </a:solidFill>
                <a:latin typeface="Times New Roman"/>
              </a:rPr>
              <a:t>СИНИ МОЇ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33"/>
                </a:solidFill>
                <a:latin typeface="Times New Roman"/>
              </a:rPr>
              <a:t>              </a:t>
            </a:r>
            <a:r>
              <a:rPr b="1" lang="uk-UA" sz="4400" spc="-1" strike="noStrike">
                <a:solidFill>
                  <a:srgbClr val="990033"/>
                </a:solidFill>
                <a:latin typeface="Times New Roman"/>
              </a:rPr>
              <a:t>ВЗЯЛ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990033"/>
                </a:solidFill>
                <a:latin typeface="Times New Roman"/>
              </a:rPr>
              <a:t>                 </a:t>
            </a:r>
            <a:r>
              <a:rPr b="1" lang="uk-UA" sz="4400" spc="-1" strike="noStrike">
                <a:solidFill>
                  <a:srgbClr val="990033"/>
                </a:solidFill>
                <a:latin typeface="Times New Roman"/>
              </a:rPr>
              <a:t>МОЇ ВІТРИЛА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circl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5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5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66"/>
            </a:gs>
            <a:gs pos="50000">
              <a:srgbClr val="99ff66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25"/>
          <p:cNvSpPr/>
          <p:nvPr/>
        </p:nvSpPr>
        <p:spPr>
          <a:xfrm>
            <a:off x="2700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Times New Roman"/>
              </a:rPr>
              <a:t>Володимир Васильович Сингаївський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Rectangle 1032"/>
          <p:cNvSpPr/>
          <p:nvPr/>
        </p:nvSpPr>
        <p:spPr>
          <a:xfrm>
            <a:off x="2523960" y="400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1031" descr="Сингаевский"/>
          <p:cNvPicPr/>
          <p:nvPr/>
        </p:nvPicPr>
        <p:blipFill>
          <a:blip r:embed="rId1"/>
          <a:stretch/>
        </p:blipFill>
        <p:spPr>
          <a:xfrm>
            <a:off x="2987640" y="981000"/>
            <a:ext cx="3732120" cy="56898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f8f3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1282e"/>
                </a:solidFill>
                <a:latin typeface="Times New Roman"/>
              </a:rPr>
              <a:t>Смагіна Таїса Миколаївна</a:t>
            </a:r>
            <a:br>
              <a:rPr sz="3600"/>
            </a:br>
            <a:r>
              <a:rPr b="1" i="1" lang="ru-RU" sz="2400" spc="-1" strike="noStrike">
                <a:solidFill>
                  <a:srgbClr val="d1282e"/>
                </a:solidFill>
                <a:latin typeface="Times New Roman"/>
              </a:rPr>
              <a:t>завідувачка кафедри методики викладання навчальних предметів,  кандидат педагогічних наук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2" name="Picture 6" descr="Smagina_T_M"/>
          <p:cNvPicPr/>
          <p:nvPr/>
        </p:nvPicPr>
        <p:blipFill>
          <a:blip r:embed="rId1"/>
          <a:stretch/>
        </p:blipFill>
        <p:spPr>
          <a:xfrm>
            <a:off x="2627280" y="1557360"/>
            <a:ext cx="4048200" cy="50133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ircl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ffff"/>
            </a:gs>
            <a:gs pos="100000">
              <a:srgbClr val="f8f32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cc9900"/>
                </a:solidFill>
                <a:uFillTx/>
                <a:latin typeface="Times New Roman"/>
                <a:hlinkClick r:id="rId1"/>
              </a:rPr>
              <a:t>САВЧУК ОЛЕКСІЙ МИКОЛАЙОВИЧ</a:t>
            </a:r>
            <a:br>
              <a:rPr sz="3600"/>
            </a:b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Доктор біологічних наук, професор, автор понад 200 наукових робіт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4" name="Picture 9" descr="Савчук Олексій Миколайович"/>
          <p:cNvPicPr/>
          <p:nvPr/>
        </p:nvPicPr>
        <p:blipFill>
          <a:blip r:embed="rId2"/>
          <a:stretch/>
        </p:blipFill>
        <p:spPr>
          <a:xfrm>
            <a:off x="2700360" y="1628640"/>
            <a:ext cx="3733920" cy="4969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Times New Roman"/>
              </a:rPr>
              <a:t>Кривонос Олександр Миколайович</a:t>
            </a: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ff"/>
                </a:solidFill>
                <a:latin typeface="Times New Roman"/>
              </a:rPr>
              <a:t>доцент кафедри прикладної математики та інформатики, кандидат педагогічних наук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464328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4" descr="%D0%9A%D1%80%D0%B8%D0%B2%D0%BE%D0%BD%D0%BE%D1%81"/>
          <p:cNvPicPr/>
          <p:nvPr/>
        </p:nvPicPr>
        <p:blipFill>
          <a:blip r:embed="rId1"/>
          <a:stretch/>
        </p:blipFill>
        <p:spPr>
          <a:xfrm>
            <a:off x="2916360" y="1700280"/>
            <a:ext cx="34830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ircl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89ff89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</a:rPr>
              <a:t>Наталія Ладигіна</a:t>
            </a: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 - коростенка, </a:t>
            </a:r>
            <a:br>
              <a:rPr sz="3200"/>
            </a:br>
            <a:r>
              <a:rPr b="1" i="1" lang="ru-RU" sz="3200" spc="-1" strike="noStrike">
                <a:solidFill>
                  <a:srgbClr val="990033"/>
                </a:solidFill>
                <a:latin typeface="Times New Roman"/>
              </a:rPr>
              <a:t>в Білорусі - відомий поет і композитор, автор багатьох пісень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Picture 4" descr="D:\CARS\Мои документы\Мои рисунки\Изображение\Изображение 021.jpg"/>
          <p:cNvPicPr/>
          <p:nvPr/>
        </p:nvPicPr>
        <p:blipFill>
          <a:blip r:embed="rId1"/>
          <a:srcRect l="26193" t="46099" r="29467" b="6856"/>
          <a:stretch/>
        </p:blipFill>
        <p:spPr>
          <a:xfrm>
            <a:off x="2771640" y="1628640"/>
            <a:ext cx="3268800" cy="4703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circl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100000">
              <a:srgbClr val="ff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Times New Roman"/>
              </a:rPr>
              <a:t>Духовною колискою, витоком творчості, невмирущим джерелом натхнення стала наша древлянська земля для багатьох талановитих митців слова</a:t>
            </a: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, і однією з них є</a:t>
            </a:r>
            <a:br>
              <a:rPr sz="2400"/>
            </a:br>
            <a:r>
              <a:rPr b="1" i="1" lang="uk-UA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d1282e"/>
                </a:solidFill>
                <a:latin typeface="Times New Roman"/>
              </a:rPr>
              <a:t>Світлана Баронін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" name="Picture 8" descr="IMG_2773"/>
          <p:cNvPicPr/>
          <p:nvPr/>
        </p:nvPicPr>
        <p:blipFill>
          <a:blip r:embed="rId1"/>
          <a:stretch/>
        </p:blipFill>
        <p:spPr>
          <a:xfrm>
            <a:off x="1835280" y="1916280"/>
            <a:ext cx="5543280" cy="423036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circle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5T12:14:14Z</dcterms:created>
  <dc:creator>1</dc:creator>
  <dc:description/>
  <dc:language>en-US</dc:language>
  <cp:lastModifiedBy>User</cp:lastModifiedBy>
  <dcterms:modified xsi:type="dcterms:W3CDTF">2017-10-05T16:36:18Z</dcterms:modified>
  <cp:revision>129</cp:revision>
  <dc:subject/>
  <dc:title>Презентация PowerPoint</dc:title>
</cp:coreProperties>
</file>