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EBA-1185-442E-9192-3D038364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7D2-C63A-4BAF-93F3-949E53E5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16C-4CBC-46A7-96CA-9A259BAC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A22-FC95-44E6-8D9D-A92326F2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39D-F42B-4F81-8726-FC2F5B9C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EE8-B834-431C-AC97-A58D550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CF1-290B-43C8-AF20-528961D9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6E9-B4B8-468A-BB93-9BBACC28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908-24B2-41C3-B1F0-F63B3B0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5E6-CD4D-46A5-94A7-5FA760B0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424-33AA-4301-B532-530493A1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DEE-6738-4E13-9E50-09BCDB9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63C-BF08-4D25-BC96-1BDBF1226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2480" y="57150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3300"/>
                </a:solidFill>
                <a:latin typeface="Arial"/>
              </a:rPr>
              <a:t>Підготував учитель музичного мистецтва Чернієнко О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6248520" cy="45385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352680" y="5105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Навесні 1956 року 15–</a:t>
            </a: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річний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Джон Леннон створив групу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"The Quarrymen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5715000" cy="4186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657600" y="4800600"/>
            <a:ext cx="48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15 липня 1957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Маккартні</a:t>
            </a: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війшов до складу гру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"The Quarrymen"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5791320" cy="57913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765840" y="2017800"/>
            <a:ext cx="1844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1219320"/>
            <a:ext cx="1905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У 1958 році Пол порадив Джону запросити до групи свого</a:t>
            </a: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шкільного приятеля Джорджа Харріс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5790960" cy="47638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343400" y="54864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Перший виступ “Бітлз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86200" y="304920"/>
            <a:ext cx="4048200" cy="51814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4877640" y="579132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Рінго С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35020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114800" y="3538440"/>
            <a:ext cx="5029200" cy="331956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791320" y="457200"/>
            <a:ext cx="281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Хвиля бітломанії захлеснула британські острови в жовт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63300"/>
                </a:solidFill>
                <a:latin typeface="Arial"/>
              </a:rPr>
              <a:t>1963 року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95480" y="228600"/>
            <a:ext cx="6058080" cy="4765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580200" y="533412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Останній виступ "Бітлз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95120" y="274680"/>
            <a:ext cx="57913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Arial"/>
              </a:rPr>
              <a:t>Безумство фанатів “Бітлз” часів розквіту популярності груп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91120" y="3176640"/>
            <a:ext cx="4952880" cy="36813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90960" cy="39625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6-05-08T21:06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