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22B-F98B-43BC-8AC3-6C5E6C84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1D72-EAE1-4E08-B428-39598CF9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F8A-9B78-40B6-8437-87FB9E91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804-36E2-4C3F-91C9-F6676914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733-3A5A-49F7-938B-0CE29794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995-ACF3-4571-9A47-711CF88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BF6-6213-4A48-8FE8-4CD13530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F1F-F00A-45B2-9375-206BAF0F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5C0-A42B-444C-99FB-BC57302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3A3-A061-49A3-A055-B8B58A0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405-765E-4733-A6F0-88C2787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CD9-D1AB-4AA5-8758-AF9DD4D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C1AC-9E76-4351-8F37-D900895BD8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340000" y="216720"/>
            <a:ext cx="49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Урок у 4-Б клас</a:t>
            </a:r>
            <a:r>
              <a:rPr b="0" lang="uk-UA" sz="4800" spc="-1" strike="noStrike">
                <a:solidFill>
                  <a:srgbClr val="0070c0"/>
                </a:solidFill>
                <a:latin typeface="Calibri"/>
                <a:ea typeface="Calibri"/>
              </a:rPr>
              <a:t>і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рис 27-02 мальчик книга.png"/>
          <p:cNvPicPr/>
          <p:nvPr/>
        </p:nvPicPr>
        <p:blipFill>
          <a:blip r:embed="rId1"/>
          <a:stretch/>
        </p:blipFill>
        <p:spPr>
          <a:xfrm>
            <a:off x="2000160" y="1500120"/>
            <a:ext cx="4640400" cy="41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P5EVHDMI\Desktop\BlueMarble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  <p:pic>
        <p:nvPicPr>
          <p:cNvPr id="55" name="20171025_162714 (3).mp3" descr=""/>
          <p:cNvPicPr/>
          <p:nvPr/>
        </p:nvPicPr>
        <p:blipFill>
          <a:blip r:embed="rId2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6148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Users\P5EVHDMI\Desktop\zheltoe-solnce-vosxodit-1920x1080-67990631-500x281.jpg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408720"/>
          </a:xfrm>
          <a:prstGeom prst="rect">
            <a:avLst/>
          </a:prstGeom>
          <a:ln w="0">
            <a:noFill/>
          </a:ln>
        </p:spPr>
      </p:pic>
      <p:pic>
        <p:nvPicPr>
          <p:cNvPr id="57" name="20171025_162916.mp3" descr=""/>
          <p:cNvPicPr/>
          <p:nvPr/>
        </p:nvPicPr>
        <p:blipFill>
          <a:blip r:embed="rId2"/>
          <a:stretch/>
        </p:blipFill>
        <p:spPr>
          <a:xfrm>
            <a:off x="8748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420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Users\P5EVHDMI\Desktop\mama-s-dochkoj-kartina-750x776.jpg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83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C:\Users\P5EVHDMI\Desktop\rabstol_net_inside_out_03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Users\P5EVHDMI\Desktop\Планета_Земля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78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Users\P5EVHDMI\Desktop\maxresdefault.jpg"/>
          <p:cNvPicPr/>
          <p:nvPr/>
        </p:nvPicPr>
        <p:blipFill>
          <a:blip r:embed="rId1"/>
          <a:stretch/>
        </p:blipFill>
        <p:spPr>
          <a:xfrm>
            <a:off x="-6122880" y="-700200"/>
            <a:ext cx="18288000" cy="11430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68360" y="2510280"/>
            <a:ext cx="853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600" spc="-1" strike="noStrike">
                <a:solidFill>
                  <a:srgbClr val="ff0000"/>
                </a:solidFill>
                <a:latin typeface="Calibri"/>
                <a:ea typeface="Times New Roman"/>
              </a:rPr>
              <a:t>Молодці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1754280" y="208440"/>
            <a:ext cx="57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  <a:ea typeface="Calibri"/>
              </a:rPr>
              <a:t>Вправа «Очікуванн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рис 2-02 девочка мальчик проверка дом задание.png"/>
          <p:cNvPicPr/>
          <p:nvPr/>
        </p:nvPicPr>
        <p:blipFill>
          <a:blip r:embed="rId1"/>
          <a:stretch/>
        </p:blipFill>
        <p:spPr>
          <a:xfrm>
            <a:off x="1500120" y="2143080"/>
            <a:ext cx="5286600" cy="4394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09040" y="479160"/>
            <a:ext cx="731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  <a:ea typeface="Calibri"/>
              </a:rPr>
              <a:t>Будь господарем свого сл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900000" y="3244680"/>
            <a:ext cx="78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7030a0"/>
                </a:solidFill>
                <a:latin typeface="Arial"/>
              </a:rPr>
              <a:t>ВСЕБУДЬСВІТГОСПОДАРЕМІМЕНСВОГОНИК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268360" y="260280"/>
            <a:ext cx="47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ВСЕСВІТ       </a:t>
            </a:r>
            <a:r>
              <a:rPr b="0" lang="uk-UA" sz="4000" spc="-1" strike="noStrike">
                <a:solidFill>
                  <a:srgbClr val="7030a0"/>
                </a:solidFill>
                <a:latin typeface="Calibri"/>
              </a:rPr>
              <a:t>ІМЕН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рис 27-02 мальчик книга.png"/>
          <p:cNvPicPr/>
          <p:nvPr/>
        </p:nvPicPr>
        <p:blipFill>
          <a:blip r:embed="rId1"/>
          <a:stretch/>
        </p:blipFill>
        <p:spPr>
          <a:xfrm>
            <a:off x="2143080" y="2357280"/>
            <a:ext cx="4640400" cy="4138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C:\Users\P5EVHDMI\Desktop\zori.jpg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ject 2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6771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P5EVHDMI\Desktop\astrology1.jpg"/>
          <p:cNvPicPr/>
          <p:nvPr/>
        </p:nvPicPr>
        <p:blipFill>
          <a:blip r:embed="rId2"/>
          <a:stretch/>
        </p:blipFill>
        <p:spPr>
          <a:xfrm>
            <a:off x="395280" y="189000"/>
            <a:ext cx="8424720" cy="6119640"/>
          </a:xfrm>
          <a:prstGeom prst="rect">
            <a:avLst/>
          </a:prstGeom>
          <a:ln w="0">
            <a:noFill/>
          </a:ln>
        </p:spPr>
      </p:pic>
      <p:pic>
        <p:nvPicPr>
          <p:cNvPr id="52" name="20171025_161149 (online-audio-converter.com) (1).mp3" descr=""/>
          <p:cNvPicPr/>
          <p:nvPr/>
        </p:nvPicPr>
        <p:blipFill>
          <a:blip r:embed="rId3"/>
          <a:stretch/>
        </p:blipFill>
        <p:spPr>
          <a:xfrm>
            <a:off x="7564320" y="5764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147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C:\Users\P5EVHDMI\Desktop\7cd03932c684539c0f467f788752a5f7.jpg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337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P5EVHDMI</cp:lastModifiedBy>
  <dcterms:modified xsi:type="dcterms:W3CDTF">2017-10-25T16:55:42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1</vt:bool>
  </property>
  <property fmtid="{D5CDD505-2E9C-101B-9397-08002B2CF9AE}" pid="4" name="MayClose">
    <vt:bool>0</vt:bool>
  </property>
  <property fmtid="{D5CDD505-2E9C-101B-9397-08002B2CF9AE}" pid="5" name="StrPasteIntoNotes">
    <vt:lpwstr/>
  </property>
  <property fmtid="{D5CDD505-2E9C-101B-9397-08002B2CF9AE}" pid="6" name="UserClose">
    <vt:bool>0</vt:bool>
  </property>
</Properties>
</file>