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E627-1BC4-4BE7-996E-812C6732D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7506-A48B-4137-85B3-1BE7D467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5F2E-3AD7-4D62-BAE2-78B82F17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3E4E-9547-4E8B-8EE7-EFD95937B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B20E-D548-4C4E-931E-FD607938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6237-DB32-4218-9A29-6E518049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64DA-22B9-477F-B53E-8A82DB95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6651-C439-4476-8DEF-5C4A3B88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8C10-3E42-4420-A9BC-7EC5A0A1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F32A-1B9A-47CE-8FD1-BFB5F234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A3C8-468D-4987-AA15-DBF2111D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A351-4250-4DB6-922C-098EB0A2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847B-FE5B-4E36-9F61-F240DA263C77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0070c0"/>
                </a:solidFill>
                <a:latin typeface="Calibri"/>
              </a:rPr>
              <a:t>Усміхнись 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3714840"/>
            <a:ext cx="82296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Calibri"/>
              </a:rPr>
              <a:t>Барвінок -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uk-UA" sz="4800" spc="-1" strike="noStrike">
                <a:solidFill>
                  <a:srgbClr val="ffff00"/>
                </a:solidFill>
                <a:latin typeface="Calibri"/>
              </a:rPr>
              <a:t>символ життя та безсмертя душі людської, оберіг від зла, зілля кохання та дівочої краси.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c00000"/>
                </a:solidFill>
                <a:latin typeface="Calibri"/>
              </a:rPr>
              <a:t>Ромашка</a:t>
            </a:r>
            <a:br>
              <a:rPr sz="4800"/>
            </a:br>
            <a:r>
              <a:rPr b="1" lang="uk-UA" sz="4800" spc="-1" strike="noStrike">
                <a:solidFill>
                  <a:srgbClr val="c00000"/>
                </a:solidFill>
                <a:latin typeface="Calibri"/>
              </a:rPr>
              <a:t> означає ніжність.</a:t>
            </a:r>
            <a:r>
              <a:rPr b="1" i="1" lang="uk-UA" sz="4800" spc="-1" strike="noStrike">
                <a:solidFill>
                  <a:srgbClr val="c00000"/>
                </a:solidFill>
                <a:latin typeface="Calibri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1f497d"/>
                </a:solidFill>
                <a:latin typeface="Calibri"/>
              </a:rPr>
              <a:t>Троянда – символ любові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uk-UA" sz="4800" spc="-1" strike="noStrike">
                <a:solidFill>
                  <a:srgbClr val="ffff00"/>
                </a:solidFill>
                <a:latin typeface="Calibri"/>
              </a:rPr>
              <a:t>Мальва означає надію</a:t>
            </a:r>
            <a:r>
              <a:rPr b="1" lang="uk-UA" sz="4400" spc="-1" strike="noStrike">
                <a:solidFill>
                  <a:srgbClr val="ffff00"/>
                </a:solidFill>
                <a:latin typeface="Calibri"/>
              </a:rPr>
              <a:t>.</a:t>
            </a:r>
            <a:r>
              <a:rPr b="1" i="1" lang="uk-UA" sz="4400" spc="-1" strike="noStrike">
                <a:solidFill>
                  <a:srgbClr val="ffff00"/>
                </a:solidFill>
                <a:latin typeface="Calibri"/>
              </a:rPr>
              <a:t> 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840" y="528588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800"/>
            </a:br>
            <a:r>
              <a:rPr b="1" lang="uk-UA" sz="4800" spc="-1" strike="noStrike">
                <a:solidFill>
                  <a:srgbClr val="ffff00"/>
                </a:solidFill>
                <a:latin typeface="Calibri"/>
              </a:rPr>
              <a:t>Квіточка півонії – символ віри.</a:t>
            </a:r>
            <a:r>
              <a:rPr b="1" i="1" lang="uk-UA" sz="4800" spc="-1" strike="noStrike">
                <a:solidFill>
                  <a:srgbClr val="ffff00"/>
                </a:solidFill>
                <a:latin typeface="Calibri"/>
              </a:rPr>
              <a:t> </a:t>
            </a:r>
            <a:br>
              <a:rPr sz="4800"/>
            </a:b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Волошки у віночку — символ людяності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5840" y="4714560"/>
            <a:ext cx="86580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Мак - квітка мрій, символ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родючості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2560" y="5143680"/>
            <a:ext cx="450036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76092"/>
                </a:solidFill>
                <a:latin typeface="Calibri"/>
              </a:rPr>
              <a:t>Дякую за увагу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7840" y="1356840"/>
            <a:ext cx="4000320" cy="46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00"/>
                </a:solidFill>
                <a:latin typeface="Calibri"/>
              </a:rPr>
              <a:t>Пора рок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00"/>
                </a:solidFill>
                <a:latin typeface="Calibri"/>
              </a:rPr>
              <a:t>Місяц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00"/>
                </a:solidFill>
                <a:latin typeface="Calibri"/>
              </a:rPr>
              <a:t>Суттєві ознаки місяц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00"/>
                </a:solidFill>
                <a:latin typeface="Calibri"/>
              </a:rPr>
              <a:t>Зміни в неживій природі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00"/>
                </a:solidFill>
                <a:latin typeface="Calibri"/>
              </a:rPr>
              <a:t>Зміни в живій природі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8" descr=""/>
          <p:cNvPicPr/>
          <p:nvPr/>
        </p:nvPicPr>
        <p:blipFill>
          <a:blip r:embed="rId2"/>
          <a:stretch/>
        </p:blipFill>
        <p:spPr>
          <a:xfrm>
            <a:off x="165240" y="42840"/>
            <a:ext cx="8807400" cy="1060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6" descr=""/>
          <p:cNvPicPr/>
          <p:nvPr/>
        </p:nvPicPr>
        <p:blipFill>
          <a:blip r:embed="rId2"/>
          <a:stretch/>
        </p:blipFill>
        <p:spPr>
          <a:xfrm>
            <a:off x="212760" y="298440"/>
            <a:ext cx="8748720" cy="118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42920" y="3285720"/>
            <a:ext cx="8572320" cy="28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Calibri"/>
              </a:rPr>
              <a:t>Квіточка деревію - це символ нескореності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Прямоугольник 5" descr=""/>
          <p:cNvPicPr/>
          <p:nvPr/>
        </p:nvPicPr>
        <p:blipFill>
          <a:blip r:embed="rId2"/>
          <a:stretch/>
        </p:blipFill>
        <p:spPr>
          <a:xfrm>
            <a:off x="-13215960" y="2451240"/>
            <a:ext cx="8283600" cy="211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471456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Calibri"/>
              </a:rPr>
              <a:t>Квіточка безсмертника – це символ невмирущості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357120" y="4500720"/>
            <a:ext cx="8143920" cy="1556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Calibri"/>
              </a:rPr>
              <a:t>Гілочка калини - це символ краси та вроди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5840" y="478620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Calibri"/>
              </a:rPr>
              <a:t>Цвіт вишні – символ материнської любові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457164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Calibri"/>
              </a:rPr>
              <a:t>Квіточка любистку - це символ відданості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2T17:41:04Z</dcterms:created>
  <dc:creator>comp</dc:creator>
  <dc:description/>
  <dc:language>en-US</dc:language>
  <cp:lastModifiedBy>comp</cp:lastModifiedBy>
  <dcterms:modified xsi:type="dcterms:W3CDTF">2017-11-29T20:39:21Z</dcterms:modified>
  <cp:revision>32</cp:revision>
  <dc:subject/>
  <dc:title>Слайд 1</dc:title>
</cp:coreProperties>
</file>