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90ED-8D62-4F6B-BF98-0BE23F52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37C-48AF-40A1-8DAC-726167A9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247E-7FEC-40D5-AF61-12714C8A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0A92-476C-4FC5-86AB-D5DADB98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EAA7-BE31-4B77-A82D-4F6A4CC2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51BA-802A-493C-AF14-45500176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12B3-97C4-4577-8D9C-830B0C32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968A-0093-432B-A43A-2906F98E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7054-E0BC-4CDE-98C9-EE7810D0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9C22-42BB-45F4-A359-652AA170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2964-1C9B-4027-AEE0-C923B64A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CE3-90F5-46B6-9B23-1363AEE9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72FF-3554-47E4-8876-131294BB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6B8D-84DF-4634-89BA-D978890D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FCA7-F882-485A-9A57-0D688DD8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2CE9-725F-4564-AFDB-7E262659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7360-54ED-40AB-934D-6710076F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A9A42-76A5-4B97-BEEB-2CEE8050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2F774-53DA-4121-A712-29FE1834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3FC68-B558-4851-B3F8-16F3C7FA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BA235-CFED-44C5-97AB-02EFA1F4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8EE4E-F395-4AA4-B4D4-ED59FB99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97D2-333A-4028-9A88-A34B5547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C2A25-B9DF-4596-960D-5B5B92F3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A804D-3AD4-494D-9C7B-ED651B40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825DF-0596-4558-9656-2D50318A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3666C-928F-4D6C-93E5-57A60337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F9C5A-9BCB-406F-A157-93573F41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C1602-A40D-4F0D-BCC2-EC0D15F3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7F220-FC7A-4350-876C-0C9D8388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6B3C3-27E5-4C8D-9A4A-9AAF3ED2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F2A59-C34E-4C51-8DB9-FDD9737F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B8FD4-AA15-4801-A68E-4BC17278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CF4-A0B0-40F8-BCA1-31F664F4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31D9A-FC61-417D-9788-4E4FF267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71BCF-2DE7-41DE-846F-D9A59E43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5FB5B-DBD0-4B58-95FD-02E47F36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C985C-FE0C-49A8-9F91-ADFCB31A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A205C-B460-4C8B-A0C9-E427CE4C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987E9-5E32-4DFB-A1AE-4251C517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7B528-D00C-4A19-A89F-CB4AA786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8D6C9-46E2-4386-BFF0-8ACCF7DD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E1663-D692-4B1C-8EB9-356ADA3A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655C-7378-4DF5-9C78-E7404921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DAC-A946-4D22-9F64-5C4822E5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910-FC03-45DF-950F-ADF6B15E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D1B6-57FD-45A2-847A-9D9A016A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65AF-A2DF-4048-A730-0E5B3458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A39C5E-E10B-4669-8B45-5790016585A4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35311C-1185-415A-BD8F-126806BFE548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FA70D2-398E-434A-A095-77E614DD1FA7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AB082D-848D-4C9A-9876-860F26B72D70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1069;&#1087;&#1080;&#1079;&#1086;&#1076;%2001_1.mp4" TargetMode="External"/><Relationship Id="rId2" Type="http://schemas.openxmlformats.org/officeDocument/2006/relationships/hyperlink" Target="E:\&#1110;&#1085;&#1090;&#1077;&#1075;&#1088;&#1086;&#1074;&#1072;&#1085;&#1080;&#1081; &#1091;&#1088;&#1086;&#1082;2\&#1069;&#1087;&#1080;&#1079;&#1086;&#1076; 01_1.mp4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My SCHOOL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620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Listening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)Say if the sentences are true or fal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1. British children start school when they are 6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2.They leave their primary school when they are 11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3. When they are 13 they go to the 10</a:t>
            </a:r>
            <a:r>
              <a:rPr b="0" lang="en-US" sz="2400" spc="-1" strike="noStrike" baseline="30000">
                <a:solidFill>
                  <a:srgbClr val="404040"/>
                </a:solidFill>
                <a:latin typeface="Trebuchet MS"/>
              </a:rPr>
              <a:t>th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form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4. They start school day at 8 o’clock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5. They don’t have lessons in the afterno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6. British pupils wear a uniform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7. They go to school on Saturday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orrect answer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a) Say if the sentences are true or false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British children start school when they are 6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en-US" sz="2800" spc="-1" strike="noStrike">
                <a:solidFill>
                  <a:srgbClr val="54a021"/>
                </a:solidFill>
                <a:latin typeface="Trebuchet MS"/>
              </a:rPr>
              <a:t>They leave their primary school when they are 11.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3.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When they are 13 they go to the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rebuchet MS"/>
              </a:rPr>
              <a:t>th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 form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4.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They start school day at 8 o’clock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5.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They don’t have lessons in the afternoon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6. </a:t>
            </a:r>
            <a:r>
              <a:rPr b="0" lang="en-US" sz="2800" spc="-1" strike="noStrike">
                <a:solidFill>
                  <a:srgbClr val="54a021"/>
                </a:solidFill>
                <a:latin typeface="Trebuchet MS"/>
              </a:rPr>
              <a:t>British pupils wear a uniform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7.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They go to school on Saturdays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reating the present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852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3080">
              <a:spcBef>
                <a:spcPts val="1001"/>
              </a:spcBef>
              <a:buClr>
                <a:srgbClr val="404040"/>
              </a:buClr>
              <a:buSzPct val="80000"/>
              <a:buFont typeface="Trebuchet MS"/>
              <a:buAutoNum type="alphaLcParenR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scuss the questions in groups</a:t>
            </a:r>
            <a:r>
              <a:rPr b="0" lang="uk-UA" sz="2400" spc="-1" strike="noStrike">
                <a:solidFill>
                  <a:srgbClr val="40404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4520" indent="-343080">
              <a:spcBef>
                <a:spcPts val="1001"/>
              </a:spcBef>
              <a:buClr>
                <a:srgbClr val="404040"/>
              </a:buClr>
              <a:buSzPct val="80000"/>
              <a:buFont typeface="Trebuchet MS"/>
              <a:buAutoNum type="alphaLcParenR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reate your presentation</a:t>
            </a:r>
            <a:r>
              <a:rPr b="0" lang="uk-UA" sz="2400" spc="-1" strike="noStrike">
                <a:solidFill>
                  <a:srgbClr val="40404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4520" indent="-343080">
              <a:spcBef>
                <a:spcPts val="1001"/>
              </a:spcBef>
              <a:buClr>
                <a:srgbClr val="404040"/>
              </a:buClr>
              <a:buSzPct val="80000"/>
              <a:buFont typeface="Trebuchet MS"/>
              <a:buAutoNum type="alphaLcParenR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esent your presentation to the class</a:t>
            </a:r>
            <a:r>
              <a:rPr b="0" lang="uk-UA" sz="24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Picture 4" descr="картинка школи"/>
          <p:cNvPicPr/>
          <p:nvPr/>
        </p:nvPicPr>
        <p:blipFill>
          <a:blip r:embed="rId1"/>
          <a:stretch/>
        </p:blipFill>
        <p:spPr>
          <a:xfrm>
            <a:off x="3276720" y="4292640"/>
            <a:ext cx="285732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ummary</a:t>
            </a:r>
            <a:br>
              <a:rPr sz="3600"/>
            </a:b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inish the sentences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164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My school is the best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(I like my school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I am happy to study at school.)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Because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So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omewor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164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reate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presentation “My school and I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uk-UA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Trebuchet MS"/>
              </a:rPr>
              <a:t>Thank you for attention!</a:t>
            </a:r>
            <a:endParaRPr b="0" lang="en-US" sz="7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90c226"/>
                </a:solidFill>
                <a:latin typeface="Trebuchet MS"/>
              </a:rPr>
              <a:t>Learning Outlook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05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By the end of the lesson the students are expected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-to be able to create presentation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-speak about schoo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uk-UA" sz="4400" spc="-1" strike="noStrike">
                <a:solidFill>
                  <a:srgbClr val="90c226"/>
                </a:solidFill>
                <a:latin typeface="Trebuchet MS"/>
              </a:rPr>
              <a:t>Епіграф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000" y="1125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Хто володіє інформацією, той володіє світом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                                    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У. Черч</a:t>
            </a:r>
            <a:r>
              <a:rPr b="0" lang="uk-UA" sz="2800" spc="-1" strike="noStrike">
                <a:solidFill>
                  <a:srgbClr val="404040"/>
                </a:solidFill>
                <a:latin typeface="Arial"/>
              </a:rPr>
              <a:t>и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лл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Picture 4" descr="картинка компютера"/>
          <p:cNvPicPr/>
          <p:nvPr/>
        </p:nvPicPr>
        <p:blipFill>
          <a:blip r:embed="rId1"/>
          <a:stretch/>
        </p:blipFill>
        <p:spPr>
          <a:xfrm>
            <a:off x="1692360" y="2190600"/>
            <a:ext cx="5905440" cy="46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0c226"/>
                </a:solidFill>
                <a:latin typeface="Trebuchet MS"/>
              </a:rPr>
              <a:t>Poem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Read the poem and fill in the adjectiv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oaring, cool,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mart, easy,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hard,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boring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chool is_______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chool is_______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chool can make me____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chool has tools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chool can be_____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chool makes my mind____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oe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chool is easy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chool is hard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chool can make me smart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chool can be cool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chool has too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chool can be boring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chool makes my mind soaring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ПРАВИЛА ТЕХНІКИ БЕЗПЕК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НЕ потрібно умикати або вимикати апаратуру без вказівки вчителя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Знаходитися в кабінеті у верхньому або вологому одяз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Торкатися до апаратури вологими або брудними рук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Самостійно усувати несправність у роботі компютер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Бігати по кабінет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Заважати роботі інших учні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We use computer for</a:t>
            </a: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:</a:t>
            </a:r>
            <a:br>
              <a:rPr sz="3600"/>
            </a:br>
            <a:r>
              <a:rPr b="0" lang="en-US" sz="2500" spc="-1" strike="noStrike">
                <a:solidFill>
                  <a:srgbClr val="90c226"/>
                </a:solidFill>
                <a:latin typeface="Trebuchet MS"/>
              </a:rPr>
              <a:t>Match the words and word-combinations with their translation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1. saving notes                             a) 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перекла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2.making research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                   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b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) зберігання музики, зображень,                      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3.managing projects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                       відео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4.searching information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           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) ігор і спілкуванн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5.learning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                                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) зберігання записі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6.saving music,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mages and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      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) виконання досліджень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videos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                                   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) керування проектам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7.games and communication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g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) пошуку інформації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8.translation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                            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) навчанн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ake up sentences with the words combina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90c22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306828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5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404040"/>
                </a:solidFill>
                <a:latin typeface="Arial"/>
              </a:rPr>
              <a:t>Check on your mail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236520" indent="-23544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Your friend sent you an e-mail about his or her school day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36520" indent="-235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Who sent you an e-mail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36520" indent="-235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Whom did you send an e-mail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4" descr="каринка електроний поштиґ"/>
          <p:cNvPicPr/>
          <p:nvPr/>
        </p:nvPicPr>
        <p:blipFill>
          <a:blip r:embed="rId1"/>
          <a:stretch/>
        </p:blipFill>
        <p:spPr>
          <a:xfrm>
            <a:off x="3419640" y="981000"/>
            <a:ext cx="329544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isten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164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Watch the video and be ready to do the task and answer the question mentioned in the video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Picture 4" descr="картинка британськой школи"/>
          <p:cNvPicPr/>
          <p:nvPr/>
        </p:nvPicPr>
        <p:blipFill>
          <a:blip r:embed="rId1"/>
          <a:stretch/>
        </p:blipFill>
        <p:spPr>
          <a:xfrm>
            <a:off x="179280" y="3357720"/>
            <a:ext cx="8785440" cy="293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1T15:10:06Z</dcterms:created>
  <dc:creator>АИ</dc:creator>
  <dc:description/>
  <dc:language>en-US</dc:language>
  <cp:lastModifiedBy>АИ</cp:lastModifiedBy>
  <dcterms:modified xsi:type="dcterms:W3CDTF">2017-11-11T06:31:28Z</dcterms:modified>
  <cp:revision>26</cp:revision>
  <dc:subject/>
  <dc:title>Слайд 1</dc:title>
</cp:coreProperties>
</file>