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9.png" ContentType="image/png"/>
  <Override PartName="/ppt/media/image6.gif" ContentType="image/gif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58C-E8D9-4416-9740-902D6C16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B16-1239-4F1B-BF9C-AD3EA986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7A3-5F79-4ED9-A5D0-2C59D3DA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61A-876F-4D07-AB79-6693878A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DFD-BE14-4204-BFFE-1AAD01CB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6B2-8C8F-44CB-8048-618D8C5B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AF2-2F41-42BD-97B5-66BC99A6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DF8-DA3D-45C0-8430-332C5B33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4C2-C50A-40A5-BF45-DD4F2A15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786-5C74-4F29-8B72-1DF7CBE3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F59-8958-43FF-9110-C4EFE8D7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4D9-130D-4869-8FFB-D5931540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84AD-E917-4821-ABF6-20DEC2A8D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258920" y="5493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uk-UA" sz="6000" spc="-1" strike="noStrike">
                <a:solidFill>
                  <a:srgbClr val="a50021"/>
                </a:solidFill>
                <a:latin typeface="Arial"/>
              </a:rPr>
              <a:t>Я у світ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219480" y="385128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2411280" y="3068640"/>
            <a:ext cx="4104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3 кл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http://img1.liveinternet.ru/images/attach/c/4/84/51/84051513_proschenie_motivato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0" y="5643720"/>
            <a:ext cx="9144000" cy="1226880"/>
          </a:xfrm>
          <a:prstGeom prst="rect">
            <a:avLst/>
          </a:prstGeom>
          <a:solidFill>
            <a:srgbClr val="548dd4"/>
          </a:solidFill>
          <a:ln w="936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ому, хто вибачає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життя повертає вдвічі бі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539640" y="404640"/>
            <a:ext cx="7993080" cy="597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:\документи\Фони для презентацій\1680colourback_1008.jpg"/>
          <p:cNvPicPr/>
          <p:nvPr/>
        </p:nvPicPr>
        <p:blipFill>
          <a:blip r:embed="rId3"/>
          <a:stretch/>
        </p:blipFill>
        <p:spPr>
          <a:xfrm>
            <a:off x="539640" y="404640"/>
            <a:ext cx="7993080" cy="59770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9"/>
          <p:cNvSpPr txBox="1"/>
          <p:nvPr/>
        </p:nvSpPr>
        <p:spPr>
          <a:xfrm>
            <a:off x="755640" y="1844640"/>
            <a:ext cx="72738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Людські чесно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08" name="Рисунок 45" descr="http://www.koipkro.kostroma.ru/ostrov/Oschool/matem/DocLib1/post-70101-1236449698_thumb.png"/>
          <p:cNvPicPr/>
          <p:nvPr/>
        </p:nvPicPr>
        <p:blipFill>
          <a:blip r:embed="rId4"/>
          <a:stretch/>
        </p:blipFill>
        <p:spPr>
          <a:xfrm>
            <a:off x="3059280" y="3573360"/>
            <a:ext cx="26193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611280" y="404640"/>
            <a:ext cx="7993080" cy="5977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3219480" y="385128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.wmv" descr=""/>
          <p:cNvPicPr/>
          <p:nvPr/>
        </p:nvPicPr>
        <p:blipFill>
          <a:blip r:embed="rId3"/>
          <a:stretch/>
        </p:blipFill>
        <p:spPr>
          <a:xfrm>
            <a:off x="-236520" y="-412920"/>
            <a:ext cx="9880560" cy="727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500040" y="428760"/>
            <a:ext cx="7993080" cy="59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3203640" y="386064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139"/>
          <p:cNvPicPr/>
          <p:nvPr/>
        </p:nvPicPr>
        <p:blipFill>
          <a:blip r:embed="rId3"/>
          <a:stretch/>
        </p:blipFill>
        <p:spPr>
          <a:xfrm>
            <a:off x="6327720" y="549360"/>
            <a:ext cx="1930320" cy="18795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1071720" y="2714760"/>
            <a:ext cx="72738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Робота в групах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611280" y="404640"/>
            <a:ext cx="7993080" cy="5977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687240" y="692280"/>
            <a:ext cx="299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обіцяв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13080" y="1700280"/>
            <a:ext cx="416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кщо довір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аємниц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14880" y="3213000"/>
            <a:ext cx="40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Не впевнений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4160" y="5084640"/>
            <a:ext cx="416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був викон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біцянку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294520" y="692280"/>
            <a:ext cx="3584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3500" spc="-1" strike="noStrike">
                <a:solidFill>
                  <a:srgbClr val="000000"/>
                </a:solidFill>
                <a:latin typeface="Arial"/>
              </a:rPr>
              <a:t>не видавай її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437800" y="170028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не обіця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367600" y="3213000"/>
            <a:ext cx="331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неодмін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рос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ибачення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437080" y="5084640"/>
            <a:ext cx="19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роб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7"/>
          <p:cNvSpPr/>
          <p:nvPr/>
        </p:nvSpPr>
        <p:spPr>
          <a:xfrm>
            <a:off x="4284720" y="981000"/>
            <a:ext cx="21600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8"/>
          <p:cNvSpPr/>
          <p:nvPr/>
        </p:nvSpPr>
        <p:spPr>
          <a:xfrm>
            <a:off x="4356000" y="2565360"/>
            <a:ext cx="21600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4356000" y="3860640"/>
            <a:ext cx="216000" cy="21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0"/>
          <p:cNvSpPr/>
          <p:nvPr/>
        </p:nvSpPr>
        <p:spPr>
          <a:xfrm>
            <a:off x="4356000" y="5950080"/>
            <a:ext cx="21600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5148360" y="981000"/>
            <a:ext cx="215640" cy="21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2"/>
          <p:cNvSpPr/>
          <p:nvPr/>
        </p:nvSpPr>
        <p:spPr>
          <a:xfrm>
            <a:off x="5148360" y="1989000"/>
            <a:ext cx="215640" cy="21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5148360" y="3500280"/>
            <a:ext cx="215640" cy="21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4"/>
          <p:cNvSpPr/>
          <p:nvPr/>
        </p:nvSpPr>
        <p:spPr>
          <a:xfrm>
            <a:off x="5148360" y="5373720"/>
            <a:ext cx="215640" cy="21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>
            <a:off x="4788000" y="404640"/>
            <a:ext cx="71280" cy="590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539640" y="1557360"/>
            <a:ext cx="806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539640" y="3141720"/>
            <a:ext cx="813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539640" y="5157720"/>
            <a:ext cx="806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>
            <a:off x="4427640" y="1197000"/>
            <a:ext cx="792000" cy="41767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 flipV="1">
            <a:off x="4500720" y="1196640"/>
            <a:ext cx="718920" cy="13683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 flipV="1">
            <a:off x="4500720" y="2204640"/>
            <a:ext cx="718920" cy="1655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 flipV="1">
            <a:off x="4500720" y="3715920"/>
            <a:ext cx="718920" cy="2233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611280" y="404640"/>
            <a:ext cx="7993080" cy="5977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2392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611280" y="4762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Якщо довіри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таємницю -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не видавай її.        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45" descr="http://www.koipkro.kostroma.ru/ostrov/Oschool/matem/DocLib1/post-70101-1236449698_thumb.png"/>
          <p:cNvPicPr/>
          <p:nvPr/>
        </p:nvPicPr>
        <p:blipFill>
          <a:blip r:embed="rId3"/>
          <a:stretch/>
        </p:blipFill>
        <p:spPr>
          <a:xfrm>
            <a:off x="5859360" y="2571840"/>
            <a:ext cx="2560680" cy="2590560"/>
          </a:xfrm>
          <a:prstGeom prst="rect">
            <a:avLst/>
          </a:prstGeom>
          <a:ln w="0">
            <a:noFill/>
          </a:ln>
        </p:spPr>
      </p:pic>
      <p:sp>
        <p:nvSpPr>
          <p:cNvPr id="157" name="WordArt 9"/>
          <p:cNvSpPr txBox="1"/>
          <p:nvPr/>
        </p:nvSpPr>
        <p:spPr>
          <a:xfrm>
            <a:off x="1547640" y="5157720"/>
            <a:ext cx="6193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Делікатні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539640" y="404640"/>
            <a:ext cx="7993080" cy="5977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203640" y="386064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3348000" y="2781360"/>
            <a:ext cx="251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f1a0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якую</a:t>
            </a:r>
            <a:endParaRPr b="0" lang="en-US" sz="1800" spc="1" strike="noStrike">
              <a:ln w="0">
                <a:noFill/>
              </a:ln>
              <a:solidFill>
                <a:srgbClr val="8f1a0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12"/>
          <p:cNvSpPr txBox="1"/>
          <p:nvPr/>
        </p:nvSpPr>
        <p:spPr>
          <a:xfrm>
            <a:off x="3564000" y="2924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f1a0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і</a:t>
            </a:r>
            <a:endParaRPr b="0" lang="en-US" sz="1800" spc="1" strike="noStrike">
              <a:ln w="0">
                <a:noFill/>
              </a:ln>
              <a:solidFill>
                <a:srgbClr val="8f1a0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WordArt 13" descr=""/>
          <p:cNvPicPr/>
          <p:nvPr/>
        </p:nvPicPr>
        <p:blipFill>
          <a:blip r:embed="rId3"/>
          <a:stretch/>
        </p:blipFill>
        <p:spPr>
          <a:xfrm>
            <a:off x="3780000" y="3067200"/>
            <a:ext cx="3054240" cy="676080"/>
          </a:xfrm>
          <a:prstGeom prst="rect">
            <a:avLst/>
          </a:prstGeom>
          <a:ln w="0">
            <a:noFill/>
          </a:ln>
        </p:spPr>
      </p:pic>
      <p:pic>
        <p:nvPicPr>
          <p:cNvPr id="166" name="WordArt 14" descr=""/>
          <p:cNvPicPr/>
          <p:nvPr/>
        </p:nvPicPr>
        <p:blipFill>
          <a:blip r:embed="rId4"/>
          <a:stretch/>
        </p:blipFill>
        <p:spPr>
          <a:xfrm>
            <a:off x="3992400" y="3352680"/>
            <a:ext cx="2988000" cy="104328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15" descr=""/>
          <p:cNvPicPr/>
          <p:nvPr/>
        </p:nvPicPr>
        <p:blipFill>
          <a:blip r:embed="rId5"/>
          <a:stretch/>
        </p:blipFill>
        <p:spPr>
          <a:xfrm>
            <a:off x="3852720" y="3852720"/>
            <a:ext cx="3200400" cy="609840"/>
          </a:xfrm>
          <a:prstGeom prst="rect">
            <a:avLst/>
          </a:prstGeom>
          <a:ln w="0">
            <a:noFill/>
          </a:ln>
        </p:spPr>
      </p:pic>
      <p:sp>
        <p:nvSpPr>
          <p:cNvPr id="168" name="WordArt 9"/>
          <p:cNvSpPr txBox="1"/>
          <p:nvPr/>
        </p:nvSpPr>
        <p:spPr>
          <a:xfrm>
            <a:off x="1619280" y="501336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Ввічливі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6296E-006 L -0.28733 -0.26759 E">
                                      <p:cBhvr>
                                        <p:cTn id="13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444E-006 L -0.31875 -0.0787 E">
                                      <p:cBhvr>
                                        <p:cTn id="14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07407E-006 L -0.34636 0.11041 E">
                                      <p:cBhvr>
                                        <p:cTn id="15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0.15364 -0.33588 E">
                                      <p:cBhvr>
                                        <p:cTn id="16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6 L 0.12605 -0.13635 E">
                                      <p:cBhvr>
                                        <p:cTn id="17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1964" t="1689" r="1964" b="1689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3219480" y="385128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75560" y="2421000"/>
            <a:ext cx="7802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Arial"/>
              </a:rPr>
              <a:t>Допомагати друзям в біді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05000" y="3500280"/>
            <a:ext cx="8349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Arial"/>
              </a:rPr>
              <a:t>Радіти успіхам своїх друзів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75200" y="4437000"/>
            <a:ext cx="8660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Arial"/>
              </a:rPr>
              <a:t>Бути стриманим, вихованим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74480" y="5373720"/>
            <a:ext cx="7829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Arial"/>
              </a:rPr>
              <a:t>Ділитися тим, що в тебе є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9"/>
          <p:cNvSpPr txBox="1"/>
          <p:nvPr/>
        </p:nvSpPr>
        <p:spPr>
          <a:xfrm>
            <a:off x="900000" y="620640"/>
            <a:ext cx="7056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Прави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вихованої людин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79" name="Рисунок 45" descr="http://www.koipkro.kostroma.ru/ostrov/Oschool/matem/DocLib1/post-70101-1236449698_thumb.png"/>
          <p:cNvPicPr/>
          <p:nvPr/>
        </p:nvPicPr>
        <p:blipFill>
          <a:blip r:embed="rId3"/>
          <a:stretch/>
        </p:blipFill>
        <p:spPr>
          <a:xfrm>
            <a:off x="468360" y="260280"/>
            <a:ext cx="13525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826920" y="69228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Відповіді до тесту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621080" y="1773360"/>
            <a:ext cx="15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1. б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28280" y="2852640"/>
            <a:ext cx="15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2. в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642320" y="40053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3. а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21080" y="5084640"/>
            <a:ext cx="15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4. б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45" descr="http://www.koipkro.kostroma.ru/ostrov/Oschool/matem/DocLib1/post-70101-1236449698_thumb.png"/>
          <p:cNvPicPr/>
          <p:nvPr/>
        </p:nvPicPr>
        <p:blipFill>
          <a:blip r:embed="rId3"/>
          <a:stretch/>
        </p:blipFill>
        <p:spPr>
          <a:xfrm>
            <a:off x="4572000" y="2060640"/>
            <a:ext cx="35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3219480" y="385128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9"/>
          <p:cNvSpPr txBox="1"/>
          <p:nvPr/>
        </p:nvSpPr>
        <p:spPr>
          <a:xfrm>
            <a:off x="971640" y="692280"/>
            <a:ext cx="72738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Людські чесно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94" name="Рисунок 45" descr="http://www.koipkro.kostroma.ru/ostrov/Oschool/matem/DocLib1/post-70101-1236449698_thumb.png"/>
          <p:cNvPicPr/>
          <p:nvPr/>
        </p:nvPicPr>
        <p:blipFill>
          <a:blip r:embed="rId3"/>
          <a:stretch/>
        </p:blipFill>
        <p:spPr>
          <a:xfrm>
            <a:off x="2987640" y="2421000"/>
            <a:ext cx="35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5445000"/>
            <a:ext cx="9144000" cy="1270080"/>
          </a:xfrm>
          <a:prstGeom prst="rect">
            <a:avLst/>
          </a:prstGeom>
          <a:solidFill>
            <a:srgbClr val="508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30000" y="5425920"/>
            <a:ext cx="83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Посміхнітьс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І весь світ посміхнеться вам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6" descr="Много свежих мотиваторов за 12.05.2012 (56 штук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508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68360" y="5950080"/>
            <a:ext cx="823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орога доб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11.wmv" descr=""/>
          <p:cNvPicPr/>
          <p:nvPr/>
        </p:nvPicPr>
        <p:blipFill>
          <a:blip r:embed="rId1"/>
          <a:stretch/>
        </p:blipFill>
        <p:spPr>
          <a:xfrm>
            <a:off x="0" y="-3240"/>
            <a:ext cx="92710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3219480" y="385128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9"/>
          <p:cNvSpPr txBox="1"/>
          <p:nvPr/>
        </p:nvSpPr>
        <p:spPr>
          <a:xfrm>
            <a:off x="971640" y="692280"/>
            <a:ext cx="72738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Людські чесно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205" name="Рисунок 45" descr="http://www.koipkro.kostroma.ru/ostrov/Oschool/matem/DocLib1/post-70101-1236449698_thumb.png"/>
          <p:cNvPicPr/>
          <p:nvPr/>
        </p:nvPicPr>
        <p:blipFill>
          <a:blip r:embed="rId3"/>
          <a:stretch/>
        </p:blipFill>
        <p:spPr>
          <a:xfrm>
            <a:off x="2987640" y="2421000"/>
            <a:ext cx="35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611280" y="404640"/>
            <a:ext cx="7993080" cy="597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rcRect l="0" t="0" r="12036" b="0"/>
          <a:stretch/>
        </p:blipFill>
        <p:spPr>
          <a:xfrm>
            <a:off x="539640" y="404640"/>
            <a:ext cx="8072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539640" y="404640"/>
            <a:ext cx="799308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1116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1187280" y="692280"/>
            <a:ext cx="705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Людські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1332000" y="256536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2340000" y="256536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" name="WordArt 9"/>
          <p:cNvSpPr txBox="1"/>
          <p:nvPr/>
        </p:nvSpPr>
        <p:spPr>
          <a:xfrm>
            <a:off x="3276720" y="256536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4356000" y="256536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5219640" y="256536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" name="WordArt 9"/>
          <p:cNvSpPr txBox="1"/>
          <p:nvPr/>
        </p:nvSpPr>
        <p:spPr>
          <a:xfrm>
            <a:off x="6156360" y="256536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8" name="WordArt 9"/>
          <p:cNvSpPr txBox="1"/>
          <p:nvPr/>
        </p:nvSpPr>
        <p:spPr>
          <a:xfrm>
            <a:off x="7164360" y="256536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9" name="Рисунок 45" descr="http://www.koipkro.kostroma.ru/ostrov/Oschool/matem/DocLib1/post-70101-1236449698_thumb.png"/>
          <p:cNvPicPr/>
          <p:nvPr/>
        </p:nvPicPr>
        <p:blipFill>
          <a:blip r:embed="rId3"/>
          <a:stretch/>
        </p:blipFill>
        <p:spPr>
          <a:xfrm>
            <a:off x="6953400" y="4797360"/>
            <a:ext cx="1636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6 L -0.42517 0.18912 E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-0.53559 0.18912 E">
                                      <p:cBhvr>
                                        <p:cTn id="1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22049 0.18912 E">
                                      <p:cBhvr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0.2125 0.18912 E">
                                      <p:cBhvr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6 L 0.11024 0.18912 E">
                                      <p:cBhvr>
                                        <p:cTn id="2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L 0.01563 0.18912 E">
                                      <p:cBhvr>
                                        <p:cTn id="2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6 L 0.43299 0.18912 E">
                                      <p:cBhvr>
                                        <p:cTn id="3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468360" y="404640"/>
            <a:ext cx="8136000" cy="5977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3203640" y="386064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900000" y="3213000"/>
            <a:ext cx="727416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Оціни вчи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" name="Picture 4" descr="D:\Все\Пождравления\453806bb21ef.gif"/>
          <p:cNvPicPr/>
          <p:nvPr/>
        </p:nvPicPr>
        <p:blipFill>
          <a:blip r:embed="rId3"/>
          <a:stretch/>
        </p:blipFill>
        <p:spPr>
          <a:xfrm rot="20678400">
            <a:off x="2830680" y="693720"/>
            <a:ext cx="28587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:\документи\Фони для презентацій\1680colourback_1008.jpg"/>
          <p:cNvPicPr/>
          <p:nvPr/>
        </p:nvPicPr>
        <p:blipFill>
          <a:blip r:embed="rId2"/>
          <a:srcRect l="55849" t="0" r="0" b="0"/>
          <a:stretch/>
        </p:blipFill>
        <p:spPr>
          <a:xfrm>
            <a:off x="539640" y="404640"/>
            <a:ext cx="7993080" cy="5977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http://www.planetaskazok.ru/images/stories/oseeva/sinie_listya/img_039.jpg"/>
          <p:cNvPicPr/>
          <p:nvPr/>
        </p:nvPicPr>
        <p:blipFill>
          <a:blip r:embed="rId3"/>
          <a:stretch/>
        </p:blipFill>
        <p:spPr>
          <a:xfrm>
            <a:off x="1908000" y="549360"/>
            <a:ext cx="54230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4" descr="Позитивные мотиваторы с улыбкой (48 фото)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508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95280" y="5589720"/>
            <a:ext cx="8893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Будьте добри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коли це можливо. А це можливо зав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539640" y="404640"/>
            <a:ext cx="7993080" cy="597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документи\Фони для презентацій\1680colourback_1008.jpg"/>
          <p:cNvPicPr/>
          <p:nvPr/>
        </p:nvPicPr>
        <p:blipFill>
          <a:blip r:embed="rId3"/>
          <a:stretch/>
        </p:blipFill>
        <p:spPr>
          <a:xfrm>
            <a:off x="539640" y="404640"/>
            <a:ext cx="7993080" cy="5977080"/>
          </a:xfrm>
          <a:prstGeom prst="rect">
            <a:avLst/>
          </a:prstGeom>
          <a:ln w="0">
            <a:noFill/>
          </a:ln>
        </p:spPr>
      </p:pic>
      <p:sp>
        <p:nvSpPr>
          <p:cNvPr id="88" name="WordArt 9"/>
          <p:cNvSpPr txBox="1"/>
          <p:nvPr/>
        </p:nvSpPr>
        <p:spPr>
          <a:xfrm>
            <a:off x="755640" y="1844640"/>
            <a:ext cx="72738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63000"/>
                  </a:srgbClr>
                </a:solidFill>
                <a:latin typeface="Arial"/>
              </a:rPr>
              <a:t>Людські чесно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63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9" name="Рисунок 45" descr="http://www.koipkro.kostroma.ru/ostrov/Oschool/matem/DocLib1/post-70101-1236449698_thumb.png"/>
          <p:cNvPicPr/>
          <p:nvPr/>
        </p:nvPicPr>
        <p:blipFill>
          <a:blip r:embed="rId4"/>
          <a:stretch/>
        </p:blipFill>
        <p:spPr>
          <a:xfrm>
            <a:off x="3059280" y="3573360"/>
            <a:ext cx="26193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1964" t="1689" r="2745" b="27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:\документи\Фони для презентацій\1680colourback_1008.jpg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6264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3219480" y="385128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68360" y="765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гі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627280" y="76500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солод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156360" y="76500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Кращ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39640" y="184464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брехн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780000" y="1844640"/>
            <a:ext cx="32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правд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093080" y="184464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ні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5" descr="http://www.koipkro.kostroma.ru/ostrov/Oschool/matem/DocLib1/post-70101-1236449698_thumb.png"/>
          <p:cNvPicPr/>
          <p:nvPr/>
        </p:nvPicPr>
        <p:blipFill>
          <a:blip r:embed="rId3"/>
          <a:stretch/>
        </p:blipFill>
        <p:spPr>
          <a:xfrm>
            <a:off x="7596360" y="5229360"/>
            <a:ext cx="1365120" cy="13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-0.61424 0.32547 E">
                                      <p:cBhvr>
                                        <p:cTn id="4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L 0.34236 0.32547 E">
                                      <p:cBhvr>
                                        <p:cTn id="4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0.22431 0.16806 E">
                                      <p:cBhvr>
                                        <p:cTn id="5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-0.69688 0.35718 E">
                                      <p:cBhvr>
                                        <p:cTn id="5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-0.03524 0.51459 E">
                                      <p:cBhvr>
                                        <p:cTn id="6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0.59844 0.35718 E">
                                      <p:cBhvr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20:22:55Z</dcterms:created>
  <dc:creator>User</dc:creator>
  <dc:description/>
  <dc:language>en-US</dc:language>
  <cp:lastModifiedBy>Comfy</cp:lastModifiedBy>
  <dcterms:modified xsi:type="dcterms:W3CDTF">2017-10-31T19:12:32Z</dcterms:modified>
  <cp:revision>32</cp:revision>
  <dc:subject/>
  <dc:title>Слайд 1</dc:title>
</cp:coreProperties>
</file>