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65B-8CE8-47C6-9F1C-27F466F2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7E08-5015-4058-A8B1-BA3C0C05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EDFB-9EBF-4B26-AAEA-AD04E7DC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A02-F43A-423A-8795-86BB00F9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6A18-D1A5-42B7-B9D9-A6243660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89B6E-ABEA-4F93-A42B-B02C9B74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9972-6E16-4B0B-B026-3680B386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68A4-6E6A-48FA-B903-A17CDCA2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4BC2-A1B7-4819-A2C7-BD3A90FC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FAB3-EE63-419E-8752-283C5F65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2493-4842-4265-A0E8-5372C76E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CFE-F0D5-43E6-A561-B5C0F5F4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15AF-619C-4530-8336-359BA05A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60EA-3F63-4C12-809A-B6E3889B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8878-051F-4B68-B770-B5D7EFCD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7654-4EB3-4787-A085-C39ABC07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9150-F0A1-47B5-8EBB-F4D8C863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ED9-65F1-4240-A1B4-E9EA50F8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B2F6-AF35-47D7-9238-5CBFCC68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2D2-7AEE-4E28-9E31-406EE52D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504-5FA7-4131-A6A6-899C0683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373-AB33-4185-8F74-EE814E3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9B4-C67F-419F-9C03-4B767874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2061-3348-483B-915E-6562F0E6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7030a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7030a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зентация Нечаевой О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C41F-6909-4BC3-A4E2-56547405841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7030a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7030a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зентация Нечаевой О.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FC4B-E378-420A-A942-C05B23FE23E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image" Target="../media/image4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6"/>
          <p:cNvSpPr txBox="1"/>
          <p:nvPr/>
        </p:nvSpPr>
        <p:spPr>
          <a:xfrm>
            <a:off x="91440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cfefe"/>
                  </a:solidFill>
                  <a:miter/>
                </a:ln>
                <a:gradFill rotWithShape="0">
                  <a:gsLst>
                    <a:gs pos="0">
                      <a:srgbClr val="87ffff"/>
                    </a:gs>
                    <a:gs pos="100000">
                      <a:srgbClr val="239595"/>
                    </a:gs>
                  </a:gsLst>
                  <a:lin ang="5400000"/>
                </a:gra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Arial"/>
              </a:rPr>
              <a:t>                        </a:t>
            </a:r>
            <a:endParaRPr b="1" lang="en-US" sz="1800" spc="1" strike="noStrike">
              <a:ln w="17640">
                <a:solidFill>
                  <a:srgbClr val="fcfefe"/>
                </a:solidFill>
                <a:miter/>
              </a:ln>
              <a:gradFill rotWithShape="0">
                <a:gsLst>
                  <a:gs pos="0">
                    <a:srgbClr val="87ffff"/>
                  </a:gs>
                  <a:gs pos="100000">
                    <a:srgbClr val="239595"/>
                  </a:gs>
                </a:gsLst>
                <a:lin ang="5400000"/>
              </a:gra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Рисунок 5" descr="885f8b3b0a8c.png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92768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5" descr=""/>
          <p:cNvPicPr/>
          <p:nvPr/>
        </p:nvPicPr>
        <p:blipFill>
          <a:blip r:embed="rId2"/>
          <a:stretch/>
        </p:blipFill>
        <p:spPr>
          <a:xfrm>
            <a:off x="231840" y="457200"/>
            <a:ext cx="9144000" cy="1079640"/>
          </a:xfrm>
          <a:prstGeom prst="rect">
            <a:avLst/>
          </a:prstGeom>
          <a:ln w="0">
            <a:noFill/>
          </a:ln>
        </p:spPr>
      </p:pic>
      <p:sp>
        <p:nvSpPr>
          <p:cNvPr id="93" name="WordArt 6"/>
          <p:cNvSpPr txBox="1"/>
          <p:nvPr/>
        </p:nvSpPr>
        <p:spPr>
          <a:xfrm>
            <a:off x="1066680" y="609480"/>
            <a:ext cx="7620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latin typeface="Times New Roman"/>
              </a:rPr>
              <a:t>Весна в природі. 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latin typeface="Times New Roman"/>
              </a:rPr>
              <a:t>Рослини навесні.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7"/>
          <p:cNvSpPr txBox="1"/>
          <p:nvPr/>
        </p:nvSpPr>
        <p:spPr>
          <a:xfrm>
            <a:off x="1143000" y="304920"/>
            <a:ext cx="28954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ТЕМА УРОКУ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5" name="Прямоугольник 8" descr=""/>
          <p:cNvPicPr/>
          <p:nvPr/>
        </p:nvPicPr>
        <p:blipFill>
          <a:blip r:embed="rId3"/>
          <a:stretch/>
        </p:blipFill>
        <p:spPr>
          <a:xfrm>
            <a:off x="0" y="457200"/>
            <a:ext cx="9144000" cy="1079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babochkia-476.gif"/>
          <p:cNvPicPr/>
          <p:nvPr/>
        </p:nvPicPr>
        <p:blipFill>
          <a:blip r:embed="rId4"/>
          <a:stretch/>
        </p:blipFill>
        <p:spPr>
          <a:xfrm rot="19326000">
            <a:off x="4216320" y="3865680"/>
            <a:ext cx="13716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75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і рослини, які зацвітають ранньою  весно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ю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називаю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16490958-web"/>
          <p:cNvPicPr/>
          <p:nvPr/>
        </p:nvPicPr>
        <p:blipFill>
          <a:blip r:embed="rId2"/>
          <a:stretch/>
        </p:blipFill>
        <p:spPr>
          <a:xfrm>
            <a:off x="2895480" y="3276720"/>
            <a:ext cx="3256200" cy="3124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11200717201814"/>
          <p:cNvPicPr/>
          <p:nvPr/>
        </p:nvPicPr>
        <p:blipFill>
          <a:blip r:embed="rId3"/>
          <a:stretch/>
        </p:blipFill>
        <p:spPr>
          <a:xfrm>
            <a:off x="6248520" y="2971800"/>
            <a:ext cx="2577960" cy="3505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DSCF1108"/>
          <p:cNvPicPr/>
          <p:nvPr/>
        </p:nvPicPr>
        <p:blipFill>
          <a:blip r:embed="rId4"/>
          <a:stretch/>
        </p:blipFill>
        <p:spPr>
          <a:xfrm>
            <a:off x="152280" y="2895480"/>
            <a:ext cx="2571840" cy="3429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4495680" y="380880"/>
            <a:ext cx="4114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6600cc"/>
                </a:solidFill>
                <a:latin typeface="Verdana"/>
              </a:rPr>
              <a:t>ПЕРВОЦВІТАМИ</a:t>
            </a:r>
            <a:r>
              <a:rPr b="0" lang="ru-RU" sz="2800" spc="-1" strike="noStrike">
                <a:solidFill>
                  <a:srgbClr val="6600c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7907120" y="3733920"/>
            <a:ext cx="8075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і рослини, які зацвітають ранньою  весной, називают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ЕРВОЦВІ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ни первыми появляются из-под снега, поэтому их ещё называют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ДСНЕЖНИК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8059400" y="990720"/>
            <a:ext cx="8075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і рослини, які зацвітають ранньою  весной, називают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ЕРВОЦВІ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ни первыми появляются из-под снега, поэтому их ещё называют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ОДСНЕЖНИК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895480" y="160020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Вони першими зꞋявляються з-під снігу, тому й називають їх ще 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ПІДСНІЖНИК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48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1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4040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ВІСНИКИ ВЕСНИ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5410080"/>
            <a:ext cx="3200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600cc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6600cc"/>
                </a:solidFill>
                <a:latin typeface="Verdana"/>
              </a:rPr>
              <a:t>П</a:t>
            </a:r>
            <a:r>
              <a:rPr b="0" i="1" lang="uk-UA" sz="3300" spc="-1" strike="noStrike">
                <a:solidFill>
                  <a:srgbClr val="6600cc"/>
                </a:solidFill>
                <a:latin typeface="Verdana"/>
              </a:rPr>
              <a:t>І</a:t>
            </a:r>
            <a:r>
              <a:rPr b="0" i="1" lang="ru-RU" sz="3300" spc="-1" strike="noStrike">
                <a:solidFill>
                  <a:srgbClr val="6600cc"/>
                </a:solidFill>
                <a:latin typeface="Verdana"/>
              </a:rPr>
              <a:t>ДСНІЖНИК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Картинка 98 из 1434"/>
          <p:cNvPicPr/>
          <p:nvPr/>
        </p:nvPicPr>
        <p:blipFill>
          <a:blip r:embed="rId2"/>
          <a:stretch/>
        </p:blipFill>
        <p:spPr>
          <a:xfrm>
            <a:off x="5181480" y="2209680"/>
            <a:ext cx="3505320" cy="3405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05015945"/>
          <p:cNvPicPr/>
          <p:nvPr/>
        </p:nvPicPr>
        <p:blipFill>
          <a:blip r:embed="rId3"/>
          <a:stretch/>
        </p:blipFill>
        <p:spPr>
          <a:xfrm>
            <a:off x="609480" y="2209680"/>
            <a:ext cx="3246480" cy="33274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5791320" y="5410080"/>
            <a:ext cx="2590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600cc"/>
                </a:solidFill>
                <a:latin typeface="Verdan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6600cc"/>
                </a:solidFill>
                <a:latin typeface="Verdana"/>
              </a:rPr>
              <a:t>П</a:t>
            </a:r>
            <a:r>
              <a:rPr b="0" i="1" lang="uk-UA" sz="3300" spc="-1" strike="noStrike">
                <a:solidFill>
                  <a:srgbClr val="6600cc"/>
                </a:solidFill>
                <a:latin typeface="Verdana"/>
              </a:rPr>
              <a:t>РОЛІСОК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838080" y="1523880"/>
            <a:ext cx="792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АНЕСЕНІ ДО ЧЕРВОНОЇ КНИГИ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96,48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96,48,11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1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52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МЕДУНКА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120" y="1600200"/>
            <a:ext cx="4953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Verdana"/>
              </a:rPr>
              <a:t>Коли вона розкривається, пелюстки її рожеві. Через деякий час вони стають малинові, а потім фіолетові. Квіти , що вже завꞌяли – синього кольор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2060"/>
                </a:solidFill>
                <a:latin typeface="Verdana"/>
              </a:rPr>
              <a:t>Квітки </a:t>
            </a:r>
            <a:r>
              <a:rPr b="1" lang="ru-RU" sz="1900" spc="-1" strike="noStrike">
                <a:solidFill>
                  <a:srgbClr val="002060"/>
                </a:solidFill>
                <a:latin typeface="Verdana"/>
              </a:rPr>
              <a:t>на одному стеблі  розпускаються не відразу всі, тому і виходить різкнокольоровий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1" lang="ru-RU" sz="1900" spc="-1" strike="noStrike">
                <a:solidFill>
                  <a:srgbClr val="002060"/>
                </a:solidFill>
                <a:latin typeface="Verdana"/>
              </a:rPr>
              <a:t>букетик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2060"/>
                </a:solidFill>
                <a:latin typeface="Verdana"/>
              </a:rPr>
              <a:t>Медунку називають «солодким букетиком», тому що в її квітах багато  солодкого соку-нектару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5" descr="медуница"/>
          <p:cNvPicPr/>
          <p:nvPr/>
        </p:nvPicPr>
        <p:blipFill>
          <a:blip r:embed="rId2"/>
          <a:stretch/>
        </p:blipFill>
        <p:spPr>
          <a:xfrm>
            <a:off x="5486400" y="1676520"/>
            <a:ext cx="3486240" cy="46479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"/>
          <p:cNvSpPr/>
          <p:nvPr/>
        </p:nvSpPr>
        <p:spPr>
          <a:xfrm>
            <a:off x="990720" y="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Первоцвіт, який називають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«квітка –світлофор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або «квітка –букетик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7" nodeType="afterEffect" fill="hold" presetClass="entr" presetID="4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536400"/>
            <a:ext cx="67039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СОН-ТРАВА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953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Verdana"/>
              </a:rPr>
              <a:t>Існує легенда. Навесні ведмідь зірвав якусь рослину и почав її смоктати. Смоктав, смоктав …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Verdana"/>
              </a:rPr>
              <a:t>та й заснув..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cc"/>
                </a:solidFill>
                <a:latin typeface="Verdana"/>
              </a:rPr>
              <a:t>Тому квітку назвали сон-тра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Verdana"/>
              </a:rPr>
              <a:t>Сон-трава має  снодійні властивості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030a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cc"/>
                </a:solidFill>
                <a:latin typeface="Verdana"/>
              </a:rPr>
              <a:t>Пелюстки квітки розгорнуті лише до 12 годині дня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cc"/>
                </a:solidFill>
                <a:latin typeface="Verdana"/>
              </a:rPr>
              <a:t>   </a:t>
            </a:r>
            <a:r>
              <a:rPr b="0" lang="uk-UA" sz="2000" spc="-1" strike="noStrike">
                <a:solidFill>
                  <a:srgbClr val="6600cc"/>
                </a:solidFill>
                <a:latin typeface="Verdana"/>
              </a:rPr>
              <a:t>опівдні вона закриває пелюст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600cc"/>
                </a:solidFill>
                <a:latin typeface="Verdana"/>
              </a:rPr>
              <a:t>      </a:t>
            </a:r>
            <a:r>
              <a:rPr b="0" lang="uk-UA" sz="2000" spc="-1" strike="noStrike">
                <a:solidFill>
                  <a:srgbClr val="6600cc"/>
                </a:solidFill>
                <a:latin typeface="Verdana"/>
              </a:rPr>
              <a:t>і  “спить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1381124"/>
          <p:cNvPicPr/>
          <p:nvPr/>
        </p:nvPicPr>
        <p:blipFill>
          <a:blip r:embed="rId2"/>
          <a:stretch/>
        </p:blipFill>
        <p:spPr>
          <a:xfrm>
            <a:off x="5257800" y="457200"/>
            <a:ext cx="3714840" cy="5029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685800" y="57913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ЗАНЕСЕНА ДО ЧЕРВОНОЇ КНИГИ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3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3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3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3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</a:rPr>
              <a:t>МАТИ-Й-МАЧУХА</a:t>
            </a:r>
            <a:endParaRPr b="0" lang="en-US" sz="3600" spc="-1" strike="noStrike">
              <a:solidFill>
                <a:srgbClr val="7030a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   рослини спочатку цвітуть  квітки, як маленькі сонеч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А коли вони відцвітають , зꞋявляються листя. На вигляд це звичайні листочки, але торкнися їх. Одна сторона тепла, вкрита пушком мꞋяким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а друга-холодна,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ладка. Тепла-це мама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 холодна-мачух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У народі мати-й-мачуху називають “підбіл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47677760"/>
          <p:cNvPicPr/>
          <p:nvPr/>
        </p:nvPicPr>
        <p:blipFill>
          <a:blip r:embed="rId2"/>
          <a:stretch/>
        </p:blipFill>
        <p:spPr>
          <a:xfrm>
            <a:off x="4952880" y="1905120"/>
            <a:ext cx="394992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3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7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3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3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59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2"/>
          <p:cNvSpPr/>
          <p:nvPr/>
        </p:nvSpPr>
        <p:spPr>
          <a:xfrm>
            <a:off x="1981080" y="144792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1850"/>
                </a:solidFill>
                <a:latin typeface="Calibri"/>
                <a:ea typeface="Calibri"/>
              </a:rPr>
              <a:t>Сміливим підсніжникам мороз не страшний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1850"/>
                </a:solidFill>
                <a:latin typeface="Calibri"/>
                <a:ea typeface="Calibri"/>
              </a:rPr>
              <a:t>В снігах розкошує привітна роди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1850"/>
                </a:solidFill>
                <a:latin typeface="Calibri"/>
                <a:ea typeface="Calibri"/>
              </a:rPr>
              <a:t>В них ворог один - здичавілий страшний 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1850"/>
                </a:solidFill>
                <a:latin typeface="Calibri"/>
                <a:ea typeface="Calibri"/>
              </a:rPr>
              <a:t>Байдужа, безлика і хитра люди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1850"/>
                </a:solidFill>
                <a:latin typeface="Calibri"/>
                <a:ea typeface="Calibri"/>
              </a:rPr>
              <a:t>Тож не рвіть ви квітів, друз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1850"/>
                </a:solidFill>
                <a:latin typeface="Calibri"/>
                <a:ea typeface="Calibri"/>
              </a:rPr>
              <a:t>Подивіться, там у лузі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1850"/>
                </a:solidFill>
                <a:latin typeface="Calibri"/>
                <a:ea typeface="Calibri"/>
              </a:rPr>
              <a:t>Кожної весни вам знову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1850"/>
                </a:solidFill>
                <a:latin typeface="Calibri"/>
                <a:ea typeface="Calibri"/>
              </a:rPr>
              <a:t>Дарують настрій свій чудов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1850"/>
                </a:solidFill>
                <a:latin typeface="Calibri"/>
                <a:ea typeface="Calibri"/>
              </a:rPr>
              <a:t>Вміймо природу любит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1850"/>
                </a:solidFill>
                <a:latin typeface="Calibri"/>
                <a:ea typeface="Calibri"/>
              </a:rPr>
              <a:t>Кожній рослині раді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1850"/>
                </a:solidFill>
                <a:latin typeface="Calibri"/>
                <a:ea typeface="Calibri"/>
              </a:rPr>
              <a:t>Зупинімось - останній є шан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81850"/>
                </a:solidFill>
                <a:latin typeface="Calibri"/>
                <a:ea typeface="Calibri"/>
              </a:rPr>
              <a:t>Ця планета не тільки для нас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Прямоугольник 3" descr=""/>
          <p:cNvPicPr/>
          <p:nvPr/>
        </p:nvPicPr>
        <p:blipFill>
          <a:blip r:embed="rId2"/>
          <a:stretch/>
        </p:blipFill>
        <p:spPr>
          <a:xfrm>
            <a:off x="669960" y="304920"/>
            <a:ext cx="8474040" cy="9205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babochkia-434.gif"/>
          <p:cNvPicPr/>
          <p:nvPr/>
        </p:nvPicPr>
        <p:blipFill>
          <a:blip r:embed="rId3"/>
          <a:stretch/>
        </p:blipFill>
        <p:spPr>
          <a:xfrm>
            <a:off x="6858000" y="35053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babochkia-476.gif"/>
          <p:cNvPicPr/>
          <p:nvPr/>
        </p:nvPicPr>
        <p:blipFill>
          <a:blip r:embed="rId4"/>
          <a:stretch/>
        </p:blipFill>
        <p:spPr>
          <a:xfrm>
            <a:off x="380880" y="114300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babochkia-503.gif"/>
          <p:cNvPicPr/>
          <p:nvPr/>
        </p:nvPicPr>
        <p:blipFill>
          <a:blip r:embed="rId5"/>
          <a:stretch/>
        </p:blipFill>
        <p:spPr>
          <a:xfrm>
            <a:off x="838080" y="5334120"/>
            <a:ext cx="13716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2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2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8" dur="2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43000" y="1523520"/>
            <a:ext cx="7238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Book Antiqua"/>
              </a:rPr>
              <a:t>   </a:t>
            </a:r>
            <a:r>
              <a:rPr b="0" lang="ru-RU" sz="2000" spc="-1" strike="noStrike">
                <a:solidFill>
                  <a:srgbClr val="a50021"/>
                </a:solidFill>
                <a:latin typeface="Book Antiqu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Прямоугольник 1" descr=""/>
          <p:cNvPicPr/>
          <p:nvPr/>
        </p:nvPicPr>
        <p:blipFill>
          <a:blip r:embed="rId2"/>
          <a:stretch/>
        </p:blipFill>
        <p:spPr>
          <a:xfrm>
            <a:off x="993600" y="2060640"/>
            <a:ext cx="7212240" cy="920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ki</dc:creator>
  <dc:description/>
  <dc:language>en-US</dc:language>
  <cp:lastModifiedBy>School</cp:lastModifiedBy>
  <dcterms:modified xsi:type="dcterms:W3CDTF">2017-11-23T20:57:30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