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6.jpeg" ContentType="image/jpeg"/>
  <Override PartName="/ppt/media/image27.jpeg" ContentType="image/jpeg"/>
  <Override PartName="/ppt/media/image7.png" ContentType="image/png"/>
  <Override PartName="/ppt/media/image1.jpeg" ContentType="image/jpeg"/>
  <Override PartName="/ppt/media/image25.jpeg" ContentType="image/jpeg"/>
  <Override PartName="/ppt/media/image32.png" ContentType="image/png"/>
  <Override PartName="/ppt/media/image28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4.png" ContentType="image/png"/>
  <Override PartName="/ppt/media/image13.jpeg" ContentType="image/jpeg"/>
  <Override PartName="/ppt/media/image9.jpeg" ContentType="image/jpeg"/>
  <Override PartName="/ppt/media/image30.jpeg" ContentType="image/jpeg"/>
  <Override PartName="/ppt/media/image31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3.jpeg" ContentType="image/jpeg"/>
  <Override PartName="/ppt/media/image15.jpeg" ContentType="image/jpeg"/>
  <Override PartName="/ppt/media/image16.png" ContentType="image/png"/>
  <Override PartName="/ppt/media/image6.jpeg" ContentType="image/jpeg"/>
  <Override PartName="/ppt/media/image18.png" ContentType="image/png"/>
  <Override PartName="/ppt/media/image2.jpeg" ContentType="image/jpeg"/>
  <Override PartName="/ppt/media/image20.png" ContentType="image/png"/>
  <Override PartName="/ppt/media/image19.jpeg" ContentType="image/jpeg"/>
  <Override PartName="/ppt/media/image22.png" ContentType="image/png"/>
  <Override PartName="/ppt/media/image11.jpeg" ContentType="image/jpeg"/>
  <Override PartName="/ppt/media/image2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857B9-8C2A-4959-8A91-4847CBA6FC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10797-974E-4185-995C-7C3E00E1610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C2F51-5CEB-416F-AA7A-A94863AA8F1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C329A-1F89-4FDE-B3CD-D3B13AD14C3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88DBE-27B3-434F-BA47-CE592493041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93FD-9ECF-4E81-B1D0-60EB04C06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ACB3-6943-44A1-8A7D-B4EE59DAB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0D34-2676-4AC7-9FDA-17066AB27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35D4-3B5C-4D17-8A92-D8B93A030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576D4B-FB2D-4C66-8C8F-BEF6ACB94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9353C9-6C64-4552-A57A-44A8E55BE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D287AE-BEA0-4BE6-83C4-A68647384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14ECF0-6A68-4ADB-AB44-EC697C0C2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CC8BB1-9F3F-4DD7-8703-2A57DFAD5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7908BC-6684-4814-8DFA-C92E50DDC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6D03BB-200B-4F48-ABC5-68137935E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1873-B8DD-4410-95F1-69CE9F168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7DF2C2-E966-4E2B-8282-24CCE935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ECEC42-92DC-4C59-8662-1CC7F46F6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DC3982-58E4-4151-9092-E7A0F6E85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CA79A5-442C-4B1A-B819-00B0F90AC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977C84-18D1-44EC-A12E-F08C2C444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F4770-555A-48AA-97EF-B96E2A0F6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04475-DBE3-4633-8314-AA1831B89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91FBB-EFBE-43B6-9C98-6E7A5EFEF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9F21B-B8E0-464B-ADED-585C4E17A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C2090-24EA-4711-BF6C-2B98CF81D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2EEB-6410-47DC-8612-A0407FE59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5C4EE-612C-4176-87FD-FFA017CC9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902E0-65C2-4BC3-B8E8-C5A2A74D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260F7-706E-4973-B1C0-8B2EA708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B1137-9EDF-42B8-B868-52F6B5C4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BFEE7-BDC4-4EA8-8AE0-F290CB3FD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6E1ED-D1C6-423A-96B3-5B0A64624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4001D-0F1F-4302-BE17-08FAAA121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3BDF19-EC30-4459-8A65-48E5A2E56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B697BB-EBD5-449B-AE1B-64479036C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BF0AA6-BED6-4AB9-A021-60AFBBC68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3658-5EB2-433E-931E-7AB15A313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DCF331-C0E7-4DAD-AF42-6BBB579BA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60DB7A-D706-45BF-81C2-A9135AD84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1B0BF3-D041-40A8-A2E0-95C18B215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C0EA9C-61E3-4122-86D1-50A7AD4C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E177A2-4B69-4A0B-B6D1-A8C698B1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91216B-EF81-4499-9C86-3DA3E376E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0A9FD2-69EB-452E-9BE2-B1E4D4904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C9D7C1-3153-411D-BA90-5458BE4B4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6F0932-5F26-4D08-9C1D-5A17E3B3E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D3B5-CAC8-4003-8DC6-691FBA35E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2164-A823-47A2-B7BF-41F2265FD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EA96-D4B1-49F8-8ADE-E85243F51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E443-1A13-4CA9-8E84-FEF66344B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BC47-7C71-4F4D-ACBF-82E24B34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0072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bf5f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16CB5-144D-407B-A9AA-F56918D585F3}" type="slidenum">
              <a:rPr b="0" lang="en-US" sz="1600" spc="-1" strike="noStrike">
                <a:solidFill>
                  <a:srgbClr val="dbf5f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7ea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7ea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009dd9"/>
          </a:solidFill>
          <a:ln w="38160">
            <a:solidFill>
              <a:srgbClr val="009dd9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0072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bf5f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AA668-53ED-4857-9730-467A601FD5AC}" type="slidenum">
              <a:rPr b="0" lang="en-US" sz="1600" spc="-1" strike="noStrike">
                <a:solidFill>
                  <a:srgbClr val="dbf5f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0072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bf5f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00B06-A717-47AD-964E-52F231E8FBBD}" type="slidenum">
              <a:rPr b="0" lang="en-US" sz="1600" spc="-1" strike="noStrike">
                <a:solidFill>
                  <a:srgbClr val="dbf5f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7ea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7ea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0072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5ED3C-3219-49E3-8A1A-934ABF42778F}" type="slidenum">
              <a:rPr b="0" lang="en-US" sz="1600" spc="-1" strike="noStrike">
                <a:solidFill>
                  <a:srgbClr val="dbf5f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bf5f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178" name="Picture 2" descr="C:\Users\Home\Desktop\00628219.jpg"/>
          <p:cNvPicPr/>
          <p:nvPr/>
        </p:nvPicPr>
        <p:blipFill>
          <a:blip r:embed="rId1"/>
          <a:stretch/>
        </p:blipFill>
        <p:spPr>
          <a:xfrm>
            <a:off x="684360" y="260280"/>
            <a:ext cx="7848360" cy="62038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Заголовок 2" descr=""/>
          <p:cNvPicPr/>
          <p:nvPr/>
        </p:nvPicPr>
        <p:blipFill>
          <a:blip r:embed="rId1"/>
          <a:stretch/>
        </p:blipFill>
        <p:spPr>
          <a:xfrm>
            <a:off x="262080" y="-79200"/>
            <a:ext cx="8424720" cy="21700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" descr="C:\Users\Home\Desktop\v-kakix-produktax-soderzhatsya-uglevody.jpg"/>
          <p:cNvPicPr/>
          <p:nvPr/>
        </p:nvPicPr>
        <p:blipFill>
          <a:blip r:embed="rId2"/>
          <a:stretch/>
        </p:blipFill>
        <p:spPr>
          <a:xfrm>
            <a:off x="324000" y="1916280"/>
            <a:ext cx="8607240" cy="47289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Заголовок 3" descr=""/>
          <p:cNvPicPr/>
          <p:nvPr/>
        </p:nvPicPr>
        <p:blipFill>
          <a:blip r:embed="rId1"/>
          <a:stretch/>
        </p:blipFill>
        <p:spPr>
          <a:xfrm>
            <a:off x="225360" y="762120"/>
            <a:ext cx="8461440" cy="5619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C:\Users\Home\Desktop\image059.jpg"/>
          <p:cNvPicPr/>
          <p:nvPr/>
        </p:nvPicPr>
        <p:blipFill>
          <a:blip r:embed="rId1"/>
          <a:stretch/>
        </p:blipFill>
        <p:spPr>
          <a:xfrm>
            <a:off x="1116000" y="260280"/>
            <a:ext cx="7099200" cy="64087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7" descr="C:\Users\Home\Desktop\image058.jpg"/>
          <p:cNvPicPr/>
          <p:nvPr/>
        </p:nvPicPr>
        <p:blipFill>
          <a:blip r:embed="rId1"/>
          <a:stretch/>
        </p:blipFill>
        <p:spPr>
          <a:xfrm>
            <a:off x="1187280" y="260280"/>
            <a:ext cx="6553440" cy="61549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Рисунок 1" descr="http://vseskazki.su/images/skazki/dzhanni-rodari/priklucheniya-chipollino/tmp149C-10.jpg"/>
          <p:cNvPicPr/>
          <p:nvPr/>
        </p:nvPicPr>
        <p:blipFill>
          <a:blip r:embed="rId1"/>
          <a:stretch/>
        </p:blipFill>
        <p:spPr>
          <a:xfrm>
            <a:off x="395280" y="476280"/>
            <a:ext cx="8193240" cy="57610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Прямоугольник 2"/>
          <p:cNvSpPr/>
          <p:nvPr/>
        </p:nvSpPr>
        <p:spPr>
          <a:xfrm>
            <a:off x="755640" y="890640"/>
            <a:ext cx="7416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До режиму харчування входят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кількість їжі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час харчування впродовж доб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розподіл добового раціону за його енергетичною цінністю, хімічним склад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Режимом визначається продуктовий набір та кількість їжі на сніданок, другий сніданок, обід, полуденок, вечерю. Інтервали між їжею та витрачений на неї час теж визначаються режим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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Для дітей віком 11–12 років найраціональнішим вважають  п’ятиразове харчуванн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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Перерви між вживанням їжі не повинні перевищувати 3,5–4 го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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Вживати їжу бажано в один і той самий ча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468360" y="549360"/>
            <a:ext cx="8229600" cy="56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1" lang="uk-UA" sz="1800" spc="-1" strike="noStrike" u="sng">
                <a:solidFill>
                  <a:srgbClr val="ffffff"/>
                </a:solidFill>
                <a:uFillTx/>
                <a:latin typeface="Constantia"/>
              </a:rPr>
              <a:t>Перший сніданок – 20 – 25 % </a:t>
            </a:r>
            <a:r>
              <a:rPr b="1" lang="uk-UA" sz="1800" spc="-1" strike="noStrike">
                <a:solidFill>
                  <a:srgbClr val="ffffff"/>
                </a:solidFill>
                <a:latin typeface="Constantia"/>
              </a:rPr>
              <a:t>добового раціону; (молочні каші, різноманітні пудинги, змішані  круп'яно – овочеві страви , рибні або м'ясні гарячі страви з гарніром);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uk-UA" sz="1800" spc="-1" strike="noStrike">
                <a:solidFill>
                  <a:srgbClr val="ffffff"/>
                </a:solidFill>
                <a:latin typeface="Constantia"/>
              </a:rPr>
              <a:t> </a:t>
            </a:r>
            <a:r>
              <a:rPr b="1" lang="uk-UA" sz="1800" spc="-1" strike="noStrike" u="sng">
                <a:solidFill>
                  <a:srgbClr val="ffffff"/>
                </a:solidFill>
                <a:uFillTx/>
                <a:latin typeface="Constantia"/>
              </a:rPr>
              <a:t>другий сніданок – 10 %; </a:t>
            </a:r>
            <a:r>
              <a:rPr b="1" lang="uk-UA" sz="1800" spc="-1" strike="noStrike">
                <a:solidFill>
                  <a:srgbClr val="ffffff"/>
                </a:solidFill>
                <a:latin typeface="Constantia"/>
              </a:rPr>
              <a:t>може  бути малокалорійним ( фрукти, чай з бутербродом, кефір з невеликою булочкою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1" lang="uk-UA" sz="1800" spc="-1" strike="noStrike">
                <a:solidFill>
                  <a:srgbClr val="ffffff"/>
                </a:solidFill>
                <a:latin typeface="Constantia"/>
              </a:rPr>
              <a:t>обід —40%; має включати першу, другу і третю (напій) страву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Constantia"/>
              </a:rPr>
              <a:t>підвечірок —5 – 10 % складається з напою, бажано молочного і хлібобулочного виробу, а також, бажано, свіжих фруктів чи ягід;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Constantia"/>
              </a:rPr>
              <a:t>вечеря — 10 – 15  % добового раціону, зазвичай складається з молочних, круп'яних, овочевих, сирних і яєчних страв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onstantia"/>
              </a:rPr>
              <a:t>  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7" name="Заголовок 2" descr=""/>
          <p:cNvPicPr/>
          <p:nvPr/>
        </p:nvPicPr>
        <p:blipFill>
          <a:blip r:embed="rId1"/>
          <a:stretch/>
        </p:blipFill>
        <p:spPr>
          <a:xfrm>
            <a:off x="500040" y="6480"/>
            <a:ext cx="8229600" cy="10112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onstantia"/>
              </a:rPr>
              <a:t>■ </a:t>
            </a:r>
            <a:r>
              <a:rPr b="0" lang="uk-UA" sz="1800" spc="-1" strike="noStrike">
                <a:solidFill>
                  <a:srgbClr val="ffffff"/>
                </a:solidFill>
                <a:latin typeface="Constantia"/>
              </a:rPr>
              <a:t>картопляні чіпси і картопля фрі — це, по суті, суміш вугле­водів і жиру плюс смакові добавки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onstantia"/>
              </a:rPr>
              <a:t>■ </a:t>
            </a:r>
            <a:r>
              <a:rPr b="0" lang="uk-UA" sz="1800" spc="-1" strike="noStrike">
                <a:solidFill>
                  <a:srgbClr val="ffffff"/>
                </a:solidFill>
                <a:latin typeface="Constantia"/>
              </a:rPr>
              <a:t>солодкі батончики на зразок «Снікерса», «Марса» тощо, що складаються з великої кількості цукру і різних хімічних до­бавок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onstantia"/>
              </a:rPr>
              <a:t>■  </a:t>
            </a:r>
            <a:r>
              <a:rPr b="0" lang="uk-UA" sz="1800" spc="-1" strike="noStrike">
                <a:solidFill>
                  <a:srgbClr val="ffffff"/>
                </a:solidFill>
                <a:latin typeface="Constantia"/>
              </a:rPr>
              <a:t>солодкі газовані й ароматизовані напої й кола, лимонад, кон­сервовані соки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onstantia"/>
              </a:rPr>
              <a:t>■ </a:t>
            </a:r>
            <a:r>
              <a:rPr b="0" lang="uk-UA" sz="1800" spc="-1" strike="noStrike">
                <a:solidFill>
                  <a:srgbClr val="ffffff"/>
                </a:solidFill>
                <a:latin typeface="Constantia"/>
              </a:rPr>
              <a:t>сосиски, сардельки, варена ковбаса, паштет та інші продук­ти з так званими прихованими жирами. У їх складі є жири(сало, внутрішній жир, свиняча шкірка тощо), які займають 40 % ваги і маскують під м'ясо з допомогою смакових добавок;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onstantia"/>
              </a:rPr>
              <a:t>■ </a:t>
            </a:r>
            <a:r>
              <a:rPr b="0" lang="uk-UA" sz="1800" spc="-1" strike="noStrike">
                <a:solidFill>
                  <a:srgbClr val="ffffff"/>
                </a:solidFill>
                <a:latin typeface="Constantia"/>
              </a:rPr>
              <a:t>консервовані м'ясні та овочеві продукти із застосуванням оцту та інших консервантів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9" name="Заголовок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112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Рисунок 1" descr="http://www.epochtimes.com.ua/upload/medialibrary/3af/3af48a28b5b63b0c78c001d4a094d3fe.jpg"/>
          <p:cNvPicPr/>
          <p:nvPr/>
        </p:nvPicPr>
        <p:blipFill>
          <a:blip r:embed="rId1"/>
          <a:stretch/>
        </p:blipFill>
        <p:spPr>
          <a:xfrm>
            <a:off x="539640" y="189000"/>
            <a:ext cx="8064720" cy="64087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Заголовок 1" descr=""/>
          <p:cNvPicPr/>
          <p:nvPr/>
        </p:nvPicPr>
        <p:blipFill>
          <a:blip r:embed="rId1"/>
          <a:stretch/>
        </p:blipFill>
        <p:spPr>
          <a:xfrm>
            <a:off x="262080" y="152280"/>
            <a:ext cx="8547120" cy="64436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Заголовок 1" descr=""/>
          <p:cNvPicPr/>
          <p:nvPr/>
        </p:nvPicPr>
        <p:blipFill>
          <a:blip r:embed="rId1"/>
          <a:stretch/>
        </p:blipFill>
        <p:spPr>
          <a:xfrm>
            <a:off x="353880" y="1762200"/>
            <a:ext cx="8863200" cy="4657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Заголовок 1" descr=""/>
          <p:cNvPicPr/>
          <p:nvPr/>
        </p:nvPicPr>
        <p:blipFill>
          <a:blip r:embed="rId1"/>
          <a:stretch/>
        </p:blipFill>
        <p:spPr>
          <a:xfrm>
            <a:off x="396720" y="115920"/>
            <a:ext cx="8229600" cy="15048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" descr=""/>
          <p:cNvPicPr/>
          <p:nvPr/>
        </p:nvPicPr>
        <p:blipFill>
          <a:blip r:embed="rId2"/>
          <a:stretch/>
        </p:blipFill>
        <p:spPr>
          <a:xfrm>
            <a:off x="755640" y="1643040"/>
            <a:ext cx="7416720" cy="48103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229600" cy="4572000"/>
          </a:xfrm>
          <a:prstGeom prst="rect">
            <a:avLst/>
          </a:prstGeom>
          <a:ln w="0">
            <a:noFill/>
          </a:ln>
        </p:spPr>
      </p:pic>
      <p:pic>
        <p:nvPicPr>
          <p:cNvPr id="181" name="Заголовок 2" descr=""/>
          <p:cNvPicPr/>
          <p:nvPr/>
        </p:nvPicPr>
        <p:blipFill>
          <a:blip r:embed="rId2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C:\Users\Home\Downloads\украинская кухня.jpg"/>
          <p:cNvPicPr/>
          <p:nvPr/>
        </p:nvPicPr>
        <p:blipFill>
          <a:blip r:embed="rId3"/>
          <a:stretch/>
        </p:blipFill>
        <p:spPr>
          <a:xfrm>
            <a:off x="684360" y="1714680"/>
            <a:ext cx="7920000" cy="42354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Заголов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8050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C:\Documents and Settings\User\Рабочий стол\Інформаційні години\post-202741-1250850464.jpg"/>
          <p:cNvPicPr/>
          <p:nvPr/>
        </p:nvPicPr>
        <p:blipFill>
          <a:blip r:embed="rId2"/>
          <a:stretch/>
        </p:blipFill>
        <p:spPr>
          <a:xfrm>
            <a:off x="357120" y="1500120"/>
            <a:ext cx="4214880" cy="24289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" descr="C:\Documents and Settings\User\Рабочий стол\Інформаційні години\salo.jpg"/>
          <p:cNvPicPr/>
          <p:nvPr/>
        </p:nvPicPr>
        <p:blipFill>
          <a:blip r:embed="rId3"/>
          <a:srcRect l="12667" t="9701" r="12332" b="13012"/>
          <a:stretch/>
        </p:blipFill>
        <p:spPr>
          <a:xfrm>
            <a:off x="4643280" y="1500120"/>
            <a:ext cx="4143600" cy="24289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C:\Documents and Settings\User\Рабочий стол\Інформаційні години\1282618519_karavay.jpg"/>
          <p:cNvPicPr/>
          <p:nvPr/>
        </p:nvPicPr>
        <p:blipFill>
          <a:blip r:embed="rId4"/>
          <a:stretch/>
        </p:blipFill>
        <p:spPr>
          <a:xfrm>
            <a:off x="4643280" y="4000680"/>
            <a:ext cx="4071960" cy="25002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C:\Documents and Settings\User\Рабочий стол\Інформаційні години\43106_2.jpg"/>
          <p:cNvPicPr/>
          <p:nvPr/>
        </p:nvPicPr>
        <p:blipFill>
          <a:blip r:embed="rId5"/>
          <a:stretch/>
        </p:blipFill>
        <p:spPr>
          <a:xfrm>
            <a:off x="357120" y="4000680"/>
            <a:ext cx="4214880" cy="25174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C:\Documents and Settings\User\Рабочий стол\Інформаційні години\borsch1.jpg"/>
          <p:cNvPicPr/>
          <p:nvPr/>
        </p:nvPicPr>
        <p:blipFill>
          <a:blip r:embed="rId1"/>
          <a:stretch/>
        </p:blipFill>
        <p:spPr>
          <a:xfrm>
            <a:off x="0" y="0"/>
            <a:ext cx="5214960" cy="3500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" descr="C:\Documents and Settings\User\Рабочий стол\Інформаційні години\Vareniki.jpg"/>
          <p:cNvPicPr/>
          <p:nvPr/>
        </p:nvPicPr>
        <p:blipFill>
          <a:blip r:embed="rId2"/>
          <a:stretch/>
        </p:blipFill>
        <p:spPr>
          <a:xfrm>
            <a:off x="0" y="3571920"/>
            <a:ext cx="5214960" cy="32860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" descr="C:\Documents and Settings\User\Рабочий стол\Інформаційні години\3.jpg"/>
          <p:cNvPicPr/>
          <p:nvPr/>
        </p:nvPicPr>
        <p:blipFill>
          <a:blip r:embed="rId3"/>
          <a:stretch/>
        </p:blipFill>
        <p:spPr>
          <a:xfrm>
            <a:off x="5286240" y="1285920"/>
            <a:ext cx="3633840" cy="45003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192" name="Picture 6" descr="C:\Users\Home\Desktop\103947750_large_4437240_114.jpg"/>
          <p:cNvPicPr/>
          <p:nvPr/>
        </p:nvPicPr>
        <p:blipFill>
          <a:blip r:embed="rId1"/>
          <a:stretch/>
        </p:blipFill>
        <p:spPr>
          <a:xfrm>
            <a:off x="468360" y="426960"/>
            <a:ext cx="8219880" cy="5908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Заголовок 2" descr=""/>
          <p:cNvPicPr/>
          <p:nvPr/>
        </p:nvPicPr>
        <p:blipFill>
          <a:blip r:embed="rId1"/>
          <a:stretch/>
        </p:blipFill>
        <p:spPr>
          <a:xfrm>
            <a:off x="268200" y="-79200"/>
            <a:ext cx="8601120" cy="21700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" descr="C:\Documents and Settings\User\Рабочий стол\Інформаційні години\original.jpg"/>
          <p:cNvPicPr/>
          <p:nvPr/>
        </p:nvPicPr>
        <p:blipFill>
          <a:blip r:embed="rId2"/>
          <a:stretch/>
        </p:blipFill>
        <p:spPr>
          <a:xfrm>
            <a:off x="468360" y="1844640"/>
            <a:ext cx="8315280" cy="48085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2" descr=""/>
          <p:cNvPicPr/>
          <p:nvPr/>
        </p:nvPicPr>
        <p:blipFill>
          <a:blip r:embed="rId1"/>
          <a:stretch/>
        </p:blipFill>
        <p:spPr>
          <a:xfrm>
            <a:off x="262080" y="-12600"/>
            <a:ext cx="8632800" cy="2170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C:\Users\Home\Desktop\Belkovaya-dieta.jpg"/>
          <p:cNvPicPr/>
          <p:nvPr/>
        </p:nvPicPr>
        <p:blipFill>
          <a:blip r:embed="rId2"/>
          <a:stretch/>
        </p:blipFill>
        <p:spPr>
          <a:xfrm>
            <a:off x="395280" y="1916280"/>
            <a:ext cx="8497800" cy="47368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Заголовок 2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596080" cy="1592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" descr="C:\Users\Home\Desktop\img14.jpg"/>
          <p:cNvPicPr/>
          <p:nvPr/>
        </p:nvPicPr>
        <p:blipFill>
          <a:blip r:embed="rId2"/>
          <a:srcRect l="0" t="12441" r="0" b="0"/>
          <a:stretch/>
        </p:blipFill>
        <p:spPr>
          <a:xfrm>
            <a:off x="324000" y="1298520"/>
            <a:ext cx="8208720" cy="53895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5T10:11:30Z</dcterms:created>
  <dc:creator>User</dc:creator>
  <dc:description/>
  <dc:language>en-US</dc:language>
  <cp:lastModifiedBy>Home</cp:lastModifiedBy>
  <dcterms:modified xsi:type="dcterms:W3CDTF">2016-11-24T06:05:33Z</dcterms:modified>
  <cp:revision>40</cp:revision>
  <dc:subject/>
  <dc:title>Слайд 1</dc:title>
</cp:coreProperties>
</file>