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0.jpeg" ContentType="image/jpeg"/>
  <Override PartName="/ppt/media/image35.png" ContentType="image/png"/>
  <Override PartName="/ppt/media/image5.png" ContentType="image/png"/>
  <Override PartName="/ppt/media/image11.gif" ContentType="image/gif"/>
  <Override PartName="/ppt/media/image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36.png" ContentType="image/png"/>
  <Override PartName="/ppt/media/image37.gif" ContentType="image/gif"/>
  <Override PartName="/ppt/media/image2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F56-C6F3-48DF-936F-884FD241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524-81B1-4743-A619-C2863A3D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658-C641-4B52-8E60-F8035436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58C-FBB9-42B4-AB07-25787B2D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68E-DCD5-491D-976E-AFC2353A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C60-C096-44F1-8A7E-34C7C34E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D83-0A73-4667-8C15-ED069FE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63E-9546-4390-9C0B-B537446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A99-D67B-456A-936B-CA809885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C7F-E9A1-43E2-8010-1F8E306D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DEC-EF2D-4E73-9867-213F010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DE1-1F53-4FA3-B2EF-D82F68F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ADC3-C9AD-479C-B126-FC1BBDE0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блако 5"/>
          <p:cNvSpPr/>
          <p:nvPr/>
        </p:nvSpPr>
        <p:spPr>
          <a:xfrm>
            <a:off x="3124080" y="0"/>
            <a:ext cx="3124440" cy="138096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  <a:ea typeface="Arial"/>
              </a:rPr>
              <a:t>К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блако 5"/>
          <p:cNvSpPr/>
          <p:nvPr/>
        </p:nvSpPr>
        <p:spPr>
          <a:xfrm>
            <a:off x="3352680" y="1523880"/>
            <a:ext cx="2971800" cy="115272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Ж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лако 5"/>
          <p:cNvSpPr/>
          <p:nvPr/>
        </p:nvSpPr>
        <p:spPr>
          <a:xfrm>
            <a:off x="6553080" y="380880"/>
            <a:ext cx="2428920" cy="100008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блако 5"/>
          <p:cNvSpPr/>
          <p:nvPr/>
        </p:nvSpPr>
        <p:spPr>
          <a:xfrm>
            <a:off x="5410080" y="2514600"/>
            <a:ext cx="3353040" cy="138096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ВЧ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лако 5"/>
          <p:cNvSpPr/>
          <p:nvPr/>
        </p:nvSpPr>
        <p:spPr>
          <a:xfrm>
            <a:off x="304920" y="990720"/>
            <a:ext cx="2428920" cy="100008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Я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лако 5"/>
          <p:cNvSpPr/>
          <p:nvPr/>
        </p:nvSpPr>
        <p:spPr>
          <a:xfrm>
            <a:off x="609480" y="2362320"/>
            <a:ext cx="2819520" cy="115236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СВІ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3264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1080" y="0"/>
            <a:ext cx="5867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ФІЗХВИЛИНК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447920" y="1981080"/>
            <a:ext cx="6629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ПІЗНАЙ  КАЗКУ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87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9246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6234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&amp;Pcy;&amp;acy;&amp;ncy;&amp;iukcy; &amp;Mcy;&amp;iecy;&amp;tcy;&amp;iecy;&amp;lcy;&amp;icy;&amp;tscy;&amp;yacy; "/>
          <p:cNvPicPr/>
          <p:nvPr/>
        </p:nvPicPr>
        <p:blipFill>
          <a:blip r:embed="rId2"/>
          <a:stretch/>
        </p:blipFill>
        <p:spPr>
          <a:xfrm>
            <a:off x="1219320" y="243000"/>
            <a:ext cx="708660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7724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905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Pcy;&amp;ocy;&amp;pcy;&amp;iecy;&amp;lcy;&amp;yucy;&amp;shcy;&amp;kcy;&amp;acy;"/>
          <p:cNvPicPr/>
          <p:nvPr/>
        </p:nvPicPr>
        <p:blipFill>
          <a:blip r:embed="rId2"/>
          <a:stretch/>
        </p:blipFill>
        <p:spPr>
          <a:xfrm>
            <a:off x="533520" y="380880"/>
            <a:ext cx="807696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-17640"/>
            <a:ext cx="70866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04800" y="0"/>
            <a:ext cx="61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5257800" cy="516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19640" y="914400"/>
            <a:ext cx="3924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&amp;TScy;&amp;iecy; - &amp;dcy;&amp;iecy;&amp;yacy;&amp;kcy;&amp;iukcy; &amp;zcy; &amp;gcy;&amp;iecy;&amp;rcy;&amp;ocy;&amp;yicy;&amp;vcy; &amp;kcy;&amp;acy;&amp;zcy;&amp;ocy;&amp;kcy; &amp;pcy;&amp;rcy;&amp;ocy; &amp;Mcy;&amp;acy;&amp;ucy;&amp;gcy;&amp;lcy;&amp;iukcy; :-)"/>
          <p:cNvPicPr/>
          <p:nvPr/>
        </p:nvPicPr>
        <p:blipFill>
          <a:blip r:embed="rId2"/>
          <a:stretch/>
        </p:blipFill>
        <p:spPr>
          <a:xfrm>
            <a:off x="2133720" y="304920"/>
            <a:ext cx="49593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15364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828800" y="160020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ТО АВТОР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ГРАМИ?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787.gif"/>
          <p:cNvPicPr/>
          <p:nvPr/>
        </p:nvPicPr>
        <p:blipFill>
          <a:blip r:embed="rId2"/>
          <a:stretch/>
        </p:blipFill>
        <p:spPr>
          <a:xfrm>
            <a:off x="3505320" y="3886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9" descr="770.gif"/>
          <p:cNvPicPr/>
          <p:nvPr/>
        </p:nvPicPr>
        <p:blipFill>
          <a:blip r:embed="rId3"/>
          <a:stretch/>
        </p:blipFill>
        <p:spPr>
          <a:xfrm>
            <a:off x="3733920" y="685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1942.gif"/>
          <p:cNvPicPr/>
          <p:nvPr/>
        </p:nvPicPr>
        <p:blipFill>
          <a:blip r:embed="rId4"/>
          <a:stretch/>
        </p:blipFill>
        <p:spPr>
          <a:xfrm>
            <a:off x="22860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1975.gif"/>
          <p:cNvPicPr/>
          <p:nvPr/>
        </p:nvPicPr>
        <p:blipFill>
          <a:blip r:embed="rId5"/>
          <a:stretch/>
        </p:blipFill>
        <p:spPr>
          <a:xfrm>
            <a:off x="6400800" y="3809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33520" y="0"/>
            <a:ext cx="3203280" cy="350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400800" y="304920"/>
            <a:ext cx="2276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7467840" cy="641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752480" y="914400"/>
            <a:ext cx="4343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ка 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 казку</a:t>
            </a:r>
            <a:endParaRPr b="0" lang="en-US" sz="4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51055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54480" y="228600"/>
            <a:ext cx="48895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3957840" cy="6629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286000"/>
            <a:ext cx="282420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319800" y="2514600"/>
            <a:ext cx="2824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7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31T19:00:1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