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454-83CA-40CD-9049-7C67E640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D14-46A9-44A8-94E1-BC67588B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839-80D8-477E-97A3-4CE83B31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AB0-C2B7-4DC5-BDE2-91140356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993-0749-4367-A25A-822605FA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DCC-553B-4F32-BAE7-4FEBA4F2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440-B42C-466A-9FFF-D79BBA6A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A1A-43DC-4E0C-9EE4-A9DC4EF9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334-796B-460E-9E74-05C14980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66B-AB1F-4B48-B1B1-82FDCB7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156-6A5C-42CD-ABD9-EF795487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DBC-FEC4-4D5A-A67A-DBCC8E8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D8F7-0EA5-4608-AD8D-482436ED06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4537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.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’язок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ій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ження і діл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78280"/>
            <a:ext cx="478800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зв’язування задач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вивчених типів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числення виразів на дії різного ступен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ійна ро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2 • 9 =            2 • 2 =             23 + 38 =                (26 + 7) – 1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2 • 6 =                2 • 4 =             84 – 56 =                 53 – (19 + 14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vvprav.ru/wp-content/uploads/2013/10/%D0%9C%D1%91%D0%B4.jpg"/>
          <p:cNvPicPr/>
          <p:nvPr/>
        </p:nvPicPr>
        <p:blipFill>
          <a:blip r:embed="rId1"/>
          <a:stretch/>
        </p:blipFill>
        <p:spPr>
          <a:xfrm>
            <a:off x="6516720" y="4508640"/>
            <a:ext cx="17762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бота в групах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133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гр. (4+5)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 гр. (10+8)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 гр. (8+4)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 гр. (20+7)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1850760" y="4797360"/>
            <a:ext cx="61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сти задачу за цим вираз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www.pr-deti.ru/images/stories/f48b7bfec4debf.jpg"/>
          <p:cNvPicPr/>
          <p:nvPr/>
        </p:nvPicPr>
        <p:blipFill>
          <a:blip r:embed="rId1"/>
          <a:stretch/>
        </p:blipFill>
        <p:spPr>
          <a:xfrm>
            <a:off x="395280" y="1916280"/>
            <a:ext cx="2327400" cy="199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тальмологічна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3" descr="0.jpeg"/>
          <p:cNvPicPr/>
          <p:nvPr/>
        </p:nvPicPr>
        <p:blipFill>
          <a:blip r:embed="rId1"/>
          <a:stretch/>
        </p:blipFill>
        <p:spPr>
          <a:xfrm>
            <a:off x="2340000" y="1989000"/>
            <a:ext cx="3744720" cy="4098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3" descr="6a00e54ee8552c883300e54f7781308834-800wi.gif"/>
          <p:cNvPicPr/>
          <p:nvPr/>
        </p:nvPicPr>
        <p:blipFill>
          <a:blip r:embed="rId1"/>
          <a:stretch/>
        </p:blipFill>
        <p:spPr>
          <a:xfrm>
            <a:off x="2905200" y="219564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є завдан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19280" y="2565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’язати задачі 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4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firstline.com.ua/portal/4nAlbum/album/15120/slyjebnaya/737871.jpg"/>
          <p:cNvPicPr/>
          <p:nvPr/>
        </p:nvPicPr>
        <p:blipFill>
          <a:blip r:embed="rId1"/>
          <a:stretch/>
        </p:blipFill>
        <p:spPr>
          <a:xfrm>
            <a:off x="2195640" y="3141720"/>
            <a:ext cx="431964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ізьмемо сьогодні з собою на урок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– ува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 – роз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 – організова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 – кмітлив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Будемо на уроц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– уваж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Ч – чем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 – наполегли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 – ініціатив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’язати приклад, в якому остання дія – відніманн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206064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3?8+12                      3?9-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13-10)?7                   3?(8-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alfadogy.ru/uploads/posts/2012-10/1351419775_glavn.jpg"/>
          <p:cNvPicPr/>
          <p:nvPr/>
        </p:nvPicPr>
        <p:blipFill>
          <a:blip r:embed="rId1"/>
          <a:stretch/>
        </p:blipFill>
        <p:spPr>
          <a:xfrm>
            <a:off x="2195640" y="3500280"/>
            <a:ext cx="4029120" cy="3084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 «До котрої квіточки підлетить бджілка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63640" y="1483920"/>
            <a:ext cx="640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?9-6              18:2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:2+50                                            3?7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  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?8+24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?3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                     15                   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http://art3d.org.ua/wp-content/uploads/2010/11/beauty-flowers-n-copy-1024x996.jpg"/>
          <p:cNvPicPr/>
          <p:nvPr/>
        </p:nvPicPr>
        <p:blipFill>
          <a:blip r:embed="rId1"/>
          <a:srcRect l="0" t="0" r="74670" b="74738"/>
          <a:stretch/>
        </p:blipFill>
        <p:spPr>
          <a:xfrm>
            <a:off x="4427640" y="2852640"/>
            <a:ext cx="752400" cy="730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http://art3d.org.ua/wp-content/uploads/2010/11/beauty-flowers-n-copy-1024x996.jpg"/>
          <p:cNvPicPr/>
          <p:nvPr/>
        </p:nvPicPr>
        <p:blipFill>
          <a:blip r:embed="rId2"/>
          <a:srcRect l="26289" t="2883" r="48878" b="75548"/>
          <a:stretch/>
        </p:blipFill>
        <p:spPr>
          <a:xfrm>
            <a:off x="5003640" y="4005360"/>
            <a:ext cx="738360" cy="695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art3d.org.ua/wp-content/uploads/2010/11/beauty-flowers-n-copy-1024x996.jpg"/>
          <p:cNvPicPr/>
          <p:nvPr/>
        </p:nvPicPr>
        <p:blipFill>
          <a:blip r:embed="rId3"/>
          <a:srcRect l="74189" t="0" r="0" b="75324"/>
          <a:stretch/>
        </p:blipFill>
        <p:spPr>
          <a:xfrm>
            <a:off x="3419640" y="4149720"/>
            <a:ext cx="693720" cy="712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http://art3d.org.ua/wp-content/uploads/2010/11/beauty-flowers-n-copy-1024x996.jpg"/>
          <p:cNvPicPr/>
          <p:nvPr/>
        </p:nvPicPr>
        <p:blipFill>
          <a:blip r:embed="rId4"/>
          <a:srcRect l="74189" t="26910" r="0" b="50862"/>
          <a:stretch/>
        </p:blipFill>
        <p:spPr>
          <a:xfrm>
            <a:off x="5148360" y="5229360"/>
            <a:ext cx="696960" cy="571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http://art3d.org.ua/wp-content/uploads/2010/11/beauty-flowers-n-copy-1024x996.jpg"/>
          <p:cNvPicPr/>
          <p:nvPr/>
        </p:nvPicPr>
        <p:blipFill>
          <a:blip r:embed="rId5"/>
          <a:srcRect l="74177" t="52168" r="0" b="26259"/>
          <a:stretch/>
        </p:blipFill>
        <p:spPr>
          <a:xfrm>
            <a:off x="3203640" y="5589720"/>
            <a:ext cx="698400" cy="6238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http://art3d.org.ua/wp-content/uploads/2010/11/beauty-flowers-n-copy-1024x996.jpg"/>
          <p:cNvPicPr/>
          <p:nvPr/>
        </p:nvPicPr>
        <p:blipFill>
          <a:blip r:embed="rId6"/>
          <a:srcRect l="51827" t="53243" r="26486" b="24467"/>
          <a:stretch/>
        </p:blipFill>
        <p:spPr>
          <a:xfrm>
            <a:off x="6948360" y="5661000"/>
            <a:ext cx="716040" cy="5731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pchyolkaco.com/wp-content/uploads/2012/03/pchyolka1.jpg"/>
          <p:cNvPicPr/>
          <p:nvPr/>
        </p:nvPicPr>
        <p:blipFill>
          <a:blip r:embed="rId7"/>
          <a:stretch/>
        </p:blipFill>
        <p:spPr>
          <a:xfrm>
            <a:off x="611280" y="1322280"/>
            <a:ext cx="2305080" cy="2271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чн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буток чисел 3 і 2 зменшити на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му чисел 12 і 6 поділити на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ізницю чисел 20 і 18 помножити на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20 відняти частку чисел 14 і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cs410629.vk.me/v410629436/6846/Gk2Nd6qxoIg.jpg"/>
          <p:cNvPicPr/>
          <p:nvPr/>
        </p:nvPicPr>
        <p:blipFill>
          <a:blip r:embed="rId1"/>
          <a:stretch/>
        </p:blipFill>
        <p:spPr>
          <a:xfrm>
            <a:off x="6659640" y="4032360"/>
            <a:ext cx="2484360" cy="2554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йдіть зайв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99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; 18; 4; 14; 24; 16; 8; 6;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licensingrussia.ru/wps/wp-content/uploads/2011/06/tumblr_l4lo29uc5v1qzyp47o1_500-275x300.png"/>
          <p:cNvPicPr/>
          <p:nvPr/>
        </p:nvPicPr>
        <p:blipFill>
          <a:blip r:embed="rId1"/>
          <a:stretch/>
        </p:blipFill>
        <p:spPr>
          <a:xfrm>
            <a:off x="6227640" y="3645000"/>
            <a:ext cx="261936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бчислі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• 3 = 21                      8 • 4 =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: 3 =                         32 :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: 7 =                         32 : 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s://encrypted-tbn2.gstatic.com/images?q=tbn:ANd9GcRx-CTotbgw1JJBwkhadxI03Ln9_1epyuUrEJ2tNHPs-nV3Y9XI"/>
          <p:cNvPicPr/>
          <p:nvPr/>
        </p:nvPicPr>
        <p:blipFill>
          <a:blip r:embed="rId1"/>
          <a:stretch/>
        </p:blipFill>
        <p:spPr>
          <a:xfrm>
            <a:off x="3348000" y="4292640"/>
            <a:ext cx="24004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ізкультхвилин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39d7f3f37a4d.gif"/>
          <p:cNvPicPr/>
          <p:nvPr/>
        </p:nvPicPr>
        <p:blipFill>
          <a:blip r:embed="rId1"/>
          <a:stretch/>
        </p:blipFill>
        <p:spPr>
          <a:xfrm>
            <a:off x="1619280" y="1719360"/>
            <a:ext cx="6022800" cy="4373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Волотовская</cp:lastModifiedBy>
  <dcterms:modified xsi:type="dcterms:W3CDTF">2014-01-19T10:22:18Z</dcterms:modified>
  <cp:revision>582</cp:revision>
  <dc:subject/>
  <dc:title>Diapositiva 1</dc:title>
</cp:coreProperties>
</file>