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803-6C23-4361-B40E-36B2955D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53D-A545-4AFB-8979-5BFBA02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B24-29D3-4DE2-9B28-575F2E04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722-C509-4935-ACBB-5356296F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F25-5316-4CCA-A861-73FB937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712-8288-4687-9AAF-E528D0B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71D-8538-49B5-AA13-4C642DC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731-BAFA-497C-BAAF-823F06E0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086-BD04-489E-ABF7-1663F27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9CB-63FD-4DFB-8011-1105290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0B7-64B5-4518-B900-0DEA536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E00-711C-47B2-95D0-4B73167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C5D5-5F45-4AE6-80C6-A79ED4BE0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9900"/>
                </a:solidFill>
                <a:latin typeface="Arial"/>
              </a:rPr>
              <a:t>Інтегроване заняття</a:t>
            </a:r>
            <a:br>
              <a:rPr sz="3600"/>
            </a:b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Мовленнєве спілкування і</a:t>
            </a:r>
            <a:br>
              <a:rPr sz="3600"/>
            </a:b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Образотворча діяльність</a:t>
            </a:r>
            <a:br>
              <a:rPr sz="3600"/>
            </a:br>
            <a:r>
              <a:rPr b="0" i="1" lang="uk-UA" sz="2800" spc="-1" strike="noStrike">
                <a:solidFill>
                  <a:srgbClr val="009900"/>
                </a:solidFill>
                <a:latin typeface="Arial"/>
              </a:rPr>
              <a:t>для дітей 5-го року житт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2400"/>
            </a:b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“Хай всім на планеті</a:t>
            </a:r>
            <a:br>
              <a:rPr sz="4400"/>
            </a:b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сонечко світить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2223" r="23883" b="34099"/>
          <a:stretch/>
        </p:blipFill>
        <p:spPr>
          <a:xfrm>
            <a:off x="0" y="0"/>
            <a:ext cx="7924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387" r="0" b="132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ttp://185.49.69.237/image/upload/2011-08-06/330026694634_6f1e4de765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5554" r="0" b="9097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402" t="21279" r="0" b="184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corel-clipart.ru/_ld/3/91973462.jpg"/>
          <p:cNvPicPr/>
          <p:nvPr/>
        </p:nvPicPr>
        <p:blipFill>
          <a:blip r:embed="rId1"/>
          <a:srcRect l="0" t="0" r="0" b="111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990" t="3134" r="3538" b="58720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6964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На все добр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 PC</cp:lastModifiedBy>
  <dcterms:modified xsi:type="dcterms:W3CDTF">2015-03-27T04:50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