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6.png" ContentType="image/png"/>
  <Override PartName="/ppt/media/image3.png" ContentType="image/png"/>
  <Override PartName="/ppt/media/image56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38.wmf" ContentType="image/x-wmf"/>
  <Override PartName="/ppt/media/image6.png" ContentType="image/png"/>
  <Override PartName="/ppt/media/image29.wmf" ContentType="image/x-wmf"/>
  <Override PartName="/ppt/media/image31.png" ContentType="image/png"/>
  <Override PartName="/ppt/media/image36.wmf" ContentType="image/x-wmf"/>
  <Override PartName="/ppt/media/image53.png" ContentType="image/png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33.jpeg" ContentType="image/jpeg"/>
  <Override PartName="/ppt/media/image30.wmf" ContentType="image/x-wmf"/>
  <Override PartName="/ppt/media/image37.wmf" ContentType="image/x-wmf"/>
  <Override PartName="/ppt/media/image54.png" ContentType="image/png"/>
  <Override PartName="/ppt/media/image4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55.png" ContentType="image/png"/>
  <Override PartName="/ppt/media/image35.png" ContentType="image/png"/>
  <Override PartName="/ppt/media/image5.png" ContentType="image/png"/>
  <Override PartName="/ppt/media/image42.wmf" ContentType="image/x-wmf"/>
  <Override PartName="/ppt/media/image9.png" ContentType="image/png"/>
  <Override PartName="/ppt/media/image13.png" ContentType="image/png"/>
  <Override PartName="/ppt/media/image41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52.wmf" ContentType="image/x-wmf"/>
  <Override PartName="/ppt/media/image12.png" ContentType="image/png"/>
  <Override PartName="/ppt/media/image50.wmf" ContentType="image/x-wmf"/>
  <Override PartName="/ppt/media/image1.jpeg" ContentType="image/jpeg"/>
  <Override PartName="/ppt/media/image4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9EF-CEA2-4793-B836-21424007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524-0FD9-4C2B-A0D3-7D4000B1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DE7-B0D2-4290-B06C-1F5E973E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C06-C61B-4B41-8757-22E11099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A648-6EC8-4D2A-945A-5F21DA49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D377-7380-47F6-B0D3-9016541E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1137-038C-4AA6-892E-8E9C4B7D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C6A2-14AA-4530-A703-B34A3007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AC51-900E-4520-9EB2-F4457598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FB96-F169-4C94-8642-C08AF28D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EB31-D35E-4B23-976A-0F1EF199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A90-6C23-4A07-B16C-A361649C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9319-757A-4D93-BCE2-2B02C16F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272C-2E2C-4824-9416-7CEBB836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92F7-9751-4F82-9A49-30D59CE3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62B5-EDCD-4EB1-A56C-4D95DC71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2D39-45CD-48DA-82F7-E4AEA037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3E1E4-D75D-4915-906A-6E3B63C9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E74F-E120-4452-BE61-97956CB8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AA76A-9044-482B-8B5D-32EAB1A2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A8B3F-4D96-484C-8F87-3DEB1963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DD43-850C-4EDC-9DED-82FA3A20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399-5EE5-47E5-B183-0E269A11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0B392-54DA-433F-BDF3-E95F5436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9B5B0-25BA-44E5-8CDF-D9AFB238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5E0C8-986A-4F50-8914-8A2290B4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8CFE9-5E6A-4D05-8335-EFE3315A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B7121-E7F9-494E-B440-DB52B022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F433C-97C0-441B-A06C-D19BE8B4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4FEB4-C25E-48B5-8936-680FC974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17C48-2C8B-4575-8C1C-C0875E5A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21F0-F12B-48DA-B8C2-7C430FE5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6D30B-B96C-425F-8033-E0237D80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EE8-D1EE-427A-A9FF-DACEB25D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F5525-A355-4DB9-BBD7-AE4E2067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158BA-8261-4419-9B6E-384C45EB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09AAE-ADC4-478F-A08F-3FAF18EB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E0FF7-4FC4-465F-9A9D-86B59543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781B7-1F8B-4965-AA41-F5CCD7F8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D245F-ED21-4916-9449-DCF73A34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91DA-F0CE-4050-9614-4D89F2AD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8F465-D38D-4E3A-B6AA-54AC7DA0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930E7-86CA-4F75-A3F7-A3913FB5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1E5-81BD-48A5-80AD-45F07FA8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AE4-BA8C-4E86-96BF-C68DD8C6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4D3-52F4-4485-B7DF-80095066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883-4A01-4D34-B03A-080C4423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970-3E0D-493E-8CB0-98F52164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9B46-00C6-49CF-836C-C80B97BEAC5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5781-D922-4E34-AF4A-42F42EC4138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5D30-D4ED-4A37-BBCF-7D612A6FCA9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3C71-E5C4-4D6E-B6F8-7682AD31238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5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6.wmf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  <p:grpSp>
        <p:nvGrpSpPr>
          <p:cNvPr id="196" name="Блок-схема: альтернативный процесс 2"/>
          <p:cNvGrpSpPr/>
          <p:nvPr/>
        </p:nvGrpSpPr>
        <p:grpSpPr>
          <a:xfrm>
            <a:off x="969840" y="871560"/>
            <a:ext cx="7131240" cy="2809800"/>
            <a:chOff x="969840" y="871560"/>
            <a:chExt cx="7131240" cy="2809800"/>
          </a:xfrm>
        </p:grpSpPr>
        <p:pic>
          <p:nvPicPr>
            <p:cNvPr id="197" name="Блок-схема: альтернативный процесс 2" descr=""/>
            <p:cNvPicPr/>
            <p:nvPr/>
          </p:nvPicPr>
          <p:blipFill>
            <a:blip r:embed="rId2"/>
            <a:stretch/>
          </p:blipFill>
          <p:spPr>
            <a:xfrm>
              <a:off x="969840" y="871560"/>
              <a:ext cx="713124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173240" y="1038240"/>
              <a:ext cx="6724440" cy="24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ування основних компетентностей  на уроках математик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Блок-схема: альтернативный процесс 3"/>
          <p:cNvGrpSpPr/>
          <p:nvPr/>
        </p:nvGrpSpPr>
        <p:grpSpPr>
          <a:xfrm>
            <a:off x="4406760" y="3968640"/>
            <a:ext cx="4670640" cy="1524240"/>
            <a:chOff x="4406760" y="3968640"/>
            <a:chExt cx="4670640" cy="1524240"/>
          </a:xfrm>
        </p:grpSpPr>
        <p:pic>
          <p:nvPicPr>
            <p:cNvPr id="200" name="Блок-схема: альтернативный процесс 3" descr=""/>
            <p:cNvPicPr/>
            <p:nvPr/>
          </p:nvPicPr>
          <p:blipFill>
            <a:blip r:embed="rId3"/>
            <a:stretch/>
          </p:blipFill>
          <p:spPr>
            <a:xfrm>
              <a:off x="4406760" y="3968640"/>
              <a:ext cx="46706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567320" y="4071960"/>
              <a:ext cx="436860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ступ підготувал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нчарова О.І. – вчитель математики Міловської гімназі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14"/>
          <p:cNvGrpSpPr/>
          <p:nvPr/>
        </p:nvGrpSpPr>
        <p:grpSpPr>
          <a:xfrm>
            <a:off x="468360" y="5013360"/>
            <a:ext cx="6767640" cy="1505520"/>
            <a:chOff x="468360" y="5013360"/>
            <a:chExt cx="6767640" cy="1505520"/>
          </a:xfrm>
        </p:grpSpPr>
        <p:pic>
          <p:nvPicPr>
            <p:cNvPr id="203" name="Рисунок 26" descr="паровоз.jpg"/>
            <p:cNvPicPr/>
            <p:nvPr/>
          </p:nvPicPr>
          <p:blipFill>
            <a:blip r:embed="rId4"/>
            <a:srcRect l="12004" t="9212" r="3999" b="6017"/>
            <a:stretch/>
          </p:blipFill>
          <p:spPr>
            <a:xfrm>
              <a:off x="5221800" y="5163120"/>
              <a:ext cx="20142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Рисунок 27" descr="линейка.jpg"/>
            <p:cNvPicPr/>
            <p:nvPr/>
          </p:nvPicPr>
          <p:blipFill>
            <a:blip r:embed="rId5"/>
            <a:srcRect l="2750" t="28444" r="2750" b="53926"/>
            <a:stretch/>
          </p:blipFill>
          <p:spPr>
            <a:xfrm rot="21173400">
              <a:off x="1609560" y="5952600"/>
              <a:ext cx="3525840" cy="24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Группа 19"/>
            <p:cNvGrpSpPr/>
            <p:nvPr/>
          </p:nvGrpSpPr>
          <p:grpSpPr>
            <a:xfrm>
              <a:off x="468360" y="5013360"/>
              <a:ext cx="1421640" cy="1398960"/>
              <a:chOff x="468360" y="5013360"/>
              <a:chExt cx="1421640" cy="1398960"/>
            </a:xfrm>
          </p:grpSpPr>
          <p:sp>
            <p:nvSpPr>
              <p:cNvPr id="206" name="Цилиндр 9"/>
              <p:cNvSpPr/>
              <p:nvPr/>
            </p:nvSpPr>
            <p:spPr>
              <a:xfrm>
                <a:off x="468360" y="5013360"/>
                <a:ext cx="836640" cy="1332360"/>
              </a:xfrm>
              <a:prstGeom prst="can">
                <a:avLst>
                  <a:gd name="adj" fmla="val 12500"/>
                </a:avLst>
              </a:prstGeom>
              <a:solidFill>
                <a:srgbClr val="00b0f0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Группа 18"/>
              <p:cNvGrpSpPr/>
              <p:nvPr/>
            </p:nvGrpSpPr>
            <p:grpSpPr>
              <a:xfrm>
                <a:off x="1179360" y="5512680"/>
                <a:ext cx="710640" cy="832320"/>
                <a:chOff x="1179360" y="5512680"/>
                <a:chExt cx="710640" cy="832320"/>
              </a:xfrm>
            </p:grpSpPr>
            <p:sp>
              <p:nvSpPr>
                <p:cNvPr id="208" name="Прямая соединительная линия 12"/>
                <p:cNvSpPr/>
                <p:nvPr/>
              </p:nvSpPr>
              <p:spPr>
                <a:xfrm>
                  <a:off x="1483920" y="5512680"/>
                  <a:ext cx="228240" cy="83232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Прямая соединительная линия 13"/>
                <p:cNvSpPr/>
                <p:nvPr/>
              </p:nvSpPr>
              <p:spPr>
                <a:xfrm flipH="1">
                  <a:off x="1179360" y="5512680"/>
                  <a:ext cx="304560" cy="68652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Прямая соединительная линия 14"/>
                <p:cNvSpPr/>
                <p:nvPr/>
              </p:nvSpPr>
              <p:spPr>
                <a:xfrm>
                  <a:off x="1179360" y="6199200"/>
                  <a:ext cx="533160" cy="14580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Прямая соединительная линия 15"/>
                <p:cNvSpPr/>
                <p:nvPr/>
              </p:nvSpPr>
              <p:spPr>
                <a:xfrm>
                  <a:off x="1483920" y="5512680"/>
                  <a:ext cx="406080" cy="53748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Прямая соединительная линия 16"/>
                <p:cNvSpPr/>
                <p:nvPr/>
              </p:nvSpPr>
              <p:spPr>
                <a:xfrm flipH="1">
                  <a:off x="1712160" y="6050160"/>
                  <a:ext cx="177480" cy="29484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Куб 4"/>
              <p:cNvSpPr/>
              <p:nvPr/>
            </p:nvSpPr>
            <p:spPr>
              <a:xfrm>
                <a:off x="844560" y="5945400"/>
                <a:ext cx="585720" cy="466920"/>
              </a:xfrm>
              <a:prstGeom prst="cube">
                <a:avLst>
                  <a:gd name="adj" fmla="val 25000"/>
                </a:avLst>
              </a:prstGeom>
              <a:solidFill>
                <a:srgbClr val="ffc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4" name="Рисунок 29" descr="циркуль.jpg"/>
            <p:cNvPicPr/>
            <p:nvPr/>
          </p:nvPicPr>
          <p:blipFill>
            <a:blip r:embed="rId6"/>
            <a:srcRect l="3368" t="1952" r="3368" b="3129"/>
            <a:stretch/>
          </p:blipFill>
          <p:spPr>
            <a:xfrm rot="15859200">
              <a:off x="2398320" y="5386320"/>
              <a:ext cx="768960" cy="1364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  <p:grpSp>
        <p:nvGrpSpPr>
          <p:cNvPr id="332" name="Блок-схема: альтернативный процесс 2"/>
          <p:cNvGrpSpPr/>
          <p:nvPr/>
        </p:nvGrpSpPr>
        <p:grpSpPr>
          <a:xfrm>
            <a:off x="103320" y="438120"/>
            <a:ext cx="8791560" cy="5621400"/>
            <a:chOff x="103320" y="438120"/>
            <a:chExt cx="8791560" cy="5621400"/>
          </a:xfrm>
        </p:grpSpPr>
        <p:pic>
          <p:nvPicPr>
            <p:cNvPr id="333" name="Блок-схема: альтернативный процесс 2" descr=""/>
            <p:cNvPicPr/>
            <p:nvPr/>
          </p:nvPicPr>
          <p:blipFill>
            <a:blip r:embed="rId2"/>
            <a:stretch/>
          </p:blipFill>
          <p:spPr>
            <a:xfrm>
              <a:off x="103320" y="438120"/>
              <a:ext cx="8791560" cy="56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446040" y="743040"/>
              <a:ext cx="8107560" cy="49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 u="sng">
                  <a:solidFill>
                    <a:srgbClr val="ff0000"/>
                  </a:solidFill>
                  <a:uFillTx/>
                  <a:latin typeface="Constantia"/>
                  <a:ea typeface="Times New Roman"/>
                </a:rPr>
                <a:t>Комунікативна   компетентніст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Стимулювання вміння учнів висловлювати власну точку зору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  </a:t>
              </a:r>
              <a:r>
                <a:rPr b="1" lang="uk-UA" sz="20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Сприяння   удосконаленню  вмінь  вести  навчальний діало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Використання  усних  та  письмових  рецензій  на  відповідь,  доповнень  та зауважень до неї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Удосконалення  вмінь  дітей  формулювати  цілі  власної діяльності  та  робити висновки за її результатам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 </a:t>
              </a:r>
              <a:r>
                <a:rPr b="1" lang="uk-UA" sz="20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Застосування   взаємоопитування  та  взаємоперевірки   з можливим  подальшим  коментування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Організація групової роботи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Проведення  нестандартних  уроків  ,  уроків-змагань  , КВК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Підготовка  учнями  нестандартних  запитань однокласника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Стимулювання  спілкування  учнів  з  ровесниками  та дорослими  з  метою   підвищення  рівня  навчальних досягнень та ерудиції учні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Группа 34"/>
          <p:cNvGrpSpPr/>
          <p:nvPr/>
        </p:nvGrpSpPr>
        <p:grpSpPr>
          <a:xfrm>
            <a:off x="4714920" y="5715000"/>
            <a:ext cx="3571920" cy="1177200"/>
            <a:chOff x="4714920" y="5715000"/>
            <a:chExt cx="3571920" cy="1177200"/>
          </a:xfrm>
        </p:grpSpPr>
        <p:pic>
          <p:nvPicPr>
            <p:cNvPr id="336" name="Рисунок 26" descr="паровоз.jpg"/>
            <p:cNvPicPr/>
            <p:nvPr/>
          </p:nvPicPr>
          <p:blipFill>
            <a:blip r:embed="rId3"/>
            <a:srcRect l="11994" t="9231" r="3989" b="6020"/>
            <a:stretch/>
          </p:blipFill>
          <p:spPr>
            <a:xfrm>
              <a:off x="7223760" y="5913000"/>
              <a:ext cx="1063080" cy="9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Рисунок 27" descr="линейка.jpg"/>
            <p:cNvPicPr/>
            <p:nvPr/>
          </p:nvPicPr>
          <p:blipFill>
            <a:blip r:embed="rId4"/>
            <a:srcRect l="2759" t="28457" r="2759" b="53930"/>
            <a:stretch/>
          </p:blipFill>
          <p:spPr>
            <a:xfrm rot="21173400">
              <a:off x="5317200" y="6460200"/>
              <a:ext cx="1860840" cy="19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8" name="Группа 19"/>
            <p:cNvGrpSpPr/>
            <p:nvPr/>
          </p:nvGrpSpPr>
          <p:grpSpPr>
            <a:xfrm>
              <a:off x="4714920" y="5715000"/>
              <a:ext cx="750240" cy="1110240"/>
              <a:chOff x="4714920" y="5715000"/>
              <a:chExt cx="750240" cy="1110240"/>
            </a:xfrm>
          </p:grpSpPr>
          <p:sp>
            <p:nvSpPr>
              <p:cNvPr id="339" name="Цилиндр 9"/>
              <p:cNvSpPr/>
              <p:nvPr/>
            </p:nvSpPr>
            <p:spPr>
              <a:xfrm>
                <a:off x="4714920" y="5715000"/>
                <a:ext cx="441360" cy="1057320"/>
              </a:xfrm>
              <a:prstGeom prst="can">
                <a:avLst>
                  <a:gd name="adj" fmla="val 12472"/>
                </a:avLst>
              </a:prstGeom>
              <a:solidFill>
                <a:srgbClr val="00b0f0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Группа 18"/>
              <p:cNvGrpSpPr/>
              <p:nvPr/>
            </p:nvGrpSpPr>
            <p:grpSpPr>
              <a:xfrm>
                <a:off x="5090040" y="6110640"/>
                <a:ext cx="375120" cy="659520"/>
                <a:chOff x="5090040" y="6110640"/>
                <a:chExt cx="375120" cy="659520"/>
              </a:xfrm>
            </p:grpSpPr>
            <p:sp>
              <p:nvSpPr>
                <p:cNvPr id="341" name="Прямая соединительная линия 12"/>
                <p:cNvSpPr/>
                <p:nvPr/>
              </p:nvSpPr>
              <p:spPr>
                <a:xfrm>
                  <a:off x="5249880" y="6110640"/>
                  <a:ext cx="120600" cy="65952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Прямая соединительная линия 13"/>
                <p:cNvSpPr/>
                <p:nvPr/>
              </p:nvSpPr>
              <p:spPr>
                <a:xfrm flipH="1">
                  <a:off x="5090040" y="6110640"/>
                  <a:ext cx="160560" cy="54036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Прямая соединительная линия 14"/>
                <p:cNvSpPr/>
                <p:nvPr/>
              </p:nvSpPr>
              <p:spPr>
                <a:xfrm>
                  <a:off x="5090040" y="6651000"/>
                  <a:ext cx="281160" cy="11916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Прямая соединительная линия 15"/>
                <p:cNvSpPr/>
                <p:nvPr/>
              </p:nvSpPr>
              <p:spPr>
                <a:xfrm>
                  <a:off x="5250600" y="6110640"/>
                  <a:ext cx="214560" cy="42480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Прямая соединительная линия 16"/>
                <p:cNvSpPr/>
                <p:nvPr/>
              </p:nvSpPr>
              <p:spPr>
                <a:xfrm flipH="1">
                  <a:off x="5370840" y="6535440"/>
                  <a:ext cx="93960" cy="23472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Куб 4"/>
              <p:cNvSpPr/>
              <p:nvPr/>
            </p:nvSpPr>
            <p:spPr>
              <a:xfrm>
                <a:off x="4914000" y="6454800"/>
                <a:ext cx="307800" cy="370440"/>
              </a:xfrm>
              <a:prstGeom prst="cube">
                <a:avLst>
                  <a:gd name="adj" fmla="val 25000"/>
                </a:avLst>
              </a:prstGeom>
              <a:solidFill>
                <a:srgbClr val="ffc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7" name="Рисунок 29" descr="циркуль.jpg"/>
            <p:cNvPicPr/>
            <p:nvPr/>
          </p:nvPicPr>
          <p:blipFill>
            <a:blip r:embed="rId5"/>
            <a:srcRect l="3331" t="1937" r="3331" b="3143"/>
            <a:stretch/>
          </p:blipFill>
          <p:spPr>
            <a:xfrm rot="15859200">
              <a:off x="5631120" y="6192360"/>
              <a:ext cx="610560" cy="72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  <p:grpSp>
        <p:nvGrpSpPr>
          <p:cNvPr id="350" name="Блок-схема: альтернативный процесс 2"/>
          <p:cNvGrpSpPr/>
          <p:nvPr/>
        </p:nvGrpSpPr>
        <p:grpSpPr>
          <a:xfrm>
            <a:off x="103320" y="438120"/>
            <a:ext cx="8791560" cy="5621400"/>
            <a:chOff x="103320" y="438120"/>
            <a:chExt cx="8791560" cy="5621400"/>
          </a:xfrm>
        </p:grpSpPr>
        <p:pic>
          <p:nvPicPr>
            <p:cNvPr id="351" name="Блок-схема: альтернативный процесс 2" descr=""/>
            <p:cNvPicPr/>
            <p:nvPr/>
          </p:nvPicPr>
          <p:blipFill>
            <a:blip r:embed="rId2"/>
            <a:stretch/>
          </p:blipFill>
          <p:spPr>
            <a:xfrm>
              <a:off x="103320" y="438120"/>
              <a:ext cx="8791560" cy="56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46040" y="743040"/>
              <a:ext cx="8107560" cy="49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 u="sng">
                  <a:solidFill>
                    <a:srgbClr val="ff0000"/>
                  </a:solidFill>
                  <a:uFillTx/>
                  <a:latin typeface="Constantia"/>
                  <a:ea typeface="Times New Roman"/>
                </a:rPr>
                <a:t>Інформаційна компетент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Залучення вчителем додаткової    інформації    в процесі викладання  математик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Стимулювання  учнів до використання додаткової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 </a:t>
              </a: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інформації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Активна співпраця з кабінетом інформатики щод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 </a:t>
              </a: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використання  навчальних програм з математик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Використання  малюнків,  таблиць,  схем,   як  джерел інформації, та передбачення складанн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схем , таблиць ,планів ,  опорних   конспектів ,  як  результату  роботи учнів з інформацією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Випуск    шкільних    газет,  створення    інформаційних сторінок  у класних куточках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Группа 34"/>
          <p:cNvGrpSpPr/>
          <p:nvPr/>
        </p:nvGrpSpPr>
        <p:grpSpPr>
          <a:xfrm>
            <a:off x="2843280" y="5516640"/>
            <a:ext cx="5616360" cy="1179720"/>
            <a:chOff x="2843280" y="5516640"/>
            <a:chExt cx="5616360" cy="1179720"/>
          </a:xfrm>
        </p:grpSpPr>
        <p:pic>
          <p:nvPicPr>
            <p:cNvPr id="354" name="Рисунок 26" descr="паровоз.jpg"/>
            <p:cNvPicPr/>
            <p:nvPr/>
          </p:nvPicPr>
          <p:blipFill>
            <a:blip r:embed="rId3"/>
            <a:srcRect l="12004" t="9212" r="3999" b="6017"/>
            <a:stretch/>
          </p:blipFill>
          <p:spPr>
            <a:xfrm>
              <a:off x="6788160" y="5711400"/>
              <a:ext cx="1671480" cy="8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Рисунок 27" descr="линейка.jpg"/>
            <p:cNvPicPr/>
            <p:nvPr/>
          </p:nvPicPr>
          <p:blipFill>
            <a:blip r:embed="rId4"/>
            <a:srcRect l="2750" t="28444" r="2750" b="53926"/>
            <a:stretch/>
          </p:blipFill>
          <p:spPr>
            <a:xfrm rot="21173400">
              <a:off x="3790440" y="6250320"/>
              <a:ext cx="2926080" cy="19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6" name="Группа 19"/>
            <p:cNvGrpSpPr/>
            <p:nvPr/>
          </p:nvGrpSpPr>
          <p:grpSpPr>
            <a:xfrm>
              <a:off x="2843280" y="5516640"/>
              <a:ext cx="1179720" cy="1093320"/>
              <a:chOff x="2843280" y="5516640"/>
              <a:chExt cx="1179720" cy="1093320"/>
            </a:xfrm>
          </p:grpSpPr>
          <p:sp>
            <p:nvSpPr>
              <p:cNvPr id="357" name="Цилиндр 9"/>
              <p:cNvSpPr/>
              <p:nvPr/>
            </p:nvSpPr>
            <p:spPr>
              <a:xfrm>
                <a:off x="2843280" y="5516640"/>
                <a:ext cx="691920" cy="1042560"/>
              </a:xfrm>
              <a:prstGeom prst="can">
                <a:avLst>
                  <a:gd name="adj" fmla="val 12435"/>
                </a:avLst>
              </a:prstGeom>
              <a:solidFill>
                <a:srgbClr val="00b0f0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Группа 18"/>
              <p:cNvGrpSpPr/>
              <p:nvPr/>
            </p:nvGrpSpPr>
            <p:grpSpPr>
              <a:xfrm>
                <a:off x="3433320" y="5906520"/>
                <a:ext cx="589680" cy="650160"/>
                <a:chOff x="3433320" y="5906520"/>
                <a:chExt cx="589680" cy="650160"/>
              </a:xfrm>
            </p:grpSpPr>
            <p:sp>
              <p:nvSpPr>
                <p:cNvPr id="359" name="Прямая соединительная линия 12"/>
                <p:cNvSpPr/>
                <p:nvPr/>
              </p:nvSpPr>
              <p:spPr>
                <a:xfrm>
                  <a:off x="3686760" y="5906520"/>
                  <a:ext cx="187920" cy="65016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Прямая соединительная линия 13"/>
                <p:cNvSpPr/>
                <p:nvPr/>
              </p:nvSpPr>
              <p:spPr>
                <a:xfrm flipH="1">
                  <a:off x="3433320" y="5906520"/>
                  <a:ext cx="253440" cy="53208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Прямая соединительная линия 14"/>
                <p:cNvSpPr/>
                <p:nvPr/>
              </p:nvSpPr>
              <p:spPr>
                <a:xfrm>
                  <a:off x="3433320" y="6438600"/>
                  <a:ext cx="441720" cy="11808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Прямая соединительная линия 15"/>
                <p:cNvSpPr/>
                <p:nvPr/>
              </p:nvSpPr>
              <p:spPr>
                <a:xfrm>
                  <a:off x="3686760" y="5906520"/>
                  <a:ext cx="336240" cy="41868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Прямая соединительная линия 16"/>
                <p:cNvSpPr/>
                <p:nvPr/>
              </p:nvSpPr>
              <p:spPr>
                <a:xfrm flipH="1">
                  <a:off x="3874680" y="6325200"/>
                  <a:ext cx="147960" cy="23148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" name="Куб 4"/>
              <p:cNvSpPr/>
              <p:nvPr/>
            </p:nvSpPr>
            <p:spPr>
              <a:xfrm>
                <a:off x="3155760" y="6246720"/>
                <a:ext cx="484200" cy="363240"/>
              </a:xfrm>
              <a:prstGeom prst="cube">
                <a:avLst>
                  <a:gd name="adj" fmla="val 25000"/>
                </a:avLst>
              </a:prstGeom>
              <a:solidFill>
                <a:srgbClr val="ffc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5" name="Рисунок 29" descr="циркуль.jpg"/>
            <p:cNvPicPr/>
            <p:nvPr/>
          </p:nvPicPr>
          <p:blipFill>
            <a:blip r:embed="rId5"/>
            <a:srcRect l="3331" t="1937" r="3331" b="3143"/>
            <a:stretch/>
          </p:blipFill>
          <p:spPr>
            <a:xfrm rot="15859200">
              <a:off x="4463640" y="5774760"/>
              <a:ext cx="600840" cy="113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Object 12"/>
          <p:cNvGraphicFramePr/>
          <p:nvPr/>
        </p:nvGraphicFramePr>
        <p:xfrm>
          <a:off x="2714760" y="1071720"/>
          <a:ext cx="32860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1071720"/>
                    <a:ext cx="3286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1"/>
          <p:cNvGraphicFramePr/>
          <p:nvPr/>
        </p:nvGraphicFramePr>
        <p:xfrm>
          <a:off x="6215040" y="1143000"/>
          <a:ext cx="97308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5040" y="1143000"/>
                    <a:ext cx="9730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0"/>
          <p:cNvGraphicFramePr/>
          <p:nvPr/>
        </p:nvGraphicFramePr>
        <p:xfrm>
          <a:off x="857160" y="2643120"/>
          <a:ext cx="174960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2643120"/>
                    <a:ext cx="17496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9"/>
          <p:cNvGraphicFramePr/>
          <p:nvPr/>
        </p:nvGraphicFramePr>
        <p:xfrm>
          <a:off x="3929040" y="2643120"/>
          <a:ext cx="1717560" cy="50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9040" y="2643120"/>
                    <a:ext cx="17175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8"/>
          <p:cNvGraphicFramePr/>
          <p:nvPr/>
        </p:nvGraphicFramePr>
        <p:xfrm>
          <a:off x="7215120" y="2500200"/>
          <a:ext cx="1758960" cy="57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15120" y="2500200"/>
                    <a:ext cx="17589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7"/>
          <p:cNvGraphicFramePr/>
          <p:nvPr/>
        </p:nvGraphicFramePr>
        <p:xfrm>
          <a:off x="285840" y="1928880"/>
          <a:ext cx="2184480" cy="571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5840" y="1928880"/>
                    <a:ext cx="21844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6"/>
          <p:cNvGraphicFramePr/>
          <p:nvPr/>
        </p:nvGraphicFramePr>
        <p:xfrm>
          <a:off x="3500280" y="2000160"/>
          <a:ext cx="1857600" cy="544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0280" y="2000160"/>
                    <a:ext cx="18576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5"/>
          <p:cNvGraphicFramePr/>
          <p:nvPr/>
        </p:nvGraphicFramePr>
        <p:xfrm>
          <a:off x="7286760" y="1857240"/>
          <a:ext cx="1428480" cy="588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1" name="Object 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286760" y="1857240"/>
                    <a:ext cx="14284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3"/>
          <p:cNvGraphicFramePr/>
          <p:nvPr/>
        </p:nvGraphicFramePr>
        <p:xfrm>
          <a:off x="500040" y="3643200"/>
          <a:ext cx="2529000" cy="2643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0040" y="3643200"/>
                    <a:ext cx="2529000" cy="26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2"/>
          <p:cNvGraphicFramePr/>
          <p:nvPr/>
        </p:nvGraphicFramePr>
        <p:xfrm>
          <a:off x="3857760" y="3071880"/>
          <a:ext cx="2071440" cy="3786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57760" y="3071880"/>
                    <a:ext cx="207144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"/>
          <p:cNvGraphicFramePr/>
          <p:nvPr/>
        </p:nvGraphicFramePr>
        <p:xfrm>
          <a:off x="7643880" y="3357720"/>
          <a:ext cx="1108080" cy="571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7" name="Object 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43880" y="3357720"/>
                    <a:ext cx="11080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8" name=""/>
          <p:cNvGrpSpPr/>
          <p:nvPr/>
        </p:nvGrpSpPr>
        <p:grpSpPr>
          <a:xfrm>
            <a:off x="1785240" y="1714680"/>
            <a:ext cx="1019520" cy="181080"/>
            <a:chOff x="1785240" y="1714680"/>
            <a:chExt cx="1019520" cy="181080"/>
          </a:xfrm>
        </p:grpSpPr>
        <p:cxnSp>
          <p:nvCxnSpPr>
            <p:cNvPr id="389" name="AutoShape 13"/>
            <p:cNvCxnSpPr/>
            <p:nvPr/>
          </p:nvCxnSpPr>
          <p:spPr>
            <a:xfrm flipH="1">
              <a:off x="1785240" y="1714680"/>
              <a:ext cx="1019880" cy="18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0" name=""/>
            <p:cNvSpPr txBox="1"/>
            <p:nvPr/>
          </p:nvSpPr>
          <p:spPr>
            <a:xfrm>
              <a:off x="1785600" y="1714680"/>
              <a:ext cx="1019160" cy="18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868640" y="1879200"/>
            <a:ext cx="720" cy="720"/>
            <a:chOff x="4868640" y="1879200"/>
            <a:chExt cx="720" cy="720"/>
          </a:xfrm>
        </p:grpSpPr>
        <p:cxnSp>
          <p:nvCxnSpPr>
            <p:cNvPr id="392" name="AutoShape 4"/>
            <p:cNvCxnSpPr/>
            <p:nvPr/>
          </p:nvCxnSpPr>
          <p:spPr>
            <a:xfrm>
              <a:off x="4868640" y="187920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3" name=""/>
            <p:cNvSpPr txBox="1"/>
            <p:nvPr/>
          </p:nvSpPr>
          <p:spPr>
            <a:xfrm>
              <a:off x="4868640" y="1879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785920" y="1714680"/>
            <a:ext cx="1047960" cy="181080"/>
            <a:chOff x="5785920" y="1714680"/>
            <a:chExt cx="1047960" cy="181080"/>
          </a:xfrm>
        </p:grpSpPr>
        <p:cxnSp>
          <p:nvCxnSpPr>
            <p:cNvPr id="395" name="AutoShape 14"/>
            <p:cNvCxnSpPr/>
            <p:nvPr/>
          </p:nvCxnSpPr>
          <p:spPr>
            <a:xfrm>
              <a:off x="5785920" y="1714680"/>
              <a:ext cx="1048320" cy="18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6" name=""/>
            <p:cNvSpPr txBox="1"/>
            <p:nvPr/>
          </p:nvSpPr>
          <p:spPr>
            <a:xfrm>
              <a:off x="5785920" y="1714680"/>
              <a:ext cx="1047960" cy="18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142880" y="1714320"/>
            <a:ext cx="19440" cy="285840"/>
            <a:chOff x="4142880" y="1714320"/>
            <a:chExt cx="19440" cy="285840"/>
          </a:xfrm>
        </p:grpSpPr>
        <p:cxnSp>
          <p:nvCxnSpPr>
            <p:cNvPr id="398" name="AutoShape 15"/>
            <p:cNvCxnSpPr/>
            <p:nvPr/>
          </p:nvCxnSpPr>
          <p:spPr>
            <a:xfrm>
              <a:off x="4142880" y="1714320"/>
              <a:ext cx="198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9" name=""/>
            <p:cNvSpPr txBox="1"/>
            <p:nvPr/>
          </p:nvSpPr>
          <p:spPr>
            <a:xfrm>
              <a:off x="4142880" y="1714320"/>
              <a:ext cx="19080" cy="28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7"/>
          <p:cNvSpPr/>
          <p:nvPr/>
        </p:nvSpPr>
        <p:spPr>
          <a:xfrm>
            <a:off x="3609000" y="326880"/>
            <a:ext cx="29545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8"/>
          <p:cNvSpPr/>
          <p:nvPr/>
        </p:nvSpPr>
        <p:spPr>
          <a:xfrm>
            <a:off x="4956480" y="603000"/>
            <a:ext cx="2599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9"/>
          <p:cNvSpPr/>
          <p:nvPr/>
        </p:nvSpPr>
        <p:spPr>
          <a:xfrm>
            <a:off x="4956480" y="784080"/>
            <a:ext cx="2599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3967920" y="1050840"/>
            <a:ext cx="2122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1"/>
          <p:cNvSpPr/>
          <p:nvPr/>
        </p:nvSpPr>
        <p:spPr>
          <a:xfrm>
            <a:off x="3868920" y="1336680"/>
            <a:ext cx="2320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2"/>
          <p:cNvSpPr/>
          <p:nvPr/>
        </p:nvSpPr>
        <p:spPr>
          <a:xfrm>
            <a:off x="457200" y="17240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3"/>
          <p:cNvSpPr/>
          <p:nvPr/>
        </p:nvSpPr>
        <p:spPr>
          <a:xfrm>
            <a:off x="4027320" y="1860480"/>
            <a:ext cx="2003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4"/>
          <p:cNvSpPr/>
          <p:nvPr/>
        </p:nvSpPr>
        <p:spPr>
          <a:xfrm>
            <a:off x="3690720" y="2136600"/>
            <a:ext cx="26769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5"/>
          <p:cNvSpPr/>
          <p:nvPr/>
        </p:nvSpPr>
        <p:spPr>
          <a:xfrm>
            <a:off x="4919040" y="2319480"/>
            <a:ext cx="22032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6"/>
          <p:cNvSpPr/>
          <p:nvPr/>
        </p:nvSpPr>
        <p:spPr>
          <a:xfrm>
            <a:off x="4143960" y="3717720"/>
            <a:ext cx="18846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7"/>
          <p:cNvSpPr/>
          <p:nvPr/>
        </p:nvSpPr>
        <p:spPr>
          <a:xfrm>
            <a:off x="3827160" y="6118200"/>
            <a:ext cx="2518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8"/>
          <p:cNvSpPr/>
          <p:nvPr/>
        </p:nvSpPr>
        <p:spPr>
          <a:xfrm>
            <a:off x="514440" y="65530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  <p:grpSp>
        <p:nvGrpSpPr>
          <p:cNvPr id="414" name="Блок-схема: альтернативный процесс 2"/>
          <p:cNvGrpSpPr/>
          <p:nvPr/>
        </p:nvGrpSpPr>
        <p:grpSpPr>
          <a:xfrm>
            <a:off x="176040" y="152280"/>
            <a:ext cx="8718840" cy="6602400"/>
            <a:chOff x="176040" y="152280"/>
            <a:chExt cx="8718840" cy="6602400"/>
          </a:xfrm>
        </p:grpSpPr>
        <p:pic>
          <p:nvPicPr>
            <p:cNvPr id="415" name="Блок-схема: альтернативный процесс 2" descr=""/>
            <p:cNvPicPr/>
            <p:nvPr/>
          </p:nvPicPr>
          <p:blipFill>
            <a:blip r:embed="rId2"/>
            <a:stretch/>
          </p:blipFill>
          <p:spPr>
            <a:xfrm>
              <a:off x="176040" y="152280"/>
              <a:ext cx="871884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65200" y="503280"/>
              <a:ext cx="7940520" cy="58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 u="sng">
                  <a:solidFill>
                    <a:srgbClr val="ff0000"/>
                  </a:solidFill>
                  <a:uFillTx/>
                  <a:latin typeface="Constantia"/>
                  <a:ea typeface="Times New Roman"/>
                </a:rPr>
                <a:t>Компетентність самоосвіти і саморозвитк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Написання  учнями  повідомлень,  рефератів,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   </a:t>
              </a: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самостійних творчих робі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Використання  випереджальних    завдань  ,  щ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   </a:t>
              </a: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передбачають активну самостійну    та самоосвітню діяльність учні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Консультування учнів з питань самоосвіти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Організація інтелектуальних конкурсів , ігор , предметних тижнів, які передбачають самостійне опанування учнями певних питань та їх самоосвітню діяльніст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Використання інтенсивних завдань з предмету  , які передбачають пояснення учнями   певних питан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Залучення учнів до роботи консультантами , щ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 </a:t>
              </a: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підтримує  їх  самоосвітній тонус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  <p:grpSp>
        <p:nvGrpSpPr>
          <p:cNvPr id="418" name="Блок-схема: альтернативный процесс 2"/>
          <p:cNvGrpSpPr/>
          <p:nvPr/>
        </p:nvGrpSpPr>
        <p:grpSpPr>
          <a:xfrm>
            <a:off x="212760" y="249120"/>
            <a:ext cx="8718480" cy="6432840"/>
            <a:chOff x="212760" y="249120"/>
            <a:chExt cx="8718480" cy="6432840"/>
          </a:xfrm>
        </p:grpSpPr>
        <p:pic>
          <p:nvPicPr>
            <p:cNvPr id="419" name="Блок-схема: альтернативный процесс 2" descr=""/>
            <p:cNvPicPr/>
            <p:nvPr/>
          </p:nvPicPr>
          <p:blipFill>
            <a:blip r:embed="rId2"/>
            <a:stretch/>
          </p:blipFill>
          <p:spPr>
            <a:xfrm>
              <a:off x="212760" y="249120"/>
              <a:ext cx="8718480" cy="643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92200" y="592200"/>
              <a:ext cx="79596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 u="sng">
                  <a:solidFill>
                    <a:srgbClr val="ff0000"/>
                  </a:solidFill>
                  <a:uFillTx/>
                  <a:latin typeface="Constantia"/>
                  <a:ea typeface="Times New Roman"/>
                </a:rPr>
                <a:t>Компетентність продуктивної творчої діяльності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Забезпечення  високого  наукового  рівня  викладання математики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Створення  проблемних  ситуацій  на  основі  сучасного життя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Розв'язування    задач    та    прикладів    різни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способами, використання задач підвищеної складності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Складання  та  розв'язування  учнями  тестів ,  задач, кросвордів  тощо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Залучення учнів до участі в конкурсах „ Кенгуру "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„ </a:t>
              </a: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Олімпіус " тощо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Залучення учнів до участі в олімпіадах , МАН , у роботізаочних фізико-математичних шкі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785880" y="862200"/>
            <a:ext cx="721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а.</a:t>
            </a:r>
            <a:r>
              <a:rPr b="1" lang="uk-UA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кріплення щогли потрібно встановити 4 троси. Один кінець  кожного троса повинен кріпитися на висо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 м, інший на землі на відстані 5 м від щогли. Чи досит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 м троса для кріплення щог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4357800" y="2344320"/>
            <a:ext cx="242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в`яз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3786120" y="2725200"/>
            <a:ext cx="397188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С (   ВСА= 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 теоремою  Піфаг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1" lang="uk-UA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1" lang="uk-UA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 ВС</a:t>
            </a:r>
            <a:r>
              <a:rPr b="1" lang="uk-UA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1" lang="uk-UA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12</a:t>
            </a:r>
            <a:r>
              <a:rPr b="1" lang="uk-UA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5</a:t>
            </a:r>
            <a:r>
              <a:rPr b="1" lang="uk-UA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144+25 = 169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В = 13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и маємо чотири прямокутних трикутника, які рівні за двома кате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4500720" y="5220000"/>
            <a:ext cx="4071960" cy="122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ідповідь:Троса не вистач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4"/>
          <p:cNvGraphicFramePr/>
          <p:nvPr/>
        </p:nvGraphicFramePr>
        <p:xfrm>
          <a:off x="5500800" y="2714760"/>
          <a:ext cx="73008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0800" y="2714760"/>
                    <a:ext cx="7300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5"/>
          <p:cNvGraphicFramePr/>
          <p:nvPr/>
        </p:nvGraphicFramePr>
        <p:xfrm>
          <a:off x="4572000" y="5429160"/>
          <a:ext cx="1428840" cy="4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5429160"/>
                    <a:ext cx="142884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7"/>
          <p:cNvGraphicFramePr/>
          <p:nvPr/>
        </p:nvGraphicFramePr>
        <p:xfrm>
          <a:off x="3571920" y="2786040"/>
          <a:ext cx="39672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2786040"/>
                    <a:ext cx="396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8"/>
          <p:cNvGraphicFramePr/>
          <p:nvPr/>
        </p:nvGraphicFramePr>
        <p:xfrm>
          <a:off x="4500720" y="2786040"/>
          <a:ext cx="285480" cy="29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2786040"/>
                    <a:ext cx="28548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7"/>
          <p:cNvGraphicFramePr/>
          <p:nvPr/>
        </p:nvGraphicFramePr>
        <p:xfrm>
          <a:off x="714240" y="2428920"/>
          <a:ext cx="2357640" cy="381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4240" y="2428920"/>
                    <a:ext cx="235764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  <p:grpSp>
        <p:nvGrpSpPr>
          <p:cNvPr id="436" name="Группа 34"/>
          <p:cNvGrpSpPr/>
          <p:nvPr/>
        </p:nvGrpSpPr>
        <p:grpSpPr>
          <a:xfrm>
            <a:off x="587160" y="4428720"/>
            <a:ext cx="5674680" cy="2153880"/>
            <a:chOff x="587160" y="4428720"/>
            <a:chExt cx="5674680" cy="2153880"/>
          </a:xfrm>
        </p:grpSpPr>
        <p:pic>
          <p:nvPicPr>
            <p:cNvPr id="437" name="Рисунок 26" descr="паровоз.jpg"/>
            <p:cNvPicPr/>
            <p:nvPr/>
          </p:nvPicPr>
          <p:blipFill>
            <a:blip r:embed="rId2"/>
            <a:srcRect l="12004" t="9212" r="3999" b="6017"/>
            <a:stretch/>
          </p:blipFill>
          <p:spPr>
            <a:xfrm rot="666600">
              <a:off x="4519440" y="5532480"/>
              <a:ext cx="1671480" cy="8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Рисунок 27" descr="линейка.jpg"/>
            <p:cNvPicPr/>
            <p:nvPr/>
          </p:nvPicPr>
          <p:blipFill>
            <a:blip r:embed="rId3"/>
            <a:srcRect l="2750" t="28444" r="2750" b="53926"/>
            <a:stretch/>
          </p:blipFill>
          <p:spPr>
            <a:xfrm rot="240000">
              <a:off x="1530000" y="5611320"/>
              <a:ext cx="2926080" cy="19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9" name="Группа 19"/>
            <p:cNvGrpSpPr/>
            <p:nvPr/>
          </p:nvGrpSpPr>
          <p:grpSpPr>
            <a:xfrm>
              <a:off x="587160" y="4428720"/>
              <a:ext cx="1202400" cy="1226520"/>
              <a:chOff x="587160" y="4428720"/>
              <a:chExt cx="1202400" cy="1226520"/>
            </a:xfrm>
          </p:grpSpPr>
          <p:sp>
            <p:nvSpPr>
              <p:cNvPr id="440" name="Цилиндр 10"/>
              <p:cNvSpPr/>
              <p:nvPr/>
            </p:nvSpPr>
            <p:spPr>
              <a:xfrm rot="666600">
                <a:off x="680760" y="4485240"/>
                <a:ext cx="690840" cy="1042560"/>
              </a:xfrm>
              <a:prstGeom prst="can">
                <a:avLst>
                  <a:gd name="adj" fmla="val 12435"/>
                </a:avLst>
              </a:prstGeom>
              <a:solidFill>
                <a:srgbClr val="00b0f0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Группа 18"/>
              <p:cNvGrpSpPr/>
              <p:nvPr/>
            </p:nvGrpSpPr>
            <p:grpSpPr>
              <a:xfrm>
                <a:off x="1189800" y="4976280"/>
                <a:ext cx="599760" cy="673920"/>
                <a:chOff x="1189800" y="4976280"/>
                <a:chExt cx="599760" cy="673920"/>
              </a:xfrm>
            </p:grpSpPr>
            <p:sp>
              <p:nvSpPr>
                <p:cNvPr id="442" name="Прямая соединительная линия 13"/>
                <p:cNvSpPr/>
                <p:nvPr/>
              </p:nvSpPr>
              <p:spPr>
                <a:xfrm>
                  <a:off x="1541880" y="4976640"/>
                  <a:ext cx="58680" cy="67356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Прямая соединительная линия 14"/>
                <p:cNvSpPr/>
                <p:nvPr/>
              </p:nvSpPr>
              <p:spPr>
                <a:xfrm flipH="1">
                  <a:off x="1189800" y="4976280"/>
                  <a:ext cx="349920" cy="47304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Прямая соединительная линия 15"/>
                <p:cNvSpPr/>
                <p:nvPr/>
              </p:nvSpPr>
              <p:spPr>
                <a:xfrm>
                  <a:off x="1190160" y="5448960"/>
                  <a:ext cx="408960" cy="20016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Прямая соединительная линия 16"/>
                <p:cNvSpPr/>
                <p:nvPr/>
              </p:nvSpPr>
              <p:spPr>
                <a:xfrm>
                  <a:off x="1540800" y="4976280"/>
                  <a:ext cx="248040" cy="47484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Прямая соединительная линия 17"/>
                <p:cNvSpPr/>
                <p:nvPr/>
              </p:nvSpPr>
              <p:spPr>
                <a:xfrm flipH="1">
                  <a:off x="1600200" y="5452200"/>
                  <a:ext cx="189360" cy="19800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Куб 4"/>
              <p:cNvSpPr/>
              <p:nvPr/>
            </p:nvSpPr>
            <p:spPr>
              <a:xfrm rot="666600">
                <a:off x="915480" y="5248440"/>
                <a:ext cx="483120" cy="363240"/>
              </a:xfrm>
              <a:prstGeom prst="cube">
                <a:avLst>
                  <a:gd name="adj" fmla="val 25000"/>
                </a:avLst>
              </a:prstGeom>
              <a:solidFill>
                <a:srgbClr val="ffc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8" name="Рисунок 29" descr="циркуль.jpg"/>
            <p:cNvPicPr/>
            <p:nvPr/>
          </p:nvPicPr>
          <p:blipFill>
            <a:blip r:embed="rId4"/>
            <a:srcRect l="3331" t="1937" r="3331" b="3143"/>
            <a:stretch/>
          </p:blipFill>
          <p:spPr>
            <a:xfrm rot="16525800">
              <a:off x="2213640" y="5041800"/>
              <a:ext cx="600840" cy="113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9" name="Блок-схема: альтернативный процесс 2"/>
          <p:cNvGrpSpPr/>
          <p:nvPr/>
        </p:nvGrpSpPr>
        <p:grpSpPr>
          <a:xfrm>
            <a:off x="176040" y="298440"/>
            <a:ext cx="5748480" cy="3809880"/>
            <a:chOff x="176040" y="298440"/>
            <a:chExt cx="5748480" cy="3809880"/>
          </a:xfrm>
        </p:grpSpPr>
        <p:pic>
          <p:nvPicPr>
            <p:cNvPr id="450" name="Блок-схема: альтернативный процесс 2" descr=""/>
            <p:cNvPicPr/>
            <p:nvPr/>
          </p:nvPicPr>
          <p:blipFill>
            <a:blip r:embed="rId5"/>
            <a:stretch/>
          </p:blipFill>
          <p:spPr>
            <a:xfrm>
              <a:off x="176040" y="298440"/>
              <a:ext cx="57484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430200" y="511200"/>
              <a:ext cx="5248440" cy="33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Constantia"/>
                  <a:ea typeface="Times New Roman"/>
                </a:rPr>
                <a:t>Успіхів Вам колеги і дай Бог нам мудрості навчитися  дбати про здоров’я учнів, своє  здоров’я 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Constantia"/>
                  <a:ea typeface="Times New Roman"/>
                </a:rPr>
                <a:t>бо щастя людини  90% – здоров’я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2" name="Picture 2" descr=""/>
          <p:cNvPicPr/>
          <p:nvPr/>
        </p:nvPicPr>
        <p:blipFill>
          <a:blip r:embed="rId6"/>
          <a:stretch/>
        </p:blipFill>
        <p:spPr>
          <a:xfrm>
            <a:off x="6659640" y="404640"/>
            <a:ext cx="1942920" cy="202896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4" descr="http://prilrmk.ucoz.ru/Kartinky/ocinka1.jpg"/>
          <p:cNvPicPr/>
          <p:nvPr/>
        </p:nvPicPr>
        <p:blipFill>
          <a:blip r:embed="rId7"/>
          <a:stretch/>
        </p:blipFill>
        <p:spPr>
          <a:xfrm>
            <a:off x="4572000" y="3071880"/>
            <a:ext cx="403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536400" y="1231920"/>
            <a:ext cx="8394840" cy="3674880"/>
            <a:chOff x="536400" y="1231920"/>
            <a:chExt cx="8394840" cy="36748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536400" y="1231920"/>
              <a:ext cx="8394840" cy="36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84080" y="1441440"/>
              <a:ext cx="7899480" cy="31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ля вчителів математики головни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вданням є формування в учні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матичної компетентності як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ладової життєвої компетентност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Группа 34"/>
          <p:cNvGrpSpPr/>
          <p:nvPr/>
        </p:nvGrpSpPr>
        <p:grpSpPr>
          <a:xfrm>
            <a:off x="1187280" y="5084640"/>
            <a:ext cx="7056720" cy="1581120"/>
            <a:chOff x="1187280" y="5084640"/>
            <a:chExt cx="7056720" cy="1581120"/>
          </a:xfrm>
        </p:grpSpPr>
        <p:pic>
          <p:nvPicPr>
            <p:cNvPr id="220" name="Рисунок 26" descr="паровоз.jpg"/>
            <p:cNvPicPr/>
            <p:nvPr/>
          </p:nvPicPr>
          <p:blipFill>
            <a:blip r:embed="rId3"/>
            <a:srcRect l="12004" t="9212" r="3999" b="6017"/>
            <a:stretch/>
          </p:blipFill>
          <p:spPr>
            <a:xfrm>
              <a:off x="6143760" y="5346720"/>
              <a:ext cx="210024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Рисунок 27" descr="линейка.jpg"/>
            <p:cNvPicPr/>
            <p:nvPr/>
          </p:nvPicPr>
          <p:blipFill>
            <a:blip r:embed="rId4"/>
            <a:srcRect l="2750" t="28444" r="2750" b="53926"/>
            <a:stretch/>
          </p:blipFill>
          <p:spPr>
            <a:xfrm rot="21173400">
              <a:off x="2377080" y="6071400"/>
              <a:ext cx="3676680" cy="2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Группа 19"/>
            <p:cNvGrpSpPr/>
            <p:nvPr/>
          </p:nvGrpSpPr>
          <p:grpSpPr>
            <a:xfrm>
              <a:off x="1187280" y="5084640"/>
              <a:ext cx="1482120" cy="1469880"/>
              <a:chOff x="1187280" y="5084640"/>
              <a:chExt cx="1482120" cy="1469880"/>
            </a:xfrm>
          </p:grpSpPr>
          <p:sp>
            <p:nvSpPr>
              <p:cNvPr id="223" name="Цилиндр 8"/>
              <p:cNvSpPr/>
              <p:nvPr/>
            </p:nvSpPr>
            <p:spPr>
              <a:xfrm>
                <a:off x="1187280" y="5084640"/>
                <a:ext cx="871560" cy="1398600"/>
              </a:xfrm>
              <a:prstGeom prst="can">
                <a:avLst>
                  <a:gd name="adj" fmla="val 12481"/>
                </a:avLst>
              </a:prstGeom>
              <a:solidFill>
                <a:srgbClr val="00b0f0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Группа 18"/>
              <p:cNvGrpSpPr/>
              <p:nvPr/>
            </p:nvGrpSpPr>
            <p:grpSpPr>
              <a:xfrm>
                <a:off x="1928520" y="5608440"/>
                <a:ext cx="740880" cy="873360"/>
                <a:chOff x="1928520" y="5608440"/>
                <a:chExt cx="740880" cy="873360"/>
              </a:xfrm>
            </p:grpSpPr>
            <p:sp>
              <p:nvSpPr>
                <p:cNvPr id="225" name="Прямая соединительная линия 11"/>
                <p:cNvSpPr/>
                <p:nvPr/>
              </p:nvSpPr>
              <p:spPr>
                <a:xfrm>
                  <a:off x="2246760" y="5608440"/>
                  <a:ext cx="236880" cy="87336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Прямая соединительная линия 12"/>
                <p:cNvSpPr/>
                <p:nvPr/>
              </p:nvSpPr>
              <p:spPr>
                <a:xfrm flipH="1">
                  <a:off x="1928520" y="5608440"/>
                  <a:ext cx="318240" cy="71928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Прямая соединительная линия 13"/>
                <p:cNvSpPr/>
                <p:nvPr/>
              </p:nvSpPr>
              <p:spPr>
                <a:xfrm>
                  <a:off x="1928520" y="6327720"/>
                  <a:ext cx="555120" cy="15408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Прямая соединительная линия 14"/>
                <p:cNvSpPr/>
                <p:nvPr/>
              </p:nvSpPr>
              <p:spPr>
                <a:xfrm>
                  <a:off x="2246040" y="5608440"/>
                  <a:ext cx="423000" cy="56304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Прямая соединительная линия 15"/>
                <p:cNvSpPr/>
                <p:nvPr/>
              </p:nvSpPr>
              <p:spPr>
                <a:xfrm flipH="1">
                  <a:off x="2483280" y="6171480"/>
                  <a:ext cx="186120" cy="31032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Куб 4"/>
              <p:cNvSpPr/>
              <p:nvPr/>
            </p:nvSpPr>
            <p:spPr>
              <a:xfrm>
                <a:off x="1580760" y="6064560"/>
                <a:ext cx="608040" cy="489960"/>
              </a:xfrm>
              <a:prstGeom prst="cube">
                <a:avLst>
                  <a:gd name="adj" fmla="val 25000"/>
                </a:avLst>
              </a:prstGeom>
              <a:solidFill>
                <a:srgbClr val="ffc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Рисунок 29" descr="циркуль.jpg"/>
            <p:cNvPicPr/>
            <p:nvPr/>
          </p:nvPicPr>
          <p:blipFill>
            <a:blip r:embed="rId5"/>
            <a:srcRect l="3331" t="1937" r="3331" b="3143"/>
            <a:stretch/>
          </p:blipFill>
          <p:spPr>
            <a:xfrm rot="15859200">
              <a:off x="3196800" y="5481360"/>
              <a:ext cx="808200" cy="142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  <p:grpSp>
        <p:nvGrpSpPr>
          <p:cNvPr id="233" name="Скругленный прямоугольник 2"/>
          <p:cNvGrpSpPr/>
          <p:nvPr/>
        </p:nvGrpSpPr>
        <p:grpSpPr>
          <a:xfrm>
            <a:off x="324000" y="438120"/>
            <a:ext cx="8423280" cy="5907240"/>
            <a:chOff x="324000" y="438120"/>
            <a:chExt cx="8423280" cy="5907240"/>
          </a:xfrm>
        </p:grpSpPr>
        <p:pic>
          <p:nvPicPr>
            <p:cNvPr id="234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24000" y="438120"/>
              <a:ext cx="8423280" cy="590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76440" y="757080"/>
              <a:ext cx="7718400" cy="51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атематична компетентніст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 спроможність особистості бачит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 застосовувати математику в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альному житті, розуміти зміст і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тоди математичного моделювання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удувати математичну модель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сліджувати її методами математики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терпретувати отримані результат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Группа 34"/>
          <p:cNvGrpSpPr/>
          <p:nvPr/>
        </p:nvGrpSpPr>
        <p:grpSpPr>
          <a:xfrm>
            <a:off x="214200" y="5572080"/>
            <a:ext cx="4643640" cy="1176480"/>
            <a:chOff x="214200" y="5572080"/>
            <a:chExt cx="4643640" cy="1176480"/>
          </a:xfrm>
        </p:grpSpPr>
        <p:pic>
          <p:nvPicPr>
            <p:cNvPr id="237" name="Рисунок 26" descr="паровоз.jpg"/>
            <p:cNvPicPr/>
            <p:nvPr/>
          </p:nvPicPr>
          <p:blipFill>
            <a:blip r:embed="rId3"/>
            <a:srcRect l="12004" t="9212" r="3999" b="6017"/>
            <a:stretch/>
          </p:blipFill>
          <p:spPr>
            <a:xfrm>
              <a:off x="3475800" y="5768280"/>
              <a:ext cx="1382040" cy="90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Рисунок 27" descr="линейка.jpg"/>
            <p:cNvPicPr/>
            <p:nvPr/>
          </p:nvPicPr>
          <p:blipFill>
            <a:blip r:embed="rId4"/>
            <a:srcRect l="2750" t="28444" r="2750" b="53926"/>
            <a:stretch/>
          </p:blipFill>
          <p:spPr>
            <a:xfrm rot="21173400">
              <a:off x="996840" y="6310080"/>
              <a:ext cx="2419560" cy="19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" name="Группа 19"/>
            <p:cNvGrpSpPr/>
            <p:nvPr/>
          </p:nvGrpSpPr>
          <p:grpSpPr>
            <a:xfrm>
              <a:off x="214200" y="5572080"/>
              <a:ext cx="975600" cy="1099440"/>
              <a:chOff x="214200" y="5572080"/>
              <a:chExt cx="975600" cy="1099440"/>
            </a:xfrm>
          </p:grpSpPr>
          <p:sp>
            <p:nvSpPr>
              <p:cNvPr id="240" name="Цилиндр 8"/>
              <p:cNvSpPr/>
              <p:nvPr/>
            </p:nvSpPr>
            <p:spPr>
              <a:xfrm>
                <a:off x="214200" y="5572080"/>
                <a:ext cx="573120" cy="1047240"/>
              </a:xfrm>
              <a:prstGeom prst="can">
                <a:avLst>
                  <a:gd name="adj" fmla="val 12467"/>
                </a:avLst>
              </a:prstGeom>
              <a:solidFill>
                <a:srgbClr val="00b0f0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Группа 18"/>
              <p:cNvGrpSpPr/>
              <p:nvPr/>
            </p:nvGrpSpPr>
            <p:grpSpPr>
              <a:xfrm>
                <a:off x="701640" y="5964120"/>
                <a:ext cx="488160" cy="653760"/>
                <a:chOff x="701640" y="5964120"/>
                <a:chExt cx="488160" cy="653760"/>
              </a:xfrm>
            </p:grpSpPr>
            <p:sp>
              <p:nvSpPr>
                <p:cNvPr id="242" name="Прямая соединительная линия 11"/>
                <p:cNvSpPr/>
                <p:nvPr/>
              </p:nvSpPr>
              <p:spPr>
                <a:xfrm>
                  <a:off x="911880" y="5964120"/>
                  <a:ext cx="155520" cy="65376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Прямая соединительная линия 12"/>
                <p:cNvSpPr/>
                <p:nvPr/>
              </p:nvSpPr>
              <p:spPr>
                <a:xfrm flipH="1">
                  <a:off x="701640" y="5964120"/>
                  <a:ext cx="209880" cy="53928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Прямая соединительная линия 13"/>
                <p:cNvSpPr/>
                <p:nvPr/>
              </p:nvSpPr>
              <p:spPr>
                <a:xfrm>
                  <a:off x="702000" y="6503400"/>
                  <a:ext cx="365400" cy="11448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Прямая соединительная линия 14"/>
                <p:cNvSpPr/>
                <p:nvPr/>
              </p:nvSpPr>
              <p:spPr>
                <a:xfrm>
                  <a:off x="911880" y="5964120"/>
                  <a:ext cx="277920" cy="41976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Прямая соединительная линия 15"/>
                <p:cNvSpPr/>
                <p:nvPr/>
              </p:nvSpPr>
              <p:spPr>
                <a:xfrm flipH="1">
                  <a:off x="1067400" y="6383880"/>
                  <a:ext cx="122400" cy="23400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Куб 4"/>
              <p:cNvSpPr/>
              <p:nvPr/>
            </p:nvSpPr>
            <p:spPr>
              <a:xfrm>
                <a:off x="473040" y="6305040"/>
                <a:ext cx="399960" cy="366480"/>
              </a:xfrm>
              <a:prstGeom prst="cube">
                <a:avLst>
                  <a:gd name="adj" fmla="val 25000"/>
                </a:avLst>
              </a:prstGeom>
              <a:solidFill>
                <a:srgbClr val="ffc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8" name="Рисунок 29" descr="циркуль.jpg"/>
            <p:cNvPicPr/>
            <p:nvPr/>
          </p:nvPicPr>
          <p:blipFill>
            <a:blip r:embed="rId5"/>
            <a:srcRect l="3331" t="1937" r="3331" b="3143"/>
            <a:stretch/>
          </p:blipFill>
          <p:spPr>
            <a:xfrm rot="15859200">
              <a:off x="1499760" y="5933160"/>
              <a:ext cx="604440" cy="93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  <p:grpSp>
        <p:nvGrpSpPr>
          <p:cNvPr id="250" name="Скругленный прямоугольник 2"/>
          <p:cNvGrpSpPr/>
          <p:nvPr/>
        </p:nvGrpSpPr>
        <p:grpSpPr>
          <a:xfrm>
            <a:off x="895320" y="195120"/>
            <a:ext cx="7132680" cy="1371600"/>
            <a:chOff x="895320" y="195120"/>
            <a:chExt cx="7132680" cy="1371600"/>
          </a:xfrm>
        </p:grpSpPr>
        <p:pic>
          <p:nvPicPr>
            <p:cNvPr id="251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895320" y="195120"/>
              <a:ext cx="71326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027080" y="316080"/>
              <a:ext cx="687384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Формування математичної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компетентност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Овал 3"/>
          <p:cNvGrpSpPr/>
          <p:nvPr/>
        </p:nvGrpSpPr>
        <p:grpSpPr>
          <a:xfrm>
            <a:off x="3071880" y="1609560"/>
            <a:ext cx="3213000" cy="1359000"/>
            <a:chOff x="3071880" y="1609560"/>
            <a:chExt cx="3213000" cy="1359000"/>
          </a:xfrm>
        </p:grpSpPr>
        <p:pic>
          <p:nvPicPr>
            <p:cNvPr id="254" name="Овал 3" descr=""/>
            <p:cNvPicPr/>
            <p:nvPr/>
          </p:nvPicPr>
          <p:blipFill>
            <a:blip r:embed="rId3"/>
            <a:stretch/>
          </p:blipFill>
          <p:spPr>
            <a:xfrm>
              <a:off x="3071880" y="1609560"/>
              <a:ext cx="3213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592440" y="1820880"/>
              <a:ext cx="217332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Constantia"/>
                </a:rPr>
                <a:t>методологіч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Constantia"/>
                </a:rPr>
                <a:t>компетентніс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Овал 4"/>
          <p:cNvGrpSpPr/>
          <p:nvPr/>
        </p:nvGrpSpPr>
        <p:grpSpPr>
          <a:xfrm>
            <a:off x="3071880" y="3676680"/>
            <a:ext cx="3213000" cy="1577880"/>
            <a:chOff x="3071880" y="3676680"/>
            <a:chExt cx="3213000" cy="1577880"/>
          </a:xfrm>
        </p:grpSpPr>
        <p:pic>
          <p:nvPicPr>
            <p:cNvPr id="257" name="Овал 4" descr=""/>
            <p:cNvPicPr/>
            <p:nvPr/>
          </p:nvPicPr>
          <p:blipFill>
            <a:blip r:embed="rId4"/>
            <a:stretch/>
          </p:blipFill>
          <p:spPr>
            <a:xfrm>
              <a:off x="3071880" y="3676680"/>
              <a:ext cx="321300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592440" y="3924360"/>
              <a:ext cx="2173320" cy="10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nstantia"/>
                </a:rPr>
                <a:t>Математич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nstantia"/>
                </a:rPr>
                <a:t>компетентні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Овал 5"/>
          <p:cNvGrpSpPr/>
          <p:nvPr/>
        </p:nvGrpSpPr>
        <p:grpSpPr>
          <a:xfrm>
            <a:off x="853920" y="5321160"/>
            <a:ext cx="3279960" cy="1384560"/>
            <a:chOff x="853920" y="5321160"/>
            <a:chExt cx="3279960" cy="1384560"/>
          </a:xfrm>
        </p:grpSpPr>
        <p:pic>
          <p:nvPicPr>
            <p:cNvPr id="260" name="Овал 5" descr=""/>
            <p:cNvPicPr/>
            <p:nvPr/>
          </p:nvPicPr>
          <p:blipFill>
            <a:blip r:embed="rId5"/>
            <a:stretch/>
          </p:blipFill>
          <p:spPr>
            <a:xfrm>
              <a:off x="853920" y="5321160"/>
              <a:ext cx="327996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387440" y="5538960"/>
              <a:ext cx="221760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Constantia"/>
                </a:rPr>
                <a:t>логіч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Constantia"/>
                </a:rPr>
                <a:t>компетентні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Овал 6"/>
          <p:cNvGrpSpPr/>
          <p:nvPr/>
        </p:nvGrpSpPr>
        <p:grpSpPr>
          <a:xfrm>
            <a:off x="5645160" y="2676600"/>
            <a:ext cx="3352680" cy="1431720"/>
            <a:chOff x="5645160" y="2676600"/>
            <a:chExt cx="3352680" cy="1431720"/>
          </a:xfrm>
        </p:grpSpPr>
        <p:pic>
          <p:nvPicPr>
            <p:cNvPr id="263" name="Овал 6" descr=""/>
            <p:cNvPicPr/>
            <p:nvPr/>
          </p:nvPicPr>
          <p:blipFill>
            <a:blip r:embed="rId6"/>
            <a:stretch/>
          </p:blipFill>
          <p:spPr>
            <a:xfrm>
              <a:off x="5645160" y="2676600"/>
              <a:ext cx="335268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186600" y="2903400"/>
              <a:ext cx="227160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Constantia"/>
                </a:rPr>
                <a:t>дослідниць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Constantia"/>
                </a:rPr>
                <a:t>компетентніс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Овал 7"/>
          <p:cNvGrpSpPr/>
          <p:nvPr/>
        </p:nvGrpSpPr>
        <p:grpSpPr>
          <a:xfrm>
            <a:off x="5357880" y="5248440"/>
            <a:ext cx="3414600" cy="1487160"/>
            <a:chOff x="5357880" y="5248440"/>
            <a:chExt cx="3414600" cy="1487160"/>
          </a:xfrm>
        </p:grpSpPr>
        <p:pic>
          <p:nvPicPr>
            <p:cNvPr id="266" name="Овал 7" descr=""/>
            <p:cNvPicPr/>
            <p:nvPr/>
          </p:nvPicPr>
          <p:blipFill>
            <a:blip r:embed="rId7"/>
            <a:stretch/>
          </p:blipFill>
          <p:spPr>
            <a:xfrm>
              <a:off x="5357880" y="5248440"/>
              <a:ext cx="3414600" cy="14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908680" y="5483160"/>
              <a:ext cx="2319480" cy="9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Constantia"/>
                </a:rPr>
                <a:t>технологіч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Constantia"/>
                </a:rPr>
                <a:t>компетентні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Овал 8"/>
          <p:cNvGrpSpPr/>
          <p:nvPr/>
        </p:nvGrpSpPr>
        <p:grpSpPr>
          <a:xfrm>
            <a:off x="139680" y="2889360"/>
            <a:ext cx="3316320" cy="1298520"/>
            <a:chOff x="139680" y="2889360"/>
            <a:chExt cx="3316320" cy="1298520"/>
          </a:xfrm>
        </p:grpSpPr>
        <p:pic>
          <p:nvPicPr>
            <p:cNvPr id="269" name="Овал 8" descr=""/>
            <p:cNvPicPr/>
            <p:nvPr/>
          </p:nvPicPr>
          <p:blipFill>
            <a:blip r:embed="rId8"/>
            <a:stretch/>
          </p:blipFill>
          <p:spPr>
            <a:xfrm>
              <a:off x="139680" y="2889360"/>
              <a:ext cx="33163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79320" y="3097080"/>
              <a:ext cx="224820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Constantia"/>
                </a:rPr>
                <a:t>процедур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Constantia"/>
                </a:rPr>
                <a:t>компетентніс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Прямая со стрелкой 10"/>
          <p:cNvCxnSpPr/>
          <p:nvPr/>
        </p:nvCxnSpPr>
        <p:spPr>
          <a:xfrm>
            <a:off x="4642920" y="2857680"/>
            <a:ext cx="1080" cy="792720"/>
          </a:xfrm>
          <a:prstGeom prst="straightConnector1">
            <a:avLst/>
          </a:prstGeom>
          <a:ln w="38160">
            <a:solidFill>
              <a:srgbClr val="009dd9"/>
            </a:solidFill>
            <a:miter/>
            <a:tailEnd len="med" type="arrow" w="med"/>
          </a:ln>
        </p:spPr>
      </p:cxnSp>
      <p:cxnSp>
        <p:nvCxnSpPr>
          <p:cNvPr id="272" name="Прямая со стрелкой 12"/>
          <p:cNvCxnSpPr/>
          <p:nvPr/>
        </p:nvCxnSpPr>
        <p:spPr>
          <a:xfrm>
            <a:off x="1785960" y="4143240"/>
            <a:ext cx="1286640" cy="215280"/>
          </a:xfrm>
          <a:prstGeom prst="straightConnector1">
            <a:avLst/>
          </a:prstGeom>
          <a:ln w="38160">
            <a:solidFill>
              <a:srgbClr val="009dd9"/>
            </a:solidFill>
            <a:miter/>
            <a:tailEnd len="med" type="arrow" w="med"/>
          </a:ln>
        </p:spPr>
      </p:cxnSp>
      <p:cxnSp>
        <p:nvCxnSpPr>
          <p:cNvPr id="273" name="Прямая со стрелкой 13"/>
          <p:cNvCxnSpPr/>
          <p:nvPr/>
        </p:nvCxnSpPr>
        <p:spPr>
          <a:xfrm flipH="1">
            <a:off x="6286320" y="4071960"/>
            <a:ext cx="1080000" cy="324720"/>
          </a:xfrm>
          <a:prstGeom prst="straightConnector1">
            <a:avLst/>
          </a:prstGeom>
          <a:ln w="38160">
            <a:solidFill>
              <a:srgbClr val="009dd9"/>
            </a:solidFill>
            <a:miter/>
            <a:tailEnd len="med" type="arrow" w="med"/>
          </a:ln>
        </p:spPr>
      </p:cxnSp>
      <p:cxnSp>
        <p:nvCxnSpPr>
          <p:cNvPr id="274" name="Прямая со стрелкой 14"/>
          <p:cNvCxnSpPr/>
          <p:nvPr/>
        </p:nvCxnSpPr>
        <p:spPr>
          <a:xfrm flipV="1">
            <a:off x="3000240" y="4928760"/>
            <a:ext cx="729360" cy="373680"/>
          </a:xfrm>
          <a:prstGeom prst="straightConnector1">
            <a:avLst/>
          </a:prstGeom>
          <a:ln w="38160">
            <a:solidFill>
              <a:srgbClr val="009dd9"/>
            </a:solidFill>
            <a:miter/>
            <a:tailEnd len="med" type="arrow" w="med"/>
          </a:ln>
        </p:spPr>
      </p:cxnSp>
      <p:cxnSp>
        <p:nvCxnSpPr>
          <p:cNvPr id="275" name="Прямая со стрелкой 15"/>
          <p:cNvCxnSpPr/>
          <p:nvPr/>
        </p:nvCxnSpPr>
        <p:spPr>
          <a:xfrm flipH="1" flipV="1">
            <a:off x="5572080" y="5071680"/>
            <a:ext cx="643320" cy="286560"/>
          </a:xfrm>
          <a:prstGeom prst="straightConnector1">
            <a:avLst/>
          </a:prstGeom>
          <a:ln w="38160">
            <a:solidFill>
              <a:srgbClr val="009dd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  <p:sp>
        <p:nvSpPr>
          <p:cNvPr id="277" name="Скругленный прямоугольник 2"/>
          <p:cNvSpPr/>
          <p:nvPr/>
        </p:nvSpPr>
        <p:spPr>
          <a:xfrm>
            <a:off x="539640" y="530064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Дослідницька компетентність </a:t>
            </a:r>
            <a:r>
              <a:rPr b="1" lang="ru-RU" sz="2400" spc="-1" strike="noStrike">
                <a:solidFill>
                  <a:srgbClr val="01324e"/>
                </a:solidFill>
                <a:latin typeface="Constantia"/>
                <a:ea typeface="Times New Roman"/>
              </a:rPr>
              <a:t>— володіння методами дослідження практичних та прикладних задач математичними мет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5"/>
          <p:cNvSpPr/>
          <p:nvPr/>
        </p:nvSpPr>
        <p:spPr>
          <a:xfrm>
            <a:off x="539640" y="476280"/>
            <a:ext cx="806472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гічна компетентність </a:t>
            </a:r>
            <a:r>
              <a:rPr b="0" lang="ru-RU" sz="2000" spc="-1" strike="noStrike">
                <a:solidFill>
                  <a:srgbClr val="01324e"/>
                </a:solidFill>
                <a:latin typeface="Constantia"/>
                <a:ea typeface="Times New Roman"/>
              </a:rPr>
              <a:t>—</a:t>
            </a:r>
            <a:r>
              <a:rPr b="0" lang="ru-RU" sz="2000" spc="-1" strike="noStrike">
                <a:solidFill>
                  <a:srgbClr val="01324e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1324e"/>
                </a:solidFill>
                <a:latin typeface="Constantia"/>
                <a:ea typeface="Times New Roman"/>
              </a:rPr>
              <a:t>володіння дедуктивним методом доведення та спростування твердж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6"/>
          <p:cNvSpPr/>
          <p:nvPr/>
        </p:nvSpPr>
        <p:spPr>
          <a:xfrm>
            <a:off x="539640" y="2637000"/>
            <a:ext cx="8064720" cy="86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Технологічна компетентність </a:t>
            </a:r>
            <a:r>
              <a:rPr b="0" lang="ru-RU" sz="2400" spc="-1" strike="noStrike">
                <a:solidFill>
                  <a:srgbClr val="01324e"/>
                </a:solidFill>
                <a:latin typeface="Constantia"/>
                <a:ea typeface="Times New Roman"/>
              </a:rPr>
              <a:t>— </a:t>
            </a:r>
            <a:r>
              <a:rPr b="1" lang="ru-RU" sz="2400" spc="-1" strike="noStrike">
                <a:solidFill>
                  <a:srgbClr val="01324e"/>
                </a:solidFill>
                <a:latin typeface="Constantia"/>
                <a:ea typeface="Times New Roman"/>
              </a:rPr>
              <a:t>володіння сучасними математичн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7"/>
          <p:cNvSpPr/>
          <p:nvPr/>
        </p:nvSpPr>
        <p:spPr>
          <a:xfrm>
            <a:off x="539640" y="1557360"/>
            <a:ext cx="806472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Процедурна компетентність </a:t>
            </a:r>
            <a:r>
              <a:rPr b="0" lang="ru-RU" sz="2400" spc="-1" strike="noStrike">
                <a:solidFill>
                  <a:srgbClr val="01324e"/>
                </a:solidFill>
                <a:latin typeface="Constantia"/>
                <a:ea typeface="Times New Roman"/>
              </a:rPr>
              <a:t>— </a:t>
            </a:r>
            <a:r>
              <a:rPr b="1" lang="ru-RU" sz="2400" spc="-1" strike="noStrike">
                <a:solidFill>
                  <a:srgbClr val="01324e"/>
                </a:solidFill>
                <a:latin typeface="Constantia"/>
                <a:ea typeface="Times New Roman"/>
              </a:rPr>
              <a:t>уміння розв’язувати типові математичні задач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8"/>
          <p:cNvSpPr/>
          <p:nvPr/>
        </p:nvSpPr>
        <p:spPr>
          <a:xfrm>
            <a:off x="539640" y="3716280"/>
            <a:ext cx="806472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Методологічна компетентність </a:t>
            </a:r>
            <a:r>
              <a:rPr b="1" lang="ru-RU" sz="2400" spc="-1" strike="noStrike">
                <a:solidFill>
                  <a:srgbClr val="01324e"/>
                </a:solidFill>
                <a:latin typeface="Constantia"/>
                <a:ea typeface="Times New Roman"/>
              </a:rPr>
              <a:t>— уміння оцінювати доцільність використання математичних методів для розв’язування практичних та прикладн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  <p:grpSp>
        <p:nvGrpSpPr>
          <p:cNvPr id="283" name="Скругленный прямоугольник 2"/>
          <p:cNvGrpSpPr/>
          <p:nvPr/>
        </p:nvGrpSpPr>
        <p:grpSpPr>
          <a:xfrm>
            <a:off x="249120" y="426960"/>
            <a:ext cx="8645760" cy="1517760"/>
            <a:chOff x="249120" y="426960"/>
            <a:chExt cx="8645760" cy="1517760"/>
          </a:xfrm>
        </p:grpSpPr>
        <p:pic>
          <p:nvPicPr>
            <p:cNvPr id="284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49120" y="426960"/>
              <a:ext cx="864576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390600" y="542880"/>
              <a:ext cx="836280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Компоненти математичної компетенці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Скругленный прямоугольник 4"/>
          <p:cNvGrpSpPr/>
          <p:nvPr/>
        </p:nvGrpSpPr>
        <p:grpSpPr>
          <a:xfrm>
            <a:off x="285840" y="1951200"/>
            <a:ext cx="8931240" cy="3779640"/>
            <a:chOff x="285840" y="1951200"/>
            <a:chExt cx="8931240" cy="3779640"/>
          </a:xfrm>
        </p:grpSpPr>
        <p:pic>
          <p:nvPicPr>
            <p:cNvPr id="287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5840" y="1951200"/>
              <a:ext cx="8931240" cy="37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34960" y="2165400"/>
              <a:ext cx="8433000" cy="32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1324e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  </a:t>
              </a:r>
              <a:r>
                <a:rPr b="1" lang="ru-RU" sz="28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 </a:t>
              </a:r>
              <a:r>
                <a:rPr b="1" lang="ru-RU" sz="2800" spc="-1" strike="noStrike" u="sng">
                  <a:solidFill>
                    <a:srgbClr val="01324e"/>
                  </a:solidFill>
                  <a:uFillTx/>
                  <a:latin typeface="Constantia"/>
                  <a:ea typeface="Times New Roman"/>
                </a:rPr>
                <a:t>Мотиваційний </a:t>
              </a:r>
              <a:r>
                <a:rPr b="1" lang="ru-RU" sz="28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– внутрішня мотивація,  інтере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  </a:t>
              </a:r>
              <a:r>
                <a:rPr b="1" lang="ru-RU" sz="2800" spc="-1" strike="noStrike" u="sng">
                  <a:solidFill>
                    <a:srgbClr val="01324e"/>
                  </a:solidFill>
                  <a:uFillTx/>
                  <a:latin typeface="Constantia"/>
                  <a:ea typeface="Times New Roman"/>
                </a:rPr>
                <a:t> </a:t>
              </a:r>
              <a:r>
                <a:rPr b="1" lang="ru-RU" sz="2800" spc="-1" strike="noStrike" u="sng">
                  <a:solidFill>
                    <a:srgbClr val="01324e"/>
                  </a:solidFill>
                  <a:uFillTx/>
                  <a:latin typeface="Constantia"/>
                  <a:ea typeface="Times New Roman"/>
                </a:rPr>
                <a:t>Змістовий </a:t>
              </a:r>
              <a:r>
                <a:rPr b="1" lang="ru-RU" sz="28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– комплекс математичних знан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        </a:t>
              </a:r>
              <a:r>
                <a:rPr b="1" lang="ru-RU" sz="28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умінь та навичок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   </a:t>
              </a:r>
              <a:r>
                <a:rPr b="1" lang="ru-RU" sz="2800" spc="-1" strike="noStrike" u="sng">
                  <a:solidFill>
                    <a:srgbClr val="01324e"/>
                  </a:solidFill>
                  <a:uFillTx/>
                  <a:latin typeface="Constantia"/>
                  <a:ea typeface="Times New Roman"/>
                </a:rPr>
                <a:t>Дійовий </a:t>
              </a:r>
              <a:r>
                <a:rPr b="1" lang="ru-RU" sz="28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– навички навчальної праці,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         </a:t>
              </a:r>
              <a:r>
                <a:rPr b="1" lang="ru-RU" sz="28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самооцінка,      самоконтроль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Группа 34"/>
          <p:cNvGrpSpPr/>
          <p:nvPr/>
        </p:nvGrpSpPr>
        <p:grpSpPr>
          <a:xfrm>
            <a:off x="539640" y="5157720"/>
            <a:ext cx="7056720" cy="1579680"/>
            <a:chOff x="539640" y="5157720"/>
            <a:chExt cx="7056720" cy="1579680"/>
          </a:xfrm>
        </p:grpSpPr>
        <p:pic>
          <p:nvPicPr>
            <p:cNvPr id="290" name="Рисунок 26" descr="паровоз.jpg"/>
            <p:cNvPicPr/>
            <p:nvPr/>
          </p:nvPicPr>
          <p:blipFill>
            <a:blip r:embed="rId4"/>
            <a:srcRect l="12004" t="9212" r="3999" b="6017"/>
            <a:stretch/>
          </p:blipFill>
          <p:spPr>
            <a:xfrm>
              <a:off x="5496120" y="5419440"/>
              <a:ext cx="2100240" cy="12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Рисунок 27" descr="линейка.jpg"/>
            <p:cNvPicPr/>
            <p:nvPr/>
          </p:nvPicPr>
          <p:blipFill>
            <a:blip r:embed="rId5"/>
            <a:srcRect l="2750" t="28444" r="2750" b="53926"/>
            <a:stretch/>
          </p:blipFill>
          <p:spPr>
            <a:xfrm rot="21173400">
              <a:off x="1729440" y="6143400"/>
              <a:ext cx="3676680" cy="26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2" name="Группа 19"/>
            <p:cNvGrpSpPr/>
            <p:nvPr/>
          </p:nvGrpSpPr>
          <p:grpSpPr>
            <a:xfrm>
              <a:off x="539640" y="5157720"/>
              <a:ext cx="1482120" cy="1468080"/>
              <a:chOff x="539640" y="5157720"/>
              <a:chExt cx="1482120" cy="1468080"/>
            </a:xfrm>
          </p:grpSpPr>
          <p:sp>
            <p:nvSpPr>
              <p:cNvPr id="293" name="Цилиндр 10"/>
              <p:cNvSpPr/>
              <p:nvPr/>
            </p:nvSpPr>
            <p:spPr>
              <a:xfrm>
                <a:off x="539640" y="5157720"/>
                <a:ext cx="871560" cy="1398600"/>
              </a:xfrm>
              <a:prstGeom prst="can">
                <a:avLst>
                  <a:gd name="adj" fmla="val 12467"/>
                </a:avLst>
              </a:prstGeom>
              <a:solidFill>
                <a:srgbClr val="00b0f0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Группа 18"/>
              <p:cNvGrpSpPr/>
              <p:nvPr/>
            </p:nvGrpSpPr>
            <p:grpSpPr>
              <a:xfrm>
                <a:off x="1280880" y="5680800"/>
                <a:ext cx="740880" cy="872280"/>
                <a:chOff x="1280880" y="5680800"/>
                <a:chExt cx="740880" cy="872280"/>
              </a:xfrm>
            </p:grpSpPr>
            <p:sp>
              <p:nvSpPr>
                <p:cNvPr id="295" name="Прямая соединительная линия 13"/>
                <p:cNvSpPr/>
                <p:nvPr/>
              </p:nvSpPr>
              <p:spPr>
                <a:xfrm>
                  <a:off x="1599120" y="5680800"/>
                  <a:ext cx="236880" cy="87228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Прямая соединительная линия 14"/>
                <p:cNvSpPr/>
                <p:nvPr/>
              </p:nvSpPr>
              <p:spPr>
                <a:xfrm flipH="1">
                  <a:off x="1280880" y="5680800"/>
                  <a:ext cx="318240" cy="71892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Прямая соединительная линия 15"/>
                <p:cNvSpPr/>
                <p:nvPr/>
              </p:nvSpPr>
              <p:spPr>
                <a:xfrm>
                  <a:off x="1280880" y="6399720"/>
                  <a:ext cx="555120" cy="15336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Прямая соединительная линия 16"/>
                <p:cNvSpPr/>
                <p:nvPr/>
              </p:nvSpPr>
              <p:spPr>
                <a:xfrm>
                  <a:off x="1598400" y="5680800"/>
                  <a:ext cx="423000" cy="56376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Прямая соединительная линия 17"/>
                <p:cNvSpPr/>
                <p:nvPr/>
              </p:nvSpPr>
              <p:spPr>
                <a:xfrm flipH="1">
                  <a:off x="1835640" y="6244560"/>
                  <a:ext cx="186120" cy="30852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Куб 4"/>
              <p:cNvSpPr/>
              <p:nvPr/>
            </p:nvSpPr>
            <p:spPr>
              <a:xfrm>
                <a:off x="933120" y="6135840"/>
                <a:ext cx="608040" cy="489960"/>
              </a:xfrm>
              <a:prstGeom prst="cube">
                <a:avLst>
                  <a:gd name="adj" fmla="val 25000"/>
                </a:avLst>
              </a:prstGeom>
              <a:solidFill>
                <a:srgbClr val="ffc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1" name="Рисунок 29" descr="циркуль.jpg"/>
            <p:cNvPicPr/>
            <p:nvPr/>
          </p:nvPicPr>
          <p:blipFill>
            <a:blip r:embed="rId6"/>
            <a:srcRect l="3331" t="1937" r="3331" b="3143"/>
            <a:stretch/>
          </p:blipFill>
          <p:spPr>
            <a:xfrm rot="15859200">
              <a:off x="2549520" y="5553720"/>
              <a:ext cx="807120" cy="142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  <p:grpSp>
        <p:nvGrpSpPr>
          <p:cNvPr id="303" name="Блок-схема: альтернативный процесс 2"/>
          <p:cNvGrpSpPr/>
          <p:nvPr/>
        </p:nvGrpSpPr>
        <p:grpSpPr>
          <a:xfrm>
            <a:off x="249120" y="298440"/>
            <a:ext cx="8645760" cy="6267600"/>
            <a:chOff x="249120" y="298440"/>
            <a:chExt cx="8645760" cy="6267600"/>
          </a:xfrm>
        </p:grpSpPr>
        <p:pic>
          <p:nvPicPr>
            <p:cNvPr id="304" name="Блок-схема: альтернативный процесс 2" descr=""/>
            <p:cNvPicPr/>
            <p:nvPr/>
          </p:nvPicPr>
          <p:blipFill>
            <a:blip r:embed="rId2"/>
            <a:stretch/>
          </p:blipFill>
          <p:spPr>
            <a:xfrm>
              <a:off x="249120" y="298440"/>
              <a:ext cx="8645760" cy="626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22440" y="631800"/>
              <a:ext cx="7899120" cy="55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 u="sng">
                  <a:solidFill>
                    <a:srgbClr val="ff0000"/>
                  </a:solidFill>
                  <a:uFillTx/>
                  <a:latin typeface="Constantia"/>
                  <a:ea typeface="Times New Roman"/>
                </a:rPr>
                <a:t>Соціальна компетентні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Вибір  учителем  завдань  ,  які передбачають    для  учнів    самостійний пошук розв'язк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Надання  учням  можливості  обрання  варіанту  завдання  чи шляху розв'язання задач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Використання самооцінки та взаємооцінки учні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Розв' язування  задач  різними  способами  та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    </a:t>
              </a: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визначення  раціонального шляху розв'язуванн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Constant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Залучення дітей до роботи в групах. Обов'язкова умова-врахування  індивідуальних можливостей школярів. Завдання мають бути якщо не індивідуальними, то  хоча б  різнорівневими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Группа 34"/>
          <p:cNvGrpSpPr/>
          <p:nvPr/>
        </p:nvGrpSpPr>
        <p:grpSpPr>
          <a:xfrm>
            <a:off x="3311640" y="5373720"/>
            <a:ext cx="5832360" cy="1351440"/>
            <a:chOff x="3311640" y="5373720"/>
            <a:chExt cx="5832360" cy="1351440"/>
          </a:xfrm>
        </p:grpSpPr>
        <p:pic>
          <p:nvPicPr>
            <p:cNvPr id="307" name="Рисунок 26" descr="паровоз.jpg"/>
            <p:cNvPicPr/>
            <p:nvPr/>
          </p:nvPicPr>
          <p:blipFill>
            <a:blip r:embed="rId3"/>
            <a:srcRect l="12004" t="9212" r="3999" b="6017"/>
            <a:stretch/>
          </p:blipFill>
          <p:spPr>
            <a:xfrm>
              <a:off x="7408440" y="5598000"/>
              <a:ext cx="1735560" cy="10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Рисунок 27" descr="линейка.jpg"/>
            <p:cNvPicPr/>
            <p:nvPr/>
          </p:nvPicPr>
          <p:blipFill>
            <a:blip r:embed="rId4"/>
            <a:srcRect l="2750" t="28444" r="2750" b="53926"/>
            <a:stretch/>
          </p:blipFill>
          <p:spPr>
            <a:xfrm rot="21173400">
              <a:off x="4295160" y="6218640"/>
              <a:ext cx="3038760" cy="22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Группа 19"/>
            <p:cNvGrpSpPr/>
            <p:nvPr/>
          </p:nvGrpSpPr>
          <p:grpSpPr>
            <a:xfrm>
              <a:off x="3311640" y="5373720"/>
              <a:ext cx="1225080" cy="1258200"/>
              <a:chOff x="3311640" y="5373720"/>
              <a:chExt cx="1225080" cy="1258200"/>
            </a:xfrm>
          </p:grpSpPr>
          <p:sp>
            <p:nvSpPr>
              <p:cNvPr id="310" name="Цилиндр 9"/>
              <p:cNvSpPr/>
              <p:nvPr/>
            </p:nvSpPr>
            <p:spPr>
              <a:xfrm>
                <a:off x="3311640" y="5373720"/>
                <a:ext cx="720720" cy="1198080"/>
              </a:xfrm>
              <a:prstGeom prst="can">
                <a:avLst>
                  <a:gd name="adj" fmla="val 12472"/>
                </a:avLst>
              </a:prstGeom>
              <a:solidFill>
                <a:srgbClr val="00b0f0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Группа 18"/>
              <p:cNvGrpSpPr/>
              <p:nvPr/>
            </p:nvGrpSpPr>
            <p:grpSpPr>
              <a:xfrm>
                <a:off x="3924000" y="5821920"/>
                <a:ext cx="612720" cy="747360"/>
                <a:chOff x="3924000" y="5821920"/>
                <a:chExt cx="612720" cy="747360"/>
              </a:xfrm>
            </p:grpSpPr>
            <p:sp>
              <p:nvSpPr>
                <p:cNvPr id="312" name="Прямая соединительная линия 12"/>
                <p:cNvSpPr/>
                <p:nvPr/>
              </p:nvSpPr>
              <p:spPr>
                <a:xfrm>
                  <a:off x="4187520" y="5821920"/>
                  <a:ext cx="195480" cy="74736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Прямая соединительная линия 13"/>
                <p:cNvSpPr/>
                <p:nvPr/>
              </p:nvSpPr>
              <p:spPr>
                <a:xfrm flipH="1">
                  <a:off x="3924000" y="5821920"/>
                  <a:ext cx="263880" cy="61200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Прямая соединительная линия 14"/>
                <p:cNvSpPr/>
                <p:nvPr/>
              </p:nvSpPr>
              <p:spPr>
                <a:xfrm>
                  <a:off x="3924360" y="6433920"/>
                  <a:ext cx="459720" cy="13536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Прямая соединительная линия 15"/>
                <p:cNvSpPr/>
                <p:nvPr/>
              </p:nvSpPr>
              <p:spPr>
                <a:xfrm>
                  <a:off x="4188240" y="5821920"/>
                  <a:ext cx="348480" cy="48168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Прямая соединительная линия 16"/>
                <p:cNvSpPr/>
                <p:nvPr/>
              </p:nvSpPr>
              <p:spPr>
                <a:xfrm flipH="1">
                  <a:off x="4384080" y="6303600"/>
                  <a:ext cx="152640" cy="265680"/>
                </a:xfrm>
                <a:prstGeom prst="line">
                  <a:avLst/>
                </a:prstGeom>
                <a:ln w="28440">
                  <a:solidFill>
                    <a:srgbClr val="0668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Куб 4"/>
              <p:cNvSpPr/>
              <p:nvPr/>
            </p:nvSpPr>
            <p:spPr>
              <a:xfrm>
                <a:off x="3637080" y="6212160"/>
                <a:ext cx="501480" cy="419760"/>
              </a:xfrm>
              <a:prstGeom prst="cube">
                <a:avLst>
                  <a:gd name="adj" fmla="val 25000"/>
                </a:avLst>
              </a:prstGeom>
              <a:solidFill>
                <a:srgbClr val="ffc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8" name="Рисунок 29" descr="циркуль.jpg"/>
            <p:cNvPicPr/>
            <p:nvPr/>
          </p:nvPicPr>
          <p:blipFill>
            <a:blip r:embed="rId5"/>
            <a:srcRect l="3331" t="1937" r="3331" b="3143"/>
            <a:stretch/>
          </p:blipFill>
          <p:spPr>
            <a:xfrm rot="15859200">
              <a:off x="4960080" y="5734800"/>
              <a:ext cx="691560" cy="11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  <p:grpSp>
        <p:nvGrpSpPr>
          <p:cNvPr id="320" name="Блок-схема: альтернативный процесс 2"/>
          <p:cNvGrpSpPr/>
          <p:nvPr/>
        </p:nvGrpSpPr>
        <p:grpSpPr>
          <a:xfrm>
            <a:off x="176040" y="512640"/>
            <a:ext cx="8991720" cy="5907240"/>
            <a:chOff x="176040" y="512640"/>
            <a:chExt cx="8991720" cy="5907240"/>
          </a:xfrm>
        </p:grpSpPr>
        <p:pic>
          <p:nvPicPr>
            <p:cNvPr id="321" name="Блок-схема: альтернативный процесс 2" descr=""/>
            <p:cNvPicPr/>
            <p:nvPr/>
          </p:nvPicPr>
          <p:blipFill>
            <a:blip r:embed="rId2"/>
            <a:stretch/>
          </p:blipFill>
          <p:spPr>
            <a:xfrm>
              <a:off x="176040" y="512640"/>
              <a:ext cx="8991720" cy="590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31720" y="830160"/>
              <a:ext cx="8116920" cy="51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 u="sng">
                  <a:solidFill>
                    <a:srgbClr val="ff0000"/>
                  </a:solidFill>
                  <a:uFillTx/>
                  <a:latin typeface="Constantia"/>
                  <a:ea typeface="Times New Roman"/>
                </a:rPr>
                <a:t>Полікультурна компетентніст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Використання  інформації  з  історії  математичних    відкритті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Використання    художньої    літератури    в процесі      викладання математик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Розв'язання задач історико-культурного зміст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Розв'язання задач екологічного змісту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Характеристика  внеску  в  науку  вчених  різни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 </a:t>
              </a: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національносте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Наголошення  на  внеску  в  розвиток  науки  українських математикі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132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1324e"/>
                  </a:solidFill>
                  <a:latin typeface="Constantia"/>
                  <a:ea typeface="Times New Roman"/>
                </a:rPr>
                <a:t>Виховання  учнів  на  прикладі  життєвого  та  творчого шляху  видатних  математикі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64560" cy="2559240"/>
          </a:xfrm>
          <a:prstGeom prst="rect">
            <a:avLst/>
          </a:prstGeom>
          <a:ln w="0">
            <a:noFill/>
          </a:ln>
        </p:spPr>
      </p:pic>
      <p:pic>
        <p:nvPicPr>
          <p:cNvPr id="324" name="Содержимое 5" descr="1.jpeg"/>
          <p:cNvPicPr/>
          <p:nvPr/>
        </p:nvPicPr>
        <p:blipFill>
          <a:blip r:embed="rId2"/>
          <a:stretch/>
        </p:blipFill>
        <p:spPr>
          <a:xfrm>
            <a:off x="6357960" y="3500280"/>
            <a:ext cx="2071800" cy="285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3"/>
          <p:cNvGraphicFramePr/>
          <p:nvPr/>
        </p:nvGraphicFramePr>
        <p:xfrm>
          <a:off x="714240" y="4572000"/>
          <a:ext cx="121464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4572000"/>
                    <a:ext cx="121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4"/>
          <p:cNvGraphicFramePr/>
          <p:nvPr/>
        </p:nvGraphicFramePr>
        <p:xfrm>
          <a:off x="3571920" y="3857760"/>
          <a:ext cx="1214280" cy="71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3857760"/>
                    <a:ext cx="12142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5"/>
          <p:cNvGraphicFramePr/>
          <p:nvPr/>
        </p:nvGraphicFramePr>
        <p:xfrm>
          <a:off x="3000240" y="5643720"/>
          <a:ext cx="2000520" cy="64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00240" y="5643720"/>
                    <a:ext cx="2000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11:59:55Z</dcterms:created>
  <dc:creator>www.PHILka.RU</dc:creator>
  <dc:description/>
  <dc:language>en-US</dc:language>
  <cp:lastModifiedBy>Пользователь</cp:lastModifiedBy>
  <dcterms:modified xsi:type="dcterms:W3CDTF">2015-02-10T23:54:36Z</dcterms:modified>
  <cp:revision>55</cp:revision>
  <dc:subject/>
  <dc:title>Слайд 1</dc:title>
</cp:coreProperties>
</file>