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6.jpeg" ContentType="image/jpeg"/>
  <Override PartName="/ppt/media/image20.wmf" ContentType="image/x-wmf"/>
  <Override PartName="/ppt/media/image18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07C-5EB2-4C5C-96CB-A6277749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918-5327-44C1-85BB-7C7D437C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034-5335-4554-B5A6-914FC713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163-83E0-47B9-BC16-E18529F9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FF2-AAA9-4F52-87F4-4F02441B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DC81-F3C9-4A49-86D4-7C34DC2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FE09-3DD7-40D6-A3D6-F72DEC9E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61F8-662C-40A0-8896-004D524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43C-D103-4FCF-96A3-21DB5F86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2FAA-E6FD-4F9F-8BFB-847469D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3C8-8C7D-4008-A7E2-BDE9E536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C0A-1978-435C-BA32-F502CB59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AE78-5743-461A-9084-D368F9C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C4CE-887A-41B3-B110-CD6F22D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504-E1CD-4342-9279-4256EE9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896-ECA2-4BA0-8120-BEAF5FB9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1457-8BDC-4FAD-AD3B-E5EE8734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E23-FE47-4627-8803-967DAB3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079-89A6-4A97-A84E-4D3152CD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049-ACA7-4495-957F-D63859F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E08-3F92-4764-A5F6-186F729B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E67-935A-42DB-BD64-51917C5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D9C-CE50-423A-BD30-74CD0C9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B53-B688-45FA-A56C-EFC8264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6C9D-2F51-48D9-92E2-ACAB935592B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E91-1F00-48E6-8143-BBAD9E5F65B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201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6983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ff00"/>
                </a:solidFill>
                <a:latin typeface="Arial"/>
              </a:rPr>
              <a:t>ПОЛЬКА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4360" y="1598760"/>
            <a:ext cx="65516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00"/>
                </a:solidFill>
                <a:latin typeface="Arial"/>
              </a:rPr>
              <a:t>С.В.РАХМАНІ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598760"/>
            <a:ext cx="64818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840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00"/>
                </a:solidFill>
                <a:latin typeface="Arial"/>
              </a:rPr>
              <a:t>ПОРІВНЯЙ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663640" cy="25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16000" y="4084560"/>
            <a:ext cx="2016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912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i="1" lang="uk-UA" sz="4000" spc="-1" strike="noStrike">
                <a:solidFill>
                  <a:srgbClr val="00ff00"/>
                </a:solidFill>
                <a:latin typeface="Arial"/>
              </a:rPr>
              <a:t>МИ  СПІВАЛИ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1598760"/>
            <a:ext cx="68407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i="1" lang="uk-UA" sz="4800" spc="-1" strike="noStrike">
                <a:solidFill>
                  <a:srgbClr val="00ff00"/>
                </a:solidFill>
                <a:latin typeface="Arial"/>
              </a:rPr>
              <a:t>ШКОЛЯР”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52600" y="1598760"/>
            <a:ext cx="68086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6985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7488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ff00"/>
                </a:solidFill>
                <a:latin typeface="Arial"/>
              </a:rPr>
              <a:t>Т А Н Е Ц</a:t>
            </a:r>
            <a:r>
              <a:rPr b="1" i="1" lang="uk-UA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uk-UA" sz="4800" spc="-1" strike="noStrike">
                <a:solidFill>
                  <a:srgbClr val="00ff00"/>
                </a:solidFill>
                <a:latin typeface="Arial"/>
              </a:rPr>
              <a:t> Ь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9af7d"/>
                </a:solidFill>
                <a:latin typeface="Arial"/>
              </a:rPr>
              <a:t>РУХ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9af7d"/>
                </a:solidFill>
                <a:latin typeface="Arial"/>
              </a:rPr>
              <a:t>ТАНЦІВНИ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9af7d"/>
                </a:solidFill>
                <a:latin typeface="Arial"/>
              </a:rPr>
              <a:t>ЕМОЦІЇ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9af7d"/>
                </a:solidFill>
                <a:latin typeface="Arial"/>
              </a:rPr>
              <a:t>РИТ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9af7d"/>
                </a:solidFill>
                <a:latin typeface="Arial"/>
              </a:rPr>
              <a:t>МУЗИ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af7d"/>
                </a:solidFill>
                <a:latin typeface="Arial"/>
              </a:rPr>
              <a:t>МИСТЕЦТВ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539640" y="1916280"/>
            <a:ext cx="2952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ff00"/>
                </a:solidFill>
                <a:latin typeface="Arial"/>
              </a:rPr>
              <a:t>ДЯКУЮ ЗА РОБОТУ НА УРОЦІ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9600" y="1689120"/>
            <a:ext cx="67532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201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597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ff00"/>
                </a:solidFill>
                <a:latin typeface="Arial"/>
              </a:rPr>
              <a:t>ВАЛЬС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1598760"/>
            <a:ext cx="662436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ff00"/>
                </a:solidFill>
                <a:latin typeface="Arial"/>
              </a:rPr>
              <a:t>П.І.ЧАЙКОВСЬКИЙ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696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408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240" y="476280"/>
            <a:ext cx="7476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127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9T19:21:55Z</dcterms:created>
  <dc:creator>User</dc:creator>
  <dc:description/>
  <dc:language>en-US</dc:language>
  <cp:lastModifiedBy>User</cp:lastModifiedBy>
  <dcterms:modified xsi:type="dcterms:W3CDTF">2013-05-19T19:58:59Z</dcterms:modified>
  <cp:revision>3</cp:revision>
  <dc:subject/>
  <dc:title>Слайд 1</dc:title>
</cp:coreProperties>
</file>