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4.jpeg" ContentType="image/jpeg"/>
  <Override PartName="/ppt/media/image22.png" ContentType="image/png"/>
  <Override PartName="/ppt/media/image23.jpeg" ContentType="image/jpeg"/>
  <Override PartName="/ppt/media/image2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EC6B-66E1-4F3E-A100-0A37EAF4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A98E-4CC1-4539-A8A0-467CDF9C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989B-FE17-4444-A3E8-D5414B43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DD4F-A2C1-4207-848B-27777319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B953-E4A5-4B95-9CED-54CBEFD7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3FE1-99BE-4D75-A983-9D097A51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4552-8379-40C8-9252-88D7EAB3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D325-2E48-4B3B-977E-D3E2A458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A70E-B931-448E-8614-06FD86DC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9491-0E1D-47A3-9DD7-8A006EBF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6332-18B8-4C0F-A01C-3ADBDB15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CC28-D53E-4B70-BAA8-D4F02C3F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0689-69F4-4EC0-9B7E-17BC3E65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170D-FAC1-4827-A9C2-3FDD008C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06E9-9D34-430A-B200-76635ACC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A8F2-0025-45AF-B513-43BDA548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DC4A-A3D9-4DC8-8B10-DBCD25F9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91D01-287D-4CC3-ACE3-C5D8148C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3B31C-8AB3-4C43-85CD-035DB24D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A1162-A042-4060-A4E2-3C3EBF43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FAB0C-6110-42B6-8433-42B8F9F7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263B4-8503-4EE9-832C-83C58A9E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4C5F-96C8-4893-86FB-FAF7C706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43E65-B158-4B64-9EA6-E69AA3D7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460FE-9F62-4A16-8E6B-80A3253F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3FBED-F27F-4AF6-90B7-CBA0EB98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C4C1B-1072-456E-AD7A-517371CA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5D108-00C3-4659-81FB-18FBA551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6095D-9CB1-4D57-850F-F104E5D4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28B24-B4D8-425F-AC2B-8DBABD74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4E425-044A-4A93-B981-E7E19BDE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9D306-8612-455E-BD6D-077B2B47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2F1AA-08AB-4394-BCEE-D283439A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ADFC-BF7B-4E43-BC18-5E8404ED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968CA-1CFC-449C-982E-342B00C6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84516-8AB8-48C9-B070-2C2A601A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AA74B-EC26-40DA-ACD8-F99A6303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FC440-322D-44B7-B8CF-0AA9EEB4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60475-671A-4EE0-AF51-35C7BC3D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47C05-07EB-4795-90A9-826AAB90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A67E6-AD14-4F9B-B42E-ACEED6ED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43078-EBD1-4D95-B363-A0021EC2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CF3B7-BDE4-428D-B93A-4972271C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A73D8-D5A9-4AA9-8A0B-9ACD26ED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E466-80D1-42F1-871D-B553E6E2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43377-ADC3-4E06-8355-0B24FAEA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9B2FF-C58F-4D1A-A672-1225B5DA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7F200-7115-44F2-A8AF-553A45FA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AD144-1044-47C1-B100-A470C01F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C6041-B1FC-43C6-920E-FF47835D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3984B-707F-4816-A2C5-2631C584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0A350-EFED-429C-8850-4EA53652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BF2CD-A70C-4502-B38C-A5D23A1B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1709A-AB3B-4669-8AD7-4F2BD251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4306A-B1A6-4C3F-A3DC-15FFA3352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07E-A966-4EA3-BBEC-969643D4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1B368-9E6D-478F-A09F-56991DAC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ECC90-8962-493A-9FB0-D52D38E8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E3107-E971-4379-98A8-97CE4E35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C9892-5572-4BAA-AE7F-7A1CE498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127B1-5CD2-459A-B8F2-00DD3A1C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2831C-82CE-4E5D-8FAB-B6E6F66A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7FEB2-8257-4D6E-8563-D87239FB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5DE05-5DEA-479F-AA4A-620B32A4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E2C9A-F75F-4B1A-930D-7C1B5D6D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BD0CB-CC21-4E6C-A0D2-A0076191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9256-5748-4E85-80FC-EE7A7571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46FC2-27E9-4922-853C-B32D84A2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1114F-1B2F-43D2-9B48-E85712E6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592FE-6A77-40A6-B8AF-03CD5BF3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9A20F-997B-44CE-8BAE-938BD079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98CC1-AE6D-49A7-BAD9-29366B41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88436-D8DB-4BA2-B5BB-4CB9BCFA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3394B-1352-446A-BC23-92C04ABD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85401-B900-423E-84A0-8432BDD4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0902F-8B20-40B1-B868-0C6079D9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5D1B1-794A-4147-85C3-4FC2DDE0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ECA0-E53C-400E-8558-53A1ADAD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D99E6-228D-467B-B5F6-B54E4D96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78D18-2A74-4250-A625-C65497AE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3BB29-59E2-4736-9D5B-01496F4F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ED40A-D2A3-47AA-888A-EE2739CD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994C7-EC85-4284-A0B5-99E1CDD3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71DF7-F8EC-4823-A54A-5742EBC0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6B452-8D54-4368-9DA2-E35AECFE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A3EEB-28AD-48AB-A2E7-030B9A1C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C786E-73AE-45F0-B792-0FF673F1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26789-1EB1-430F-9AE7-A6860853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66CB-D405-495C-8589-1AEB88D1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C1326-6DF7-4227-88FD-BC56F876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20D3D-DF68-4A63-B16E-6BD2D301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762ED-08DD-450D-80FD-87F5E976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B7258-0B74-42A6-95E0-2CF47A7A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99F73-8690-4E50-B4AC-A5178D41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5D6E0-4AD8-495D-ACA5-7270BCEC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F1310-DF9F-4AD5-949E-AAA4F449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37F6-1DA9-437D-8436-2EA004B457A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B419-4D85-43BD-B43C-E7CF4177D53D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8FAF-F37D-4B43-A201-84BA4A3DFE1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37C8-8000-474C-8942-D9CD8EC7957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0584-14DC-4CD7-9FC0-FA590F09A80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5B95-413C-4A44-ADFA-3CE74FAF90A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C9C0-CEBB-4616-A890-DB855E498C4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2C96-A2AD-40E8-AC20-DF94A0029D5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66600"/>
            <a:ext cx="7785000" cy="3511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580536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Thames"/>
              </a:rPr>
              <a:t>Учитель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hames"/>
              </a:rPr>
              <a:t>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Thames"/>
              </a:rPr>
              <a:t>Волыно Юлия Васильевна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179280" y="691920"/>
            <a:ext cx="7056720" cy="53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 Животные »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цы утром рано встали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ло в лесу играл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орожкам прыг-прыг-прыг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к зарядке не привык? (Прыжки на месте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голодная лиса (Ходьба на месте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стно смотрит в небеса. (Потягивания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и вверх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ло вздыхает, (Глубокие вдох и выдох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ится, отдыхает. (Дети садятся за столы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Заголовок 2" descr=""/>
          <p:cNvPicPr/>
          <p:nvPr/>
        </p:nvPicPr>
        <p:blipFill>
          <a:blip r:embed="rId1"/>
          <a:stretch/>
        </p:blipFill>
        <p:spPr>
          <a:xfrm>
            <a:off x="450720" y="-133200"/>
            <a:ext cx="8242560" cy="90792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7" descr="Картинки по запросу физминутка зайцы"/>
          <p:cNvPicPr/>
          <p:nvPr/>
        </p:nvPicPr>
        <p:blipFill>
          <a:blip r:embed="rId2"/>
          <a:stretch/>
        </p:blipFill>
        <p:spPr>
          <a:xfrm>
            <a:off x="6372360" y="692280"/>
            <a:ext cx="2600280" cy="176184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9" descr="Картинки по запросу голодная лиса мультик"/>
          <p:cNvPicPr/>
          <p:nvPr/>
        </p:nvPicPr>
        <p:blipFill>
          <a:blip r:embed="rId3"/>
          <a:stretch/>
        </p:blipFill>
        <p:spPr>
          <a:xfrm>
            <a:off x="6948360" y="4221000"/>
            <a:ext cx="2195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250560" y="1267920"/>
            <a:ext cx="84358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к,ок</a:t>
            </a:r>
            <a:r>
              <a:rPr b="0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ься,к</a:t>
            </a:r>
            <a:r>
              <a:rPr b="0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ще –  </a:t>
            </a:r>
            <a:r>
              <a:rPr b="0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на, ол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од, ол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ёнок – ОЛ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Ь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чица, в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чонок, в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кодав -  В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К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дь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а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ьяна 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щ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ца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гай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сук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гвин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3" descr="Похожее изображение"/>
          <p:cNvPicPr/>
          <p:nvPr/>
        </p:nvPicPr>
        <p:blipFill>
          <a:blip r:embed="rId2"/>
          <a:stretch/>
        </p:blipFill>
        <p:spPr>
          <a:xfrm>
            <a:off x="4932360" y="1268280"/>
            <a:ext cx="3311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3 – 5 предложений о вашем домашнем  питомце или о любимом животном, используя слова с проверяемыми и непроверяемыми написаниями безударных гласных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0" name="Рисунок 4" descr="Картинки по запросу"/>
          <p:cNvPicPr/>
          <p:nvPr/>
        </p:nvPicPr>
        <p:blipFill>
          <a:blip r:embed="rId1"/>
          <a:stretch/>
        </p:blipFill>
        <p:spPr>
          <a:xfrm>
            <a:off x="179280" y="-243000"/>
            <a:ext cx="8713800" cy="251964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5" descr="Картинки по запросу домашние животніе"/>
          <p:cNvPicPr/>
          <p:nvPr/>
        </p:nvPicPr>
        <p:blipFill>
          <a:blip r:embed="rId2"/>
          <a:stretch/>
        </p:blipFill>
        <p:spPr>
          <a:xfrm>
            <a:off x="5003640" y="4525920"/>
            <a:ext cx="41403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Картинки по запросу спасибо за урок"/>
          <p:cNvPicPr/>
          <p:nvPr/>
        </p:nvPicPr>
        <p:blipFill>
          <a:blip r:embed="rId1"/>
          <a:stretch/>
        </p:blipFill>
        <p:spPr>
          <a:xfrm>
            <a:off x="0" y="-225360"/>
            <a:ext cx="9445680" cy="70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286200"/>
            <a:ext cx="91440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думано кем - то просто   и умно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встрече здороваться: « Доброе утро!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« Доброе утро! » -  солнцу и птицам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« Доброе утро! » - улыбчивым лиц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С улыбкой  урок мы этот начнём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плодотворно его проведём !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" descr="Картинки по запросу смайлик доброе утро"/>
          <p:cNvPicPr/>
          <p:nvPr/>
        </p:nvPicPr>
        <p:blipFill>
          <a:blip r:embed="rId1"/>
          <a:stretch/>
        </p:blipFill>
        <p:spPr>
          <a:xfrm>
            <a:off x="3419640" y="2852640"/>
            <a:ext cx="3528720" cy="352908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3" descr="Похожее изображение"/>
          <p:cNvPicPr/>
          <p:nvPr/>
        </p:nvPicPr>
        <p:blipFill>
          <a:blip r:embed="rId2"/>
          <a:stretch/>
        </p:blipFill>
        <p:spPr>
          <a:xfrm>
            <a:off x="0" y="0"/>
            <a:ext cx="1278000" cy="121608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6" descr="Похожее изображение"/>
          <p:cNvPicPr/>
          <p:nvPr/>
        </p:nvPicPr>
        <p:blipFill>
          <a:blip r:embed="rId3"/>
          <a:stretch/>
        </p:blipFill>
        <p:spPr>
          <a:xfrm>
            <a:off x="7524720" y="5300640"/>
            <a:ext cx="127800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"/>
          <p:cNvSpPr/>
          <p:nvPr/>
        </p:nvSpPr>
        <p:spPr>
          <a:xfrm>
            <a:off x="250920" y="-1798200"/>
            <a:ext cx="889308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 украинского языка в русском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ношение гласных звуков в слове    завис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 ударения.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Рисунок 7" descr="Картинки по запросу запомни восклицательный знак"/>
          <p:cNvPicPr/>
          <p:nvPr/>
        </p:nvPicPr>
        <p:blipFill>
          <a:blip r:embed="rId1"/>
          <a:srcRect l="0" t="0" r="3572" b="0"/>
          <a:stretch/>
        </p:blipFill>
        <p:spPr>
          <a:xfrm>
            <a:off x="324000" y="0"/>
            <a:ext cx="1944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682560" y="-73080"/>
            <a:ext cx="7785000" cy="99396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85800" y="1196640"/>
            <a:ext cx="7772400" cy="3614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ётливо произносятся только гласные в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льной позици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те,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торые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дает ударение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пример: 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</a:t>
            </a:r>
            <a:r>
              <a:rPr b="0" lang="ru-RU" sz="3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</a:t>
            </a:r>
            <a:r>
              <a:rPr b="0" lang="en-US" sz="3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’</a:t>
            </a: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,  щав</a:t>
            </a:r>
            <a:r>
              <a:rPr b="0" lang="ru-RU" sz="3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en-US" sz="3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’</a:t>
            </a: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348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56840" y="5444640"/>
            <a:ext cx="4040280" cy="129708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ЫВОД: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сколько гласных звуков в слове , столько и слогов.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44720" y="5444640"/>
            <a:ext cx="4041720" cy="129708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Ударный слог -  в сильной позиции , безударный -  в слабой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hames"/>
              </a:rPr>
              <a:t>НОСОРОГ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hames"/>
              </a:rPr>
              <a:t>СОБАКА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hames"/>
              </a:rPr>
              <a:t>Н</a:t>
            </a:r>
            <a:r>
              <a:rPr b="0" lang="ru-RU" sz="3600" spc="-1" strike="noStrike">
                <a:solidFill>
                  <a:srgbClr val="ff0000"/>
                </a:solidFill>
                <a:latin typeface="Thames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hames"/>
              </a:rPr>
              <a:t> – С</a:t>
            </a:r>
            <a:r>
              <a:rPr b="0" lang="ru-RU" sz="3600" spc="-1" strike="noStrike">
                <a:solidFill>
                  <a:srgbClr val="ff0000"/>
                </a:solidFill>
                <a:latin typeface="Thames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hames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Thames"/>
              </a:rPr>
              <a:t>Р</a:t>
            </a:r>
            <a:r>
              <a:rPr b="0" lang="ru-RU" sz="3600" spc="-1" strike="noStrike">
                <a:solidFill>
                  <a:srgbClr val="ff0000"/>
                </a:solidFill>
                <a:latin typeface="Thames"/>
              </a:rPr>
              <a:t>О</a:t>
            </a:r>
            <a:r>
              <a:rPr b="0" lang="en-US" sz="3600" spc="-1" strike="noStrike">
                <a:solidFill>
                  <a:srgbClr val="ff0000"/>
                </a:solidFill>
                <a:latin typeface="Thames"/>
              </a:rPr>
              <a:t>’</a:t>
            </a:r>
            <a:r>
              <a:rPr b="0" lang="ru-RU" sz="3600" spc="-1" strike="noStrike">
                <a:solidFill>
                  <a:srgbClr val="000000"/>
                </a:solidFill>
                <a:latin typeface="Thames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hames"/>
              </a:rPr>
              <a:t>С</a:t>
            </a:r>
            <a:r>
              <a:rPr b="0" lang="ru-RU" sz="3600" spc="-1" strike="noStrike">
                <a:solidFill>
                  <a:srgbClr val="ff0000"/>
                </a:solidFill>
                <a:latin typeface="Thames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hames"/>
              </a:rPr>
              <a:t> – Б</a:t>
            </a:r>
            <a:r>
              <a:rPr b="0" lang="ru-RU" sz="3600" spc="-1" strike="noStrike">
                <a:solidFill>
                  <a:srgbClr val="ff0000"/>
                </a:solidFill>
                <a:latin typeface="Thames"/>
              </a:rPr>
              <a:t>А</a:t>
            </a:r>
            <a:r>
              <a:rPr b="0" lang="en-US" sz="3600" spc="-1" strike="noStrike">
                <a:solidFill>
                  <a:srgbClr val="ff0000"/>
                </a:solidFill>
                <a:latin typeface="Thames"/>
              </a:rPr>
              <a:t>’</a:t>
            </a:r>
            <a:r>
              <a:rPr b="0" lang="ru-RU" sz="3600" spc="-1" strike="noStrike">
                <a:solidFill>
                  <a:srgbClr val="000000"/>
                </a:solidFill>
                <a:latin typeface="Thames"/>
              </a:rPr>
              <a:t> – К</a:t>
            </a:r>
            <a:r>
              <a:rPr b="0" lang="ru-RU" sz="3600" spc="-1" strike="noStrike">
                <a:solidFill>
                  <a:srgbClr val="ff0000"/>
                </a:solidFill>
                <a:latin typeface="Thames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78920" y="2707920"/>
            <a:ext cx="8713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539640" y="115920"/>
            <a:ext cx="8353440" cy="491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днокоренные слова </a:t>
            </a:r>
            <a:r>
              <a:rPr b="0" lang="ru-RU" sz="5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лова , которые близкие по значению и имеют одинаковый корень. </a:t>
            </a:r>
            <a:endParaRPr b="0" lang="en-US" sz="43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пример: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ёт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ёт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к,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т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ь, само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ёт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т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ет, пере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ёт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ые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ледует в слове поставить ударение , определив ударный или безударный звук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делить корень в слове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ь  безударную гласную в корне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зменить само слово так, чтобы безударный звук в корне  стал ударным ( либ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в однокоренное слово, либо изменив слово по числам ( дома – дом)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если проверочное слово невозможно подобрать, нужно это слово запомнить или проверить в орфографическом словаре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слышав чётко гласный звук под ударением, можно записать слово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291960" y="109440"/>
            <a:ext cx="82980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4012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hames"/>
              </a:rPr>
              <a:t>( Л…СА)</a:t>
            </a:r>
            <a:endParaRPr b="0" lang="en-US" sz="3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hames"/>
              </a:rPr>
              <a:t>( Л</a:t>
            </a:r>
            <a:r>
              <a:rPr b="0" lang="ru-RU" sz="3800" spc="-1" strike="noStrike">
                <a:solidFill>
                  <a:srgbClr val="ff0000"/>
                </a:solidFill>
                <a:latin typeface="Thames"/>
              </a:rPr>
              <a:t>И</a:t>
            </a:r>
            <a:r>
              <a:rPr b="0" lang="ru-RU" sz="3800" spc="-1" strike="noStrike">
                <a:solidFill>
                  <a:srgbClr val="ffffff"/>
                </a:solidFill>
                <a:latin typeface="Thames"/>
              </a:rPr>
              <a:t>СА)</a:t>
            </a:r>
            <a:endParaRPr b="0" lang="en-US" sz="3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78920" y="980640"/>
            <a:ext cx="431820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вост пушист, быстра сноровк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исто-рыжий мех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голодно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утов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 считает лучше всех.   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Содержимое 9" descr="Картинки по запросу лисица"/>
          <p:cNvPicPr/>
          <p:nvPr/>
        </p:nvPicPr>
        <p:blipFill>
          <a:blip r:embed="rId2"/>
          <a:stretch/>
        </p:blipFill>
        <p:spPr>
          <a:xfrm>
            <a:off x="4356000" y="1484280"/>
            <a:ext cx="4176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Lucida Sans Unicode"/>
              </a:rPr>
              <a:t>( К…ЗЁЛ)</a:t>
            </a:r>
            <a:endParaRPr b="0" lang="en-US" sz="3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Lucida Sans Unicode"/>
              </a:rPr>
              <a:t>( К</a:t>
            </a:r>
            <a:r>
              <a:rPr b="0" lang="ru-RU" sz="3800" spc="-1" strike="noStrike">
                <a:solidFill>
                  <a:srgbClr val="ff0000"/>
                </a:solidFill>
                <a:latin typeface="Lucida Sans Unicode"/>
              </a:rPr>
              <a:t>О</a:t>
            </a:r>
            <a:r>
              <a:rPr b="0" lang="ru-RU" sz="3800" spc="-1" strike="noStrike">
                <a:solidFill>
                  <a:srgbClr val="ffffff"/>
                </a:solidFill>
                <a:latin typeface="Lucida Sans Unicode"/>
              </a:rPr>
              <a:t>ЗЁЛ)</a:t>
            </a:r>
            <a:endParaRPr b="0" lang="en-US" sz="3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ородой, 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е мужик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рогами, 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е бык</a:t>
            </a:r>
            <a:r>
              <a:rPr b="0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Содержимое 6" descr="Картинки по запросу козёл"/>
          <p:cNvPicPr/>
          <p:nvPr/>
        </p:nvPicPr>
        <p:blipFill>
          <a:blip r:embed="rId2"/>
          <a:stretch/>
        </p:blipFill>
        <p:spPr>
          <a:xfrm>
            <a:off x="4788000" y="1341360"/>
            <a:ext cx="352908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9T13:49:42Z</dcterms:created>
  <dc:creator>Admin</dc:creator>
  <dc:description/>
  <dc:language>en-US</dc:language>
  <cp:lastModifiedBy>Admin</cp:lastModifiedBy>
  <dcterms:modified xsi:type="dcterms:W3CDTF">2017-11-18T13:34:46Z</dcterms:modified>
  <cp:revision>86</cp:revision>
  <dc:subject/>
  <dc:title>Урок русского языка в 6 классе   по теме  «Орфография. Проверяемая и непроверяемая безударная гласная в корне »</dc:title>
</cp:coreProperties>
</file>