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215-C905-4E07-A67C-FD4E4134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23A-6516-4921-B080-F055A489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1B6-D642-4C0A-B8BC-671F5832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77D-85DB-40ED-AD82-74A1F293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3024-17ED-463D-B2CF-49F56D6D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5D85-7DDD-4B6B-A467-0DBF4CE7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F79B-A117-4C8C-9FC4-FDD3CB96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B1E7-B7E3-4704-A735-E2D2D1B7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FCB8-09AC-4883-85E7-E997D977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17D6-94CD-4D4A-96D2-6BB7B537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18AD-5A51-46B0-B331-77B967A8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B84-130C-4F91-BB4B-0756CC2D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9C4A-4764-43EB-A81F-B7705355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66D8-EAFC-458C-A3BB-296F0E26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193B-721C-4F6C-B71C-4D6645A5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6A1D-67A9-4F93-853E-FA397751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874C-6CCF-408B-8916-1ED7CE51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F412A-3CA7-434F-A837-4C28BC84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6EAE8-589C-4EAF-9081-1781754F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9F30B-4701-4092-B499-DA512BB9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392A-AA28-43C7-98DB-C7EC6B98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94EE-0FB3-4026-8D07-2EEB2CBE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595-A602-4AD3-9F76-0EBF2DEB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B61E4-9548-4131-B5E3-4F4850D0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71DA-1566-40DD-BA8C-822B075A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317D-E12F-488A-9D2A-39956FAF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F0F95-6862-47DA-ACB4-AD633186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B9118-FBCB-48EC-B941-CFABD128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C11E-04AE-4C49-924D-32DBA495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009C-D46F-4521-A37C-34180706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9628-463D-43CA-B5C2-F233EE7F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E8D7-7DA4-4615-8C97-270F7181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8D96-CC76-4B46-B545-EE7B8638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C85-C686-4E21-85AB-7B1B9D92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F382A-F09F-4AA6-A5FE-A5DB9906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45312-16A1-4DCF-8CA4-A47E9F6E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42AE1-3B93-4081-81F8-FBE5DC73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EEC04-F48E-405E-9647-B6D6B97C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3CA41-0D33-4CF2-BB7D-36C041D8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C86CA-151E-418C-B43A-0404F09A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1881D-7DBA-4F08-AC92-F1CB3E77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D80AD-A837-4F7D-BBD2-18ADBB53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F86D-EA27-4C00-AE80-71E60E39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EB2DC-D06F-4F7F-AF7D-7461A23E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BBB-C682-4F58-BD5D-FA822074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5A37-1C94-4C63-B98B-2821ACA7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4B16E-E2FC-4869-B1ED-33E49B8E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51DBC-2C9C-45FA-93A2-562A05ED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DDE22-257D-4F2D-9AFD-695C353F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B7976-9C9C-4F71-8A5D-D640124A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7EADA-A180-47F2-B687-4540E226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54FE8-A7B5-4BD3-8B15-615B5E9F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54AEB-49C9-4AB8-A747-0F8C9C84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8A40C-11ED-4CE2-8B18-805ED4CD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85793-8EDB-4E9B-B681-452FA11F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A5F-72E4-4E02-9947-A6539AF0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6BF70-B439-48D8-9333-C5BA0060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1DD2E-97E8-42B0-9EFA-B945927B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C7882-BA1F-43FB-8865-BDB55074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7CD58-4330-4030-A8CD-340282B4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A5FF8-A7D4-47D5-AE4E-CA549263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459C5-B678-43B3-9B78-05A711A7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0CB38-6226-4EBB-954F-1C486DBF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CF77C-2D8A-45BD-9E7F-C9F5AB30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21E2A-8A1E-4C4C-BCF1-2CB72E96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DD607-0309-4616-A35A-854BC57C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8A9-0FDF-47DA-BC1F-1396AE19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12B1A-E70E-49AC-96B8-C954F55E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77529-0FC4-4AA3-8663-C04EE481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786AE-6243-4D98-B612-11970249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CC4-7F77-4F1F-B564-E284B02A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586-0AFA-4470-9CBA-5C9751AB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06FA-23AF-4F3A-A5F3-A2F5D2980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14E8-4C3B-4865-9A8C-82C2575E0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E0B3-FC87-44FF-8E00-253792AF9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BCD6-88B7-4C8F-A44A-AD8BCF4BD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71AE-1898-464F-95AD-B26F219BC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634B-2A0C-41AD-BD3B-2AFB4CABF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837720" y="1447920"/>
            <a:ext cx="800748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ожен знає з нас чудово- не прожити нам без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Щоб розумним дуже стати- треба мову на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,щоб вміти говорити,треба-рідну мову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3" descr="звонок 1"/>
          <p:cNvPicPr/>
          <p:nvPr/>
        </p:nvPicPr>
        <p:blipFill>
          <a:blip r:embed="rId1"/>
          <a:stretch/>
        </p:blipFill>
        <p:spPr>
          <a:xfrm rot="1750800">
            <a:off x="6751800" y="209160"/>
            <a:ext cx="1790640" cy="1479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imageДЕТИ ЗА ПАРТАМИ "/>
          <p:cNvPicPr/>
          <p:nvPr/>
        </p:nvPicPr>
        <p:blipFill>
          <a:blip r:embed="rId2"/>
          <a:stretch/>
        </p:blipFill>
        <p:spPr>
          <a:xfrm>
            <a:off x="6300720" y="5157720"/>
            <a:ext cx="2232000" cy="106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Так чи ні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914400" y="1628640"/>
            <a:ext cx="76899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На уроці я навчився...</a:t>
            </a:r>
            <a:endParaRPr b="1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Найбільше мені сподобалось...</a:t>
            </a:r>
            <a:endParaRPr b="1" i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pic>
        <p:nvPicPr>
          <p:cNvPr id="283" name="Picture 3" descr="мурзик 9"/>
          <p:cNvPicPr/>
          <p:nvPr/>
        </p:nvPicPr>
        <p:blipFill>
          <a:blip r:embed="rId1"/>
          <a:stretch/>
        </p:blipFill>
        <p:spPr>
          <a:xfrm>
            <a:off x="324000" y="0"/>
            <a:ext cx="2016000" cy="1650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6468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Продовж речен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Я зможу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Я навчусь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Для цього мені потрібно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Від себе я очікую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агад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Різнобарвне коромисло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через річку повисло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4495680" y="4038480"/>
            <a:ext cx="350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" descr=""/>
          <p:cNvPicPr/>
          <p:nvPr/>
        </p:nvPicPr>
        <p:blipFill>
          <a:blip r:embed="rId2"/>
          <a:stretch/>
        </p:blipFill>
        <p:spPr>
          <a:xfrm>
            <a:off x="2987640" y="0"/>
            <a:ext cx="2260800" cy="22590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2" descr=""/>
          <p:cNvPicPr/>
          <p:nvPr/>
        </p:nvPicPr>
        <p:blipFill>
          <a:blip r:embed="rId3"/>
          <a:stretch/>
        </p:blipFill>
        <p:spPr>
          <a:xfrm>
            <a:off x="1403280" y="907920"/>
            <a:ext cx="22082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22222E-006 C -0.00486 0.00949 -0.00434 0.01968 -0.00607 0.03079 C -0.00781 0.04144 -0.01024 0.05278 -0.01476 0.06181 C -0.01684 0.07292 -0.02066 0.07917 -0.02587 0.08773 C -0.0283 0.09236 -0.03055 0.09745 -0.03298 0.10232 C -0.03385 0.10394 -0.03542 0.10718 -0.03542 0.10718 C -0.03819 0.11875 -0.04132 0.13125 -0.04635 0.14144 C -0.04774 0.14884 -0.04982 0.15579 -0.05243 0.1625 C -0.05382 0.16597 -0.05729 0.17222 -0.05729 0.17222 C -0.05989 0.18287 -0.06371 0.19236 -0.0684 0.20162 C -0.06979 0.2044 -0.0691 0.20903 -0.07083 0.21134 C -0.07361 0.21482 -0.07517 0.21667 -0.07691 0.22107 C -0.07986 0.2287 -0.0809 0.2375 -0.08542 0.24398 C -0.09097 0.26528 -0.09739 0.28519 -0.10989 0.3007 C -0.11232 0.31065 -0.11528 0.32153 -0.11962 0.33009 C -0.12239 0.34514 -0.12795 0.35695 -0.13298 0.3706 C -0.13559 0.37732 -0.1408 0.38102 -0.14271 0.38866 C -0.14462 0.3963 -0.14653 0.40116 -0.14878 0.4081 C -0.15191 0.41736 -0.15295 0.425 -0.15851 0.43241 C -0.15989 0.4375 -0.16614 0.4456 -0.16614 0.4456 C -0.16927 0.45787 -0.17378 0.46829 -0.1783 0.47963 C -0.18125 0.48773 -0.18194 0.49838 -0.1842 0.50718 C -0.18576 0.5132 -0.18489 0.52037 -0.18785 0.52523 C -0.1901 0.52894 -0.19323 0.53125 -0.19514 0.53495 C -0.20087 0.5463 -0.19757 0.54259 -0.20364 0.54792 C -0.20937 0.55926 -0.20607 0.55556 -0.21232 0.56088 C -0.21788 0.57199 -0.22691 0.58426 -0.23542 0.5919 C -0.23628 0.59352 -0.23663 0.59583 -0.23785 0.59676 C -0.24028 0.59861 -0.24514 0.6 -0.24514 0.6 C -0.30521 0.59792 -0.27864 0.60347 -0.30486 0.5919 C -0.30746 0.58658 -0.30955 0.58403 -0.31354 0.58033 C -0.31632 0.57477 -0.3191 0.57107 -0.32326 0.56736 C -0.33021 0.55324 -0.32934 0.55463 -0.32934 0.53495 E">
                                      <p:cBhvr>
                                        <p:cTn id="81" dur="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1481E-006 C 0.0033 -0.01296 -0.00121 0.00371 0.00365 -0.00972 C 0.00747 -0.02037 0.00591 -0.02639 0.01459 -0.03426 C 0.01823 -0.04097 0.0224 -0.04768 0.02691 -0.0537 C 0.02847 -0.06018 0.03056 -0.06296 0.03542 -0.06504 C 0.03837 -0.07083 0.04132 -0.07361 0.04514 -0.07801 C 0.04601 -0.07893 0.04688 -0.08032 0.04757 -0.08148 C 0.04844 -0.0831 0.04896 -0.08495 0.05 -0.08634 C 0.05417 -0.0912 0.0599 -0.09514 0.06459 -0.0993 C 0.06841 -0.10278 0.07483 -0.10231 0.07934 -0.10416 C 0.08733 -0.10741 0.09566 -0.11041 0.10365 -0.11389 C 0.14931 -0.11319 0.20243 -0.13958 0.24028 -0.10579 C 0.24202 -0.10231 0.24479 -0.09977 0.24636 -0.09606 C 0.25052 -0.08611 0.25156 -0.07268 0.25365 -0.0618 C 0.25313 -0.02754 0.26216 0.02639 0.23542 0.05023 C 0.22969 0.06181 0.23299 0.0581 0.22691 0.06343 C 0.22535 0.06991 0.22379 0.07269 0.21962 0.07639 C 0.21441 0.08658 0.22031 0.07639 0.21337 0.08449 C 0.20851 0.09005 0.20521 0.09769 0.2 0.10232 C 0.18993 0.12199 0.18334 0.12408 0.16597 0.12523 C 0.15209 0.12616 0.13837 0.12639 0.12448 0.12685 C 0.13247 0.14283 0.14827 0.1419 0.16094 0.14306 C 0.16216 0.14421 0.1632 0.14537 0.16459 0.1463 C 0.1658 0.14699 0.16736 0.14699 0.16841 0.14792 C 0.17344 0.15232 0.17604 0.16088 0.17934 0.16736 C 0.18247 0.17384 0.18507 0.18033 0.18785 0.18681 C 0.19184 0.19607 0.18889 0.18357 0.19254 0.19514 C 0.19722 0.20857 0.19948 0.22454 0.20122 0.23889 C 0.20122 0.24074 0.20972 0.30602 0.19393 0.32014 C 0.19236 0.32662 0.19097 0.3294 0.18663 0.33334 C 0.18455 0.3419 0.18611 0.33681 0.18038 0.34792 C 0.17761 0.35371 0.17622 0.36528 0.17448 0.37222 C 0.17222 0.38125 0.16615 0.38889 0.16216 0.39676 C 0.15695 0.40695 0.15434 0.41713 0.14636 0.42431 C 0.1415 0.4338 0.13663 0.44537 0.12934 0.45185 C 0.12361 0.46343 0.12691 0.45972 0.12084 0.46505 C 0.11233 0.48195 0.09549 0.4757 0.08177 0.47639 C 0.06007 0.47454 0.06077 0.4757 0.04514 0.46181 C 0.04063 0.45278 0.03629 0.44167 0.02934 0.43565 C 0.02761 0.42176 0.02813 0.42917 0.02813 0.41296 E">
                                      <p:cBhvr>
                                        <p:cTn id="89" dur="5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Рисунок 1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2529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7 C 0.0026 -0.01042 0.00868 -0.01296 0.01597 -0.0162 C 0.02031 -0.01805 0.02639 -0.02546 0.03056 -0.02917 C 0.03628 -0.03426 0.03194 -0.0338 0.03785 -0.03727 C 0.0401 -0.03866 0.04514 -0.04051 0.04514 -0.04051 C 0.0474 -0.04352 0.05017 -0.0456 0.05243 -0.04861 C 0.05885 -0.05718 0.06441 -0.06968 0.07205 -0.07639 C 0.07483 -0.08194 0.0776 -0.08565 0.08177 -0.08935 C 0.08455 -0.09491 0.08733 -0.09861 0.09149 -0.10231 C 0.09444 -0.1081 0.0974 -0.11088 0.10122 -0.11528 C 0.10417 -0.11852 0.1059 -0.12361 0.10868 -0.12685 C 0.11094 -0.1294 0.11597 -0.13333 0.11597 -0.13333 C 0.11927 -0.13981 0.12326 -0.14676 0.12812 -0.15116 C 0.13351 -0.1618 0.14097 -0.16944 0.14635 -0.18032 C 0.15017 -0.18796 0.15191 -0.19676 0.15503 -0.20486 C 0.15799 -0.2125 0.15694 -0.20741 0.16111 -0.21458 C 0.17135 -0.23194 0.16128 -0.21805 0.16962 -0.22917 C 0.17135 -0.23588 0.17396 -0.24282 0.17691 -0.24861 C 0.18542 -0.28356 0.19271 -0.34514 0.16111 -0.35926 C 0.14618 -0.3581 0.13437 -0.3588 0.12205 -0.34792 C 0.11858 -0.34074 0.11372 -0.33518 0.1099 -0.32847 C 0.10017 -0.3118 0.10885 -0.32384 0.10243 -0.31528 C 0.09931 -0.30301 0.10382 -0.31759 0.09757 -0.30718 C 0.0967 -0.30579 0.09687 -0.30393 0.09635 -0.30231 C 0.09392 -0.29583 0.09149 -0.28935 0.08906 -0.28287 C 0.08698 -0.27731 0.0875 -0.2706 0.08542 -0.26505 C 0.07604 -0.24028 0.07274 -0.21227 0.06111 -0.18866 C 0.05833 -0.1831 0.05608 -0.175 0.05243 -0.1706 C 0.04948 -0.15856 0.04444 -0.14768 0.04028 -0.13657 C 0.03715 -0.12824 0.03785 -0.11852 0.0342 -0.11042 C 0.03021 -0.10162 0.02569 -0.09398 0.02083 -0.08611 C 0.01753 -0.08079 0.01701 -0.08241 0.01476 -0.07639 C 0.01111 -0.06667 0.00833 -0.05602 0.00365 -0.04699 C 0.0033 -0.04537 0.00295 -0.04375 0.00243 -0.04213 C 0.00174 -0.04028 0.00052 -0.03912 5.55556E-007 -0.03727 C -0.00347 -0.02662 -0.00451 -0.01412 -0.00729 -0.00324 C -0.00816 0.00046 -0.01128 0.00278 -0.01215 0.00648 C -0.01476 0.0169 -0.01979 0.02593 -0.02309 0.03588 C -0.02656 0.0463 -0.02465 0.04375 -0.02674 0.0537 C -0.0283 0.06181 -0.03056 0.0662 -0.03281 0.07315 C -0.03507 0.07986 -0.03628 0.08634 -0.03889 0.09282 C -0.04028 0.0963 -0.04219 0.09931 -0.04375 0.10255 C -0.04462 0.10417 -0.04635 0.10741 -0.04635 0.10741 C -0.05087 0.12523 -0.04375 0.09838 -0.05 0.11713 C -0.05243 0.12454 -0.05278 0.13009 -0.05608 0.13657 C -0.05677 0.14028 -0.05851 0.14398 -0.05851 0.14792 C -0.05851 0.1537 -0.06597 0.23009 -0.04497 0.23912 C -0.03021 0.25232 -0.01806 0.24329 0.00365 0.24236 C 0.00764 0.24074 0.01215 0.24005 0.01597 0.2375 C 0.02118 0.23403 0.0184 0.23449 0.02326 0.2294 C 0.02552 0.22708 0.02812 0.225 0.03056 0.22292 C 0.04201 0.21273 0.03281 0.21806 0.03906 0.20972 C 0.0401 0.20833 0.04167 0.20787 0.04271 0.20648 C 0.04531 0.20347 0.04809 0.20046 0.05 0.19676 C 0.05174 0.19352 0.05503 0.18704 0.05503 0.18704 C 0.05764 0.17639 0.06007 0.15903 0.06354 0.14977 C 0.06424 0.14792 0.06545 0.14653 0.06597 0.14468 C 0.06701 0.14144 0.0684 0.13495 0.0684 0.13495 C 0.06806 0.11597 0.06823 0.09699 0.06719 0.07801 C 0.06701 0.07616 0.0658 0.07454 0.06476 0.07315 C 0.05538 0.05926 0.0533 0.0588 0.04028 0.05532 C 0.05087 0.07662 0.09462 0.0632 0.09878 0.06343 C 0.12431 0.06528 0.1309 0.06644 0.1599 0.06343 C 0.16875 0.0625 0.16493 0.06042 0.17083 0.05695 C 0.17951 0.05185 0.18854 0.04375 0.19757 0.04074 C 0.20347 0.03565 0.19983 0.0382 0.20868 0.03426 C 0.21372 0.03218 0.21806 0.02685 0.22326 0.02454 C 0.23351 0.01088 0.22066 0.02732 0.23056 0.01644 C 0.23403 0.01273 0.23524 0.00833 0.23906 0.00486 C 0.24184 -0.00093 0.24392 -0.0044 0.24878 -0.00648 C 0.25139 -0.01157 0.25503 -0.01574 0.25868 -0.01944 C 0.26094 -0.02176 0.26597 -0.02593 0.26597 -0.02593 C 0.27049 -0.03472 0.27639 -0.04259 0.28299 -0.04861 C 0.28819 -0.05972 0.29514 -0.06643 0.30243 -0.07477 C 0.30469 -0.07731 0.30712 -0.07963 0.30868 -0.08287 C 0.30955 -0.08449 0.31007 -0.08634 0.31111 -0.08773 C 0.31806 -0.09699 0.31146 -0.0838 0.3184 -0.09583 C 0.32535 -0.10764 0.32812 -0.12315 0.33785 -0.13171 C 0.34062 -0.13727 0.3434 -0.14097 0.34757 -0.14468 C 0.35069 -0.15093 0.35191 -0.15718 0.35625 -0.1625 C 0.3566 -0.16412 0.35694 -0.16574 0.35747 -0.16736 C 0.35816 -0.16921 0.35937 -0.17037 0.3599 -0.17222 C 0.36441 -0.18611 0.35972 -0.17824 0.36476 -0.18542 C 0.36771 -0.19722 0.36545 -0.19282 0.37083 -0.2 C 0.37257 -0.20694 0.37483 -0.21389 0.37934 -0.21782 C 0.38212 -0.22338 0.3849 -0.22708 0.38906 -0.23079 C 0.39184 -0.23634 0.39462 -0.24005 0.39878 -0.24375 C 0.40017 -0.2493 0.40174 -0.25301 0.40503 -0.25694 C 0.40764 -0.26759 0.41372 -0.27824 0.41962 -0.28611 C 0.42101 -0.31227 0.42205 -0.31944 0.41962 -0.34954 C 0.4191 -0.35579 0.41267 -0.35648 0.4099 -0.35764 C 0.40868 -0.3581 0.40625 -0.35926 0.40625 -0.35926 C 0.39844 -0.3588 0.39062 -0.3588 0.38299 -0.35764 C 0.38038 -0.35718 0.37569 -0.3544 0.37569 -0.3544 C 0.36927 -0.34143 0.36858 -0.34167 0.36111 -0.33171 C 0.35955 -0.32546 0.35642 -0.32222 0.35365 -0.3169 C 0.35069 -0.30509 0.3467 -0.28009 0.34028 -0.27153 C 0.33455 -0.26389 0.3375 -0.26852 0.33177 -0.25694 C 0.3309 -0.25532 0.32934 -0.25208 0.32934 -0.25208 C 0.32691 -0.24213 0.32101 -0.23194 0.31719 -0.22268 C 0.3158 -0.21921 0.31319 -0.21667 0.31233 -0.21296 C 0.30781 -0.19514 0.31493 -0.22199 0.30868 -0.20324 C 0.30608 -0.1956 0.3059 -0.19028 0.30243 -0.18356 C 0.29896 -0.16991 0.29219 -0.15787 0.28785 -0.14468 C 0.28507 -0.13634 0.28385 -0.12824 0.28056 -0.12037 C 0.2776 -0.11296 0.2724 -0.10787 0.26962 -0.10069 C 0.26684 -0.09329 0.26059 -0.0838 0.25868 -0.07639 C 0.2559 -0.06528 0.25816 -0.06898 0.25365 -0.06343 C 0.25069 -0.05162 0.24878 -0.03958 0.24635 -0.02755 C 0.24427 -0.0169 0.24045 -0.00856 0.23785 0.00162 C 0.23594 0.00926 0.2349 0.02153 0.23177 0.02778 C 0.22865 0.03403 0.22708 0.04097 0.22448 0.04722 C 0.21667 0.06597 0.22187 0.04769 0.21719 0.06667 C 0.21632 0.07037 0.21319 0.07269 0.21233 0.07639 C 0.21146 0.07963 0.21128 0.08333 0.2099 0.08634 C 0.20903 0.08796 0.20799 0.08935 0.20747 0.0912 C 0.19861 0.11759 0.19826 0.14699 0.19149 0.17407 C 0.19253 0.22616 0.18142 0.2382 0.21354 0.24236 C 0.2224 0.24167 0.23247 0.24491 0.24028 0.23912 C 0.24288 0.23727 0.24479 0.2338 0.24757 0.23264 C 0.25 0.23148 0.25503 0.2294 0.25503 0.2294 C 0.25729 0.22639 0.26007 0.22431 0.26233 0.2213 C 0.26649 0.21574 0.26285 0.21736 0.26719 0.21296 C 0.26944 0.21065 0.27448 0.20648 0.27448 0.20648 C 0.27535 0.20486 0.27587 0.20301 0.27691 0.20162 C 0.27917 0.19907 0.2842 0.19514 0.2842 0.19514 C 0.28715 0.18935 0.28958 0.18912 0.29392 0.18542 C 0.2974 0.17847 0.30278 0.17639 0.30625 0.16921 C 0.3092 0.1632 0.31059 0.15671 0.31233 0.14977 C 0.31406 0.14282 0.31667 0.13727 0.3184 0.13009 C 0.31875 0.12847 0.31962 0.12523 0.31962 0.12523 C 0.32066 0.11343 0.32049 0.1088 0.32326 0.09769 C 0.32413 0.09445 0.32569 0.08796 0.32569 0.08796 C 0.32517 0.05995 0.33542 0.03148 0.3184 0.01644 C 0.31753 0.01482 0.31701 0.01273 0.31597 0.01134 C 0.31372 0.0088 0.30868 0.00486 0.30868 0.00486 C 0.29653 0.00532 0.27465 0.00532 0.2599 0.0081 C 0.25677 0.0088 0.24983 0.01204 0.24757 0.01296 C 0.24635 0.01343 0.24392 0.01458 0.24392 0.01458 C 0.24219 0.01713 0.24097 0.02037 0.23906 0.02292 C 0.23646 0.02639 0.23316 0.02917 0.23056 0.03264 E">
                                      <p:cBhvr>
                                        <p:cTn id="104" dur="5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Редакто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Слова для довідк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гарячий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пекотний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алючий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"/>
              </a:rPr>
              <a:t>Виснов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Прикметники-синоніми роблять наше мовлення більш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8880" y="2514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b7"/>
                </a:solidFill>
                <a:latin typeface="Arial Black"/>
              </a:rPr>
              <a:t>Фізхвилинк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3-21T17:48:0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