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5.jpeg" ContentType="image/jpeg"/>
  <Override PartName="/ppt/media/image20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8.wmf" ContentType="image/x-wmf"/>
  <Override PartName="/ppt/media/image2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FA05-AF25-46E0-8E7A-6736923462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1795-7B67-4008-847A-767E0BB0B5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5326-ADF3-44BF-B260-53C01A4B0F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8E73-25DE-447E-9CB4-11D90B9D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5684-9D83-4192-8275-0B1D7408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0A05E-7769-4EBC-9A42-55CC6130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797C4-BED4-4A6F-92D6-AA46D918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DEF73-D34A-4D00-A1D8-532B5C85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051E8-337A-4EB8-8785-3A62A9B0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32DBC-A70A-4A13-B83F-C73442C7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94BB0-AF11-42A4-8BAE-AB9A1EFE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3F237-349C-4418-AECC-368A659B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AB749-813F-441C-BA80-1C060019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ADA11-F9B5-4515-9DFF-0037D61D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DEF78-9E10-4E5C-9606-B4407F2B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02AA-1457-4994-9D26-9FBB53E4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823D2-9430-48EE-B70F-5466369F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81EDE-987F-4F3F-A9FB-88D5FCFC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C5532-4FC6-4B36-9FD4-F8E8D64A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03C23-8729-4D1B-A008-CC163574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05388-EC9B-4250-A395-0285A20F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DB78C-2F23-4A70-8877-DD7ECCAA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9F9BA-482D-43DE-B91F-E3E0D93D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D6906-24A5-4159-935F-8D9B5A82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D1D9A-349A-4E9A-8F12-AB36EEEA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D5798-CCF8-44DF-9B85-2463E145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9D1F-B7FE-458A-80D2-B98A1F0A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A09FA-7352-4B25-937A-C4B653F4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853B-45AF-4467-A892-9947E26E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B30D-ECB0-4F05-8026-16015EBA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05BE-9912-4869-95CD-ACE4E435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5E54-4348-447B-87B5-BCE62D4A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7C1D-6720-4DD4-9569-181721EE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F272-7C19-442D-AC45-C2C52566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B143-9886-4E80-836A-1C624A3D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29086-D918-4A86-8A59-B2128506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2932-F558-4973-85C5-6C290977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FDCC-112C-4BA8-9288-76D1C3AA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7D93-2CF9-4794-B6EA-DC9626F0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47F9-0717-4769-BF2D-A882D693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25EC-6292-43F6-BC2A-71C409D3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0EE1F-7DE1-47C0-ADA2-C23C8DA1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28BA9-2E79-4B0D-893A-867A5946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255A7-4254-475D-AE49-807D1AF8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757CF-C005-4450-8400-4864B66E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A41DB-5860-451E-82A5-5A164D1B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9694F-B061-4728-AC13-7BE85E02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8FCCD-899E-4C5D-A981-0895DE09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3FA46-6634-4AC3-A7A9-3EC78B07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9756D-17FA-4681-8B1E-9F13916B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DACD2-2B7D-4A13-A29D-B43F07C4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8B320-EB98-42D6-A01B-2503C7C7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51784-2EFE-46C2-83F8-559C3AE8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EFDC0-A123-40FC-ABCA-A109F271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3642D-798A-43CA-B459-9A26424B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AA470-6ED0-45A0-8AB8-E0071A68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DFEDC-659F-43FD-A4EA-C6755E6A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FF464-F41A-44D2-9815-B47602A1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A6C13-A040-4BCA-8179-7E1DB471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3EBAE-CA07-4243-89B4-D963E19D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1531-07BC-4FD7-93A0-C52B5983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83EAD-B84E-4B86-86D4-E0FBA3EC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79209-3DA1-4A9B-8740-56E5D198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B4BCC-E8B3-4BF1-9884-E3DE2A33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3E3D9-88CE-43CF-A34E-2756BEA9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C0B2D-C3AA-40AE-9F04-6033EE09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0B330-98A1-485D-9372-D10A371A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60C8A-31E8-4660-B275-69896BBC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F26B6-A385-4546-BED8-22ACA3FE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DB95D-7940-4E4F-8F16-490F7A28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26F35-A5F8-41DE-A638-B6E71EC3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59C66-BA5E-4572-BA45-7F54F8B1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F0A1C-AB1A-4A2B-9B14-8370EC8E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C65D7-40AE-433F-BD13-1CE16FF9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9E91D-AC52-4808-930D-7651D130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C2E4C-D751-465A-89A3-5467E983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3E0BC-3F71-4898-BD71-CDA5C0FE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EF6C2-7178-40E0-BB0C-1064C9D1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EA78E-58A3-4B52-9608-6F676FC7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3105-5647-474A-BF18-BDF0E53E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85D43-CE39-4586-AB12-4AAC97C3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3DF28-CC80-424D-A3BE-F7EFF08A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A180C-BD92-4F9A-B0FB-DC4462AD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4BFD6-F131-4808-A197-75C0C10A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0E5DD-E38A-4B13-9F06-15C55D9A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53599-3235-44A0-A5A8-2225A755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9ACBE-57B1-4752-A7DE-36687FBA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CAD78-4AE4-481A-9854-B0483D80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ACE1C-6170-47DF-A30F-51BFBFE9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09CA2-B907-4983-BB06-31B87196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3B0A6-D77F-4D79-BBC6-9E9A0748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19091-2730-4AA5-9660-C7817798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206FF-DF77-4D3F-A026-B1945A79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031A0-0955-45BC-A2F9-AC8BD22F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CD926-8FAD-4DE3-B1A1-5BB2DFBA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E4689-B485-48E0-ADA9-7F707D5C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607AB-C2AC-46EA-8806-971C4505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3D69D-A552-48F5-A526-24136A81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6C5BD-61D9-4082-B792-AACD1A41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03948-62D0-4B8E-8761-216C1655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3B563-275D-4994-98A5-5F31673A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F8F20-FAA6-48A1-9563-817DA4BF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4CE6D-2347-4A16-97A7-55212D41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78362-D222-42C0-8668-B975507A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D4D8F-F038-4E9A-BCF5-B82F6EAA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70CC1-4353-4E6B-9B57-A55A946B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E1494-9A30-41DA-9ED3-BC71E85F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E464E-BA0D-424A-A97F-44493596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2F089-56C5-43C1-B11A-75BDAFEC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AE092-9A10-4CEB-8384-BFA2761E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47EA7-0146-461C-A8E7-BFE16DE5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B9E96-2418-4C83-85D3-87A095DD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2B08A-D0FE-4BDB-B24A-6A7F4F63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965D4-D80E-4E60-B5E5-284E181F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E2CC8-CD4C-4565-9F7E-CE97B07F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20128-E395-46D3-B846-A8EFE9C5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BE099-64F5-4934-85E6-B9BF20CE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AC7A5-C246-4290-B5E6-425E91EB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9470C-FD8A-4126-86C7-37FD4BDE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6D689-A165-4152-BA62-E7C742B2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060A3-46B9-4E00-BE02-BAF80809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F7511-FD5B-4DDB-B2CD-7E935CD5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8737F-117E-45E5-A92D-4EB44E90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8752-F7FD-4C4F-A56B-7629FED92A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7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8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0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21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C010-1A44-405D-A283-B25425FF6B07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10B0-CBBA-4DA4-B3A8-560EA79B8D77}" type="slidenum">
              <a:rPr b="0" lang="ru-RU" sz="11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EF06-D965-4405-8011-F8ADC6368F91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3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530B-CE8F-4DF5-85B8-B00D93E4F9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оугольник 6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89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8A25-AF1B-46B1-B7E3-EDEA9D09EE9C}" type="slidenum">
              <a:rPr b="0" lang="ru-RU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Прямоугольник 6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34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8D02-67A9-41EC-A51A-CFAFE7FAA6ED}" type="slidenum">
              <a:rPr b="0" lang="ru-RU" sz="11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6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C5A0-0541-4FF9-8969-6924300315F5}" type="slidenum">
              <a:rPr b="0" lang="ru-RU" sz="1100" spc="-1" strike="noStrike">
                <a:solidFill>
                  <a:srgbClr val="f4e7e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Прямоугольник 6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21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87BF-2242-4589-8239-B05AF7C2168A}" type="slidenum">
              <a:rPr b="0" lang="ru-RU" sz="11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6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7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8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0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71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94CD-6CAB-4E19-8C06-047DAE2A48B2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http://zosh-nomer3.com/_nw/8/35454538.png"/>
          <p:cNvPicPr/>
          <p:nvPr/>
        </p:nvPicPr>
        <p:blipFill>
          <a:blip r:embed="rId1"/>
          <a:stretch/>
        </p:blipFill>
        <p:spPr>
          <a:xfrm>
            <a:off x="1908000" y="26028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99"/>
                </a:solidFill>
                <a:latin typeface="Arial"/>
              </a:rPr>
              <a:t>Блез Паскаль (1623 – 166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4" descr="images1"/>
          <p:cNvPicPr/>
          <p:nvPr/>
        </p:nvPicPr>
        <p:blipFill>
          <a:blip r:embed="rId1"/>
          <a:stretch/>
        </p:blipFill>
        <p:spPr>
          <a:xfrm>
            <a:off x="250920" y="1413000"/>
            <a:ext cx="3116160" cy="381636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5"/>
          <p:cNvSpPr/>
          <p:nvPr/>
        </p:nvSpPr>
        <p:spPr>
          <a:xfrm>
            <a:off x="3564000" y="1413000"/>
            <a:ext cx="532908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Блез Паскаль не лише чудов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фізик, але й видатний винахідник 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математик. У 16 років він дові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теорему Паскаля”, у 18 років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винайшов рахувальну машин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за допомогою якої наві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необізнана з правил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арифметики людина могла 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виконувати 4 арифметичні дії. Ві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виготовив 50 моделей, з яких кож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наступна була кращою з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попередню. Його вважа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найвидатніш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 Black"/>
              </a:rPr>
              <a:t>математиком свого час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4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4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8"/>
          <p:cNvSpPr/>
          <p:nvPr/>
        </p:nvSpPr>
        <p:spPr>
          <a:xfrm>
            <a:off x="179280" y="765000"/>
            <a:ext cx="8640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7d"/>
                </a:solidFill>
                <a:latin typeface="Arial Black"/>
              </a:rPr>
              <a:t>Тиск в 1 Па малий. На практиці застосовують кратні одиниці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7d"/>
                </a:solidFill>
                <a:latin typeface="Arial Black"/>
                <a:ea typeface="Arial"/>
              </a:rPr>
              <a:t>1 гектопаскаль = 100 Па = 1 г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7d"/>
                </a:solidFill>
                <a:latin typeface="Arial Black"/>
                <a:ea typeface="Arial"/>
              </a:rPr>
              <a:t>1 кілопаскаль = 1000 Па = 1 к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7d"/>
                </a:solidFill>
                <a:latin typeface="Arial Black"/>
                <a:ea typeface="Arial"/>
              </a:rPr>
              <a:t>1 мегапаскаль = 1000000 Па = 1 М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мінити тиск можна двома способам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мінивши силу тиску або змінивш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щу, на яку діє ця с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324000" y="4321080"/>
            <a:ext cx="2592360" cy="2151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C:\Users\Анатолий\AppData\Local\Microsoft\Windows\Temporary Internet Files\Content.IE5\6UYIQPCT\MC900428105[1].wmf"/>
          <p:cNvPicPr/>
          <p:nvPr/>
        </p:nvPicPr>
        <p:blipFill>
          <a:blip r:embed="rId2"/>
          <a:stretch/>
        </p:blipFill>
        <p:spPr>
          <a:xfrm>
            <a:off x="6372360" y="4221000"/>
            <a:ext cx="25034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1979640" y="55080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 Black"/>
              </a:rPr>
              <a:t>Залежність між  </a:t>
            </a:r>
            <a:r>
              <a:rPr b="1" i="1" lang="uk-UA" sz="2400" spc="-1" strike="noStrike">
                <a:solidFill>
                  <a:srgbClr val="0033cc"/>
                </a:solidFill>
                <a:latin typeface="Arial Black"/>
              </a:rPr>
              <a:t>р</a:t>
            </a:r>
            <a:r>
              <a:rPr b="1" lang="uk-UA" sz="2400" spc="-1" strike="noStrike">
                <a:solidFill>
                  <a:srgbClr val="0033cc"/>
                </a:solidFill>
                <a:latin typeface="Arial Black"/>
              </a:rPr>
              <a:t> і  </a:t>
            </a:r>
            <a:r>
              <a:rPr b="1" i="1" lang="uk-UA" sz="2400" spc="-1" strike="noStrike">
                <a:solidFill>
                  <a:srgbClr val="0033cc"/>
                </a:solidFill>
                <a:latin typeface="Arial Black"/>
              </a:rPr>
              <a:t>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 Black"/>
              </a:rPr>
              <a:t>прямо пропорцій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5" name="Group 8"/>
          <p:cNvGrpSpPr/>
          <p:nvPr/>
        </p:nvGrpSpPr>
        <p:grpSpPr>
          <a:xfrm>
            <a:off x="2050920" y="1700280"/>
            <a:ext cx="5257800" cy="4619520"/>
            <a:chOff x="2050920" y="1700280"/>
            <a:chExt cx="5257800" cy="4619520"/>
          </a:xfrm>
        </p:grpSpPr>
        <p:grpSp>
          <p:nvGrpSpPr>
            <p:cNvPr id="506" name="Group 4"/>
            <p:cNvGrpSpPr/>
            <p:nvPr/>
          </p:nvGrpSpPr>
          <p:grpSpPr>
            <a:xfrm>
              <a:off x="2700360" y="2276640"/>
              <a:ext cx="3816360" cy="3549600"/>
              <a:chOff x="2700360" y="2276640"/>
              <a:chExt cx="3816360" cy="3549600"/>
            </a:xfrm>
          </p:grpSpPr>
          <p:sp>
            <p:nvSpPr>
              <p:cNvPr id="507" name="Arc 10"/>
              <p:cNvSpPr/>
              <p:nvPr/>
            </p:nvSpPr>
            <p:spPr>
              <a:xfrm>
                <a:off x="2700360" y="2276640"/>
                <a:ext cx="3816360" cy="3549600"/>
              </a:xfrm>
              <a:custGeom>
                <a:avLst/>
                <a:gdLst>
                  <a:gd name="textAreaLeft" fmla="*/ 0 w 3816360"/>
                  <a:gd name="textAreaRight" fmla="*/ 3816720 w 3816360"/>
                  <a:gd name="textAreaTop" fmla="*/ 0 h 3549600"/>
                  <a:gd name="textAreaBottom" fmla="*/ 3549960 h 35496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Line 9"/>
              <p:cNvSpPr/>
              <p:nvPr/>
            </p:nvSpPr>
            <p:spPr>
              <a:xfrm flipH="1">
                <a:off x="2932560" y="2361600"/>
                <a:ext cx="1440" cy="345492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Line 8"/>
              <p:cNvSpPr/>
              <p:nvPr/>
            </p:nvSpPr>
            <p:spPr>
              <a:xfrm>
                <a:off x="2709360" y="5601600"/>
                <a:ext cx="379584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2932560" y="2361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Line 6"/>
              <p:cNvSpPr/>
              <p:nvPr/>
            </p:nvSpPr>
            <p:spPr>
              <a:xfrm>
                <a:off x="2932560" y="2361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Line 5"/>
              <p:cNvSpPr/>
              <p:nvPr/>
            </p:nvSpPr>
            <p:spPr>
              <a:xfrm flipV="1">
                <a:off x="2932560" y="3009240"/>
                <a:ext cx="2233080" cy="259200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13" name="Object 13"/>
                <p:cNvSpPr txBox="1"/>
                <p:nvPr/>
              </p:nvSpPr>
              <p:spPr>
                <a:xfrm>
                  <a:off x="2050920" y="1700280"/>
                  <a:ext cx="7970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4" name="Object 14"/>
                <p:cNvSpPr txBox="1"/>
                <p:nvPr/>
              </p:nvSpPr>
              <p:spPr>
                <a:xfrm>
                  <a:off x="6516720" y="5527800"/>
                  <a:ext cx="79200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2"/>
          <p:cNvSpPr/>
          <p:nvPr/>
        </p:nvSpPr>
        <p:spPr>
          <a:xfrm>
            <a:off x="1763640" y="4762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 Black"/>
              </a:rPr>
              <a:t>Залежність між  </a:t>
            </a:r>
            <a:r>
              <a:rPr b="1" i="1" lang="uk-UA" sz="2400" spc="-1" strike="noStrike">
                <a:solidFill>
                  <a:srgbClr val="0033cc"/>
                </a:solidFill>
                <a:latin typeface="Arial Black"/>
              </a:rPr>
              <a:t>р</a:t>
            </a:r>
            <a:r>
              <a:rPr b="1" lang="uk-UA" sz="2400" spc="-1" strike="noStrike">
                <a:solidFill>
                  <a:srgbClr val="0033cc"/>
                </a:solidFill>
                <a:latin typeface="Arial Black"/>
              </a:rPr>
              <a:t> і  </a:t>
            </a:r>
            <a:r>
              <a:rPr b="1" i="1" lang="uk-UA" sz="2400" spc="-1" strike="noStrike">
                <a:solidFill>
                  <a:srgbClr val="0033cc"/>
                </a:solidFill>
                <a:latin typeface="Arial Black"/>
              </a:rPr>
              <a:t>S </a:t>
            </a:r>
            <a:r>
              <a:rPr b="1" lang="uk-UA" sz="24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 Black"/>
              </a:rPr>
              <a:t>обернено пропорцій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Group 10"/>
          <p:cNvGrpSpPr/>
          <p:nvPr/>
        </p:nvGrpSpPr>
        <p:grpSpPr>
          <a:xfrm>
            <a:off x="2771640" y="1916280"/>
            <a:ext cx="3672000" cy="3528720"/>
            <a:chOff x="2771640" y="1916280"/>
            <a:chExt cx="3672000" cy="3528720"/>
          </a:xfrm>
        </p:grpSpPr>
        <p:sp>
          <p:nvSpPr>
            <p:cNvPr id="517" name="Arc 15"/>
            <p:cNvSpPr/>
            <p:nvPr/>
          </p:nvSpPr>
          <p:spPr>
            <a:xfrm>
              <a:off x="2771640" y="1916280"/>
              <a:ext cx="3672000" cy="3528720"/>
            </a:xfrm>
            <a:custGeom>
              <a:avLst/>
              <a:gdLst>
                <a:gd name="textAreaLeft" fmla="*/ 0 w 3672000"/>
                <a:gd name="textAreaRight" fmla="*/ 3672360 w 3672000"/>
                <a:gd name="textAreaTop" fmla="*/ 0 h 3528720"/>
                <a:gd name="textAreaBottom" fmla="*/ 3529080 h 3528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 flipH="1">
              <a:off x="2995200" y="1999440"/>
              <a:ext cx="1440" cy="34344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Line 13"/>
            <p:cNvSpPr/>
            <p:nvPr/>
          </p:nvSpPr>
          <p:spPr>
            <a:xfrm>
              <a:off x="2780280" y="5220000"/>
              <a:ext cx="365220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Line 12"/>
            <p:cNvSpPr/>
            <p:nvPr/>
          </p:nvSpPr>
          <p:spPr>
            <a:xfrm>
              <a:off x="2995200" y="1999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Line 11"/>
            <p:cNvSpPr/>
            <p:nvPr/>
          </p:nvSpPr>
          <p:spPr>
            <a:xfrm>
              <a:off x="2995200" y="1999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2" name="Freeform 16"/>
          <p:cNvSpPr/>
          <p:nvPr/>
        </p:nvSpPr>
        <p:spPr>
          <a:xfrm>
            <a:off x="3276720" y="2205000"/>
            <a:ext cx="3024000" cy="273528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2735280"/>
              <a:gd name="textAreaBottom" fmla="*/ 2735640 h 2735280"/>
            </a:gdLst>
            <a:ahLst/>
            <a:rect l="textAreaLeft" t="textAreaTop" r="textAreaRight" b="textAreaBottom"/>
            <a:pathLst>
              <a:path w="2160" h="2520">
                <a:moveTo>
                  <a:pt x="0" y="0"/>
                </a:moveTo>
                <a:cubicBezTo>
                  <a:pt x="0" y="780"/>
                  <a:pt x="0" y="1560"/>
                  <a:pt x="360" y="1980"/>
                </a:cubicBezTo>
                <a:cubicBezTo>
                  <a:pt x="720" y="2400"/>
                  <a:pt x="1860" y="2430"/>
                  <a:pt x="2160" y="2520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22"/>
              <p:cNvSpPr txBox="1"/>
              <p:nvPr/>
            </p:nvSpPr>
            <p:spPr>
              <a:xfrm>
                <a:off x="6300720" y="5229360"/>
                <a:ext cx="5223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21"/>
              <p:cNvSpPr txBox="1"/>
              <p:nvPr/>
            </p:nvSpPr>
            <p:spPr>
              <a:xfrm>
                <a:off x="2050920" y="1700280"/>
                <a:ext cx="797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13"/>
          <p:cNvGrpSpPr/>
          <p:nvPr/>
        </p:nvGrpSpPr>
        <p:grpSpPr>
          <a:xfrm>
            <a:off x="900000" y="2492280"/>
            <a:ext cx="7344000" cy="3512520"/>
            <a:chOff x="900000" y="2492280"/>
            <a:chExt cx="7344000" cy="3512520"/>
          </a:xfrm>
        </p:grpSpPr>
        <p:grpSp>
          <p:nvGrpSpPr>
            <p:cNvPr id="526" name="Group 12"/>
            <p:cNvGrpSpPr/>
            <p:nvPr/>
          </p:nvGrpSpPr>
          <p:grpSpPr>
            <a:xfrm>
              <a:off x="900000" y="2492280"/>
              <a:ext cx="7344000" cy="1819080"/>
              <a:chOff x="900000" y="2492280"/>
              <a:chExt cx="7344000" cy="1819080"/>
            </a:xfrm>
          </p:grpSpPr>
          <p:pic>
            <p:nvPicPr>
              <p:cNvPr id="527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900000" y="2498400"/>
                <a:ext cx="2449800" cy="180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12000" y="2498400"/>
                <a:ext cx="2232000" cy="181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Picture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348000" y="2492280"/>
                <a:ext cx="2664000" cy="1815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0" name="Group 11"/>
            <p:cNvGrpSpPr/>
            <p:nvPr/>
          </p:nvGrpSpPr>
          <p:grpSpPr>
            <a:xfrm>
              <a:off x="1042920" y="4875120"/>
              <a:ext cx="7020000" cy="1129680"/>
              <a:chOff x="1042920" y="4875120"/>
              <a:chExt cx="7020000" cy="1129680"/>
            </a:xfrm>
          </p:grpSpPr>
          <p:pic>
            <p:nvPicPr>
              <p:cNvPr id="531" name="Pictur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2920" y="4885920"/>
                <a:ext cx="1727280" cy="111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2" name="Pictur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0200" y="4885920"/>
                <a:ext cx="1944720" cy="111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3" name="Picture 9" descr=""/>
              <p:cNvPicPr/>
              <p:nvPr/>
            </p:nvPicPr>
            <p:blipFill>
              <a:blip r:embed="rId6"/>
              <a:stretch/>
            </p:blipFill>
            <p:spPr>
              <a:xfrm>
                <a:off x="4714920" y="4875120"/>
                <a:ext cx="1836720" cy="111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6551640" y="4898520"/>
                <a:ext cx="1511280" cy="1106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Rectangle 14"/>
          <p:cNvSpPr/>
          <p:nvPr/>
        </p:nvSpPr>
        <p:spPr>
          <a:xfrm>
            <a:off x="468360" y="90792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 збільшенні площі тиск зменшуєтьс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 при зменшенні — збільшує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 якою фізичною величиною ви познайомились сьогодні на уроц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Яку силу називають силою тис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Що таке тис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Яка основна одиниця вимірювання тис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машнє завда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6699"/>
                </a:solidFill>
                <a:latin typeface="Arial"/>
              </a:rPr>
              <a:t>Вивчити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§</a:t>
            </a:r>
            <a:r>
              <a:rPr b="1" lang="uk-UA" sz="32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6699"/>
                </a:solidFill>
                <a:latin typeface="Arial"/>
              </a:rPr>
              <a:t>Розв’язати впр. 1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7</a:t>
            </a:r>
            <a:r>
              <a:rPr b="1" lang="uk-UA" sz="3200" spc="-1" strike="noStrike">
                <a:solidFill>
                  <a:srgbClr val="666699"/>
                </a:solidFill>
                <a:latin typeface="Arial"/>
              </a:rPr>
              <a:t>, №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1</a:t>
            </a:r>
            <a:r>
              <a:rPr b="1" lang="uk-UA" sz="3200" spc="-1" strike="noStrike">
                <a:solidFill>
                  <a:srgbClr val="666699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 2</a:t>
            </a:r>
            <a:r>
              <a:rPr b="1" lang="uk-UA" sz="3200" spc="-1" strike="noStrike">
                <a:solidFill>
                  <a:srgbClr val="666699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3</a:t>
            </a:r>
            <a:r>
              <a:rPr b="1" lang="uk-UA" sz="3200" spc="-1" strike="noStrike">
                <a:solidFill>
                  <a:srgbClr val="666699"/>
                </a:solidFill>
                <a:latin typeface="Arial"/>
              </a:rPr>
              <a:t>,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6699"/>
                </a:solidFill>
                <a:latin typeface="Arial"/>
              </a:rPr>
              <a:t>Підготувати повідомленн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6699"/>
                </a:solidFill>
                <a:latin typeface="Arial"/>
              </a:rPr>
              <a:t>“</a:t>
            </a:r>
            <a:r>
              <a:rPr b="1" lang="uk-UA" sz="3200" spc="-1" strike="noStrike">
                <a:solidFill>
                  <a:srgbClr val="666699"/>
                </a:solidFill>
                <a:latin typeface="Arial"/>
              </a:rPr>
              <a:t>Тиск у природі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6699"/>
                </a:solidFill>
                <a:latin typeface="Arial"/>
              </a:rPr>
              <a:t>“</a:t>
            </a:r>
            <a:r>
              <a:rPr b="1" lang="uk-UA" sz="3200" spc="-1" strike="noStrike">
                <a:solidFill>
                  <a:srgbClr val="666699"/>
                </a:solidFill>
                <a:latin typeface="Arial"/>
              </a:rPr>
              <a:t>Тиск у побуті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6699"/>
                </a:solidFill>
                <a:latin typeface="Arial"/>
              </a:rPr>
              <a:t>“</a:t>
            </a:r>
            <a:r>
              <a:rPr b="1" lang="uk-UA" sz="3200" spc="-1" strike="noStrike">
                <a:solidFill>
                  <a:srgbClr val="666699"/>
                </a:solidFill>
                <a:latin typeface="Arial"/>
              </a:rPr>
              <a:t>Тиск у техніці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C:\Users\Анатолий\AppData\Local\Microsoft\Windows\Temporary Internet Files\Content.IE5\6UYIQPCT\MC900432665[1].png"/>
          <p:cNvPicPr/>
          <p:nvPr/>
        </p:nvPicPr>
        <p:blipFill>
          <a:blip r:embed="rId1"/>
          <a:stretch/>
        </p:blipFill>
        <p:spPr>
          <a:xfrm>
            <a:off x="6588000" y="18900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user-1653-1177355155"/>
          <p:cNvPicPr/>
          <p:nvPr/>
        </p:nvPicPr>
        <p:blipFill>
          <a:blip r:embed="rId1"/>
          <a:stretch/>
        </p:blipFill>
        <p:spPr>
          <a:xfrm>
            <a:off x="755640" y="620640"/>
            <a:ext cx="784872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storinka-vdyachn_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611280" y="836640"/>
          <a:ext cx="7345440" cy="4824360"/>
        </p:xfrm>
        <a:graphic>
          <a:graphicData uri="http://schemas.openxmlformats.org/drawingml/2006/table">
            <a:tbl>
              <a:tblPr/>
              <a:tblGrid>
                <a:gridCol w="1468440"/>
                <a:gridCol w="1469880"/>
                <a:gridCol w="1467000"/>
                <a:gridCol w="1469880"/>
                <a:gridCol w="1470240"/>
              </a:tblGrid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</a:t>
                      </a:r>
                      <a:r>
                        <a:rPr b="1" lang="uk-UA" sz="2000" spc="-1" strike="noStrike" baseline="-30000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ерт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’є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=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Н/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=-k∆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600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год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</a:t>
                      </a:r>
                      <a:r>
                        <a:rPr b="1" lang="uk-UA" sz="2000" spc="-1" strike="noStrike" baseline="-30000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ужнос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7674120" y="4797360"/>
            <a:ext cx="14698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4" descr="C:\Users\Анатолий\AppData\Local\Microsoft\Windows\Temporary Internet Files\Content.IE5\6UYIQPCT\MC900428105[1].wmf"/>
          <p:cNvPicPr/>
          <p:nvPr/>
        </p:nvPicPr>
        <p:blipFill>
          <a:blip r:embed="rId1"/>
          <a:stretch/>
        </p:blipFill>
        <p:spPr>
          <a:xfrm>
            <a:off x="7721640" y="189000"/>
            <a:ext cx="1422360" cy="13176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5" descr="C:\Users\Анатолий\AppData\Local\Microsoft\Windows\Temporary Internet Files\Content.IE5\6UYIQPCT\MC900432665[1].png"/>
          <p:cNvPicPr/>
          <p:nvPr/>
        </p:nvPicPr>
        <p:blipFill>
          <a:blip r:embed="rId2"/>
          <a:stretch/>
        </p:blipFill>
        <p:spPr>
          <a:xfrm>
            <a:off x="6732720" y="4952880"/>
            <a:ext cx="2160360" cy="216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611280" y="836640"/>
          <a:ext cx="7345440" cy="4836960"/>
        </p:xfrm>
        <a:graphic>
          <a:graphicData uri="http://schemas.openxmlformats.org/drawingml/2006/table">
            <a:tbl>
              <a:tblPr/>
              <a:tblGrid>
                <a:gridCol w="1468440"/>
                <a:gridCol w="1469880"/>
                <a:gridCol w="1467000"/>
                <a:gridCol w="1469880"/>
                <a:gridCol w="1470240"/>
              </a:tblGrid>
              <a:tr h="13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</a:t>
                      </a:r>
                      <a:r>
                        <a:rPr b="1" lang="uk-UA" sz="2000" spc="-1" strike="noStrike" baseline="-30000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ерт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’є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=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Н/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=-k∆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600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год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15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</a:t>
                      </a:r>
                      <a:r>
                        <a:rPr b="1" lang="uk-UA" sz="2000" spc="-1" strike="noStrike" baseline="-30000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ужнос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477" name="Text Box 40"/>
          <p:cNvSpPr/>
          <p:nvPr/>
        </p:nvSpPr>
        <p:spPr>
          <a:xfrm>
            <a:off x="3184560" y="-50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3"/>
          <a:stretch/>
        </p:blipFill>
        <p:spPr>
          <a:xfrm>
            <a:off x="179280" y="5445000"/>
            <a:ext cx="158436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9" name=""/>
          <p:cNvGraphicFramePr/>
          <p:nvPr/>
        </p:nvGraphicFramePr>
        <p:xfrm>
          <a:off x="1619280" y="1413000"/>
          <a:ext cx="6240600" cy="4684680"/>
        </p:xfrm>
        <a:graphic>
          <a:graphicData uri="http://schemas.openxmlformats.org/drawingml/2006/table">
            <a:tbl>
              <a:tblPr/>
              <a:tblGrid>
                <a:gridCol w="3120840"/>
                <a:gridCol w="31197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>
                      <a:noFill/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і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cacaff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>
                      <a:noFill/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>
                      <a:noFill/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>
                      <a:noFill/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>
                      <a:noFill/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>
                      <a:noFill/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acaff"/>
                      </a:solidFill>
                    </a:lnL>
                    <a:lnR>
                      <a:noFill/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acaff"/>
                      </a:solidFill>
                    </a:lnR>
                    <a:lnT w="5760">
                      <a:solidFill>
                        <a:srgbClr val="cacaff"/>
                      </a:solidFill>
                    </a:lnT>
                    <a:lnB w="5760">
                      <a:solidFill>
                        <a:srgbClr val="caca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05a-i1"/>
          <p:cNvPicPr/>
          <p:nvPr/>
        </p:nvPicPr>
        <p:blipFill>
          <a:blip r:embed="rId1"/>
          <a:stretch/>
        </p:blipFill>
        <p:spPr>
          <a:xfrm>
            <a:off x="863640" y="333360"/>
            <a:ext cx="8280360" cy="615492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4"/>
          <p:cNvSpPr/>
          <p:nvPr/>
        </p:nvSpPr>
        <p:spPr>
          <a:xfrm>
            <a:off x="179280" y="333360"/>
            <a:ext cx="811440" cy="6308640"/>
          </a:xfrm>
          <a:prstGeom prst="flowChartTerminator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2" name="Object 5"/>
          <p:cNvGraphicFramePr/>
          <p:nvPr/>
        </p:nvGraphicFramePr>
        <p:xfrm>
          <a:off x="250920" y="1989000"/>
          <a:ext cx="677880" cy="22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989000"/>
                    <a:ext cx="67788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Rectangle 6"/>
          <p:cNvSpPr/>
          <p:nvPr/>
        </p:nvSpPr>
        <p:spPr>
          <a:xfrm>
            <a:off x="46080" y="10526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ИЖ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7"/>
          <p:cNvSpPr/>
          <p:nvPr/>
        </p:nvSpPr>
        <p:spPr>
          <a:xfrm>
            <a:off x="250920" y="2133720"/>
            <a:ext cx="658800" cy="21366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8" descr=""/>
          <p:cNvPicPr/>
          <p:nvPr/>
        </p:nvPicPr>
        <p:blipFill>
          <a:blip r:embed="rId4"/>
          <a:stretch/>
        </p:blipFill>
        <p:spPr>
          <a:xfrm>
            <a:off x="6497640" y="5241960"/>
            <a:ext cx="1994040" cy="179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WordArt 25"/>
          <p:cNvGrpSpPr/>
          <p:nvPr/>
        </p:nvGrpSpPr>
        <p:grpSpPr>
          <a:xfrm>
            <a:off x="731880" y="811080"/>
            <a:ext cx="8034120" cy="5370480"/>
            <a:chOff x="731880" y="811080"/>
            <a:chExt cx="8034120" cy="5370480"/>
          </a:xfrm>
        </p:grpSpPr>
        <p:pic>
          <p:nvPicPr>
            <p:cNvPr id="488" name="WordArt 25" descr=""/>
            <p:cNvPicPr/>
            <p:nvPr/>
          </p:nvPicPr>
          <p:blipFill>
            <a:blip r:embed="rId1"/>
            <a:stretch/>
          </p:blipFill>
          <p:spPr>
            <a:xfrm>
              <a:off x="731880" y="811080"/>
              <a:ext cx="8034120" cy="53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755640" y="836640"/>
              <a:ext cx="7993080" cy="53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600" spc="-1" strike="noStrike">
                  <a:solidFill>
                    <a:srgbClr val="0000ff"/>
                  </a:solidFill>
                  <a:latin typeface="Impact"/>
                </a:rPr>
                <a:t>Тиск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600" spc="-1" strike="noStrike">
                  <a:solidFill>
                    <a:srgbClr val="0000ff"/>
                  </a:solidFill>
                  <a:latin typeface="Impact"/>
                </a:rPr>
                <a:t>твердих тіл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600" spc="-1" strike="noStrike">
                  <a:solidFill>
                    <a:srgbClr val="0000ff"/>
                  </a:solidFill>
                  <a:latin typeface="Impact"/>
                </a:rPr>
                <a:t>Одиниці тиску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6560" y="907920"/>
            <a:ext cx="792180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та  уроку:</a:t>
            </a:r>
            <a:br>
              <a:rPr sz="2800"/>
            </a:br>
            <a:br>
              <a:rPr sz="28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ітня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ивчити залежність тиску твердого тіла на опору від сили та площі опори та одиницю вимірювання тиску, навчити розрізняти тиск і силу тиску.</a:t>
            </a: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ивати вміння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овувати формулу тиску та сили тиску для розв’язування задач, експериментальні вміння і навички, творчі здібності та схильності до креативного мислення</a:t>
            </a: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овна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крити роль фізичного знання в житті людини, суспільному виробництві й техніці, сприяти розвитку інтересу школярів до фіз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C:\Users\Анатолий\AppData\Local\Microsoft\Windows\Temporary Internet Files\Content.IE5\6UYIQPCT\MC900432665[1].png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2"/>
          <p:cNvPicPr/>
          <p:nvPr/>
        </p:nvPicPr>
        <p:blipFill>
          <a:blip r:embed="rId1"/>
          <a:stretch/>
        </p:blipFill>
        <p:spPr>
          <a:xfrm>
            <a:off x="250920" y="333360"/>
            <a:ext cx="87138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95280" y="404280"/>
            <a:ext cx="8137440" cy="57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666699"/>
                </a:solidFill>
                <a:latin typeface="Arial Black"/>
              </a:rPr>
              <a:t>Тиском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2400" spc="-1" strike="noStrike">
                <a:solidFill>
                  <a:srgbClr val="666699"/>
                </a:solidFill>
                <a:latin typeface="Arial Black"/>
              </a:rPr>
              <a:t>p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 називають відношення перпендикулярної до поверхні сили тиску </a:t>
            </a:r>
            <a:r>
              <a:rPr b="0" i="1" lang="ru-RU" sz="2400" spc="-1" strike="noStrike">
                <a:solidFill>
                  <a:srgbClr val="666699"/>
                </a:solidFill>
                <a:latin typeface="Arial Black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що діє на деяку площу </a:t>
            </a:r>
            <a:r>
              <a:rPr b="0" i="1" lang="ru-RU" sz="2400" spc="-1" strike="noStrike">
                <a:solidFill>
                  <a:srgbClr val="666699"/>
                </a:solidFill>
                <a:latin typeface="Arial Black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 поверхні, до цієї площ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4248360" cy="16207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448000" cy="18226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"/>
          <p:cNvPicPr/>
          <p:nvPr/>
        </p:nvPicPr>
        <p:blipFill>
          <a:blip r:embed="rId3"/>
          <a:stretch/>
        </p:blipFill>
        <p:spPr>
          <a:xfrm>
            <a:off x="3132000" y="4508640"/>
            <a:ext cx="284328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12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62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12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2T22:22:05Z</dcterms:created>
  <dc:creator>User</dc:creator>
  <dc:description/>
  <dc:language>en-US</dc:language>
  <cp:lastModifiedBy>QWERTY</cp:lastModifiedBy>
  <dcterms:modified xsi:type="dcterms:W3CDTF">2014-11-27T16:35:28Z</dcterms:modified>
  <cp:revision>56</cp:revision>
  <dc:subject/>
  <dc:title>Атоми і хімічні елементи. Молекули. Рух молекул. Дифузія</dc:title>
</cp:coreProperties>
</file>