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5BF-A653-4159-8A04-BC03E3F5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81532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707280"/>
            <a:ext cx="81532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790-7B71-4A1F-BCAA-37F1AEEE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888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3BF-C4B9-440D-86D2-CAF5C4CC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7600" y="76176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4120" y="76176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70728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7600" y="370728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4120" y="370728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ADC-3313-4E31-B3E6-3F36D2E5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525-A27D-4A29-B2ED-2B657CCD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147-F6CC-44D9-84EC-9EDB86CF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032-A4CE-4808-B6D7-76C0F11F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F5E-8FD4-48B6-BE60-F08BF738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955-0D64-4CAA-9371-FB7AC5D4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3BD-0071-4F92-A8E7-969F5E0B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888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D94-F6C7-499A-8B0A-834E40D2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707280"/>
            <a:ext cx="81532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1F1-09F7-4807-A0D8-393B3050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Eras Demi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Eras Demi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Eras Demi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Eras Demi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A94F-24B3-45DB-939D-646BE4AEB194}" type="slidenum">
              <a:rPr b="0" lang="ru-RU" sz="1200" spc="-1" strike="noStrike">
                <a:solidFill>
                  <a:srgbClr val="000000"/>
                </a:solidFill>
                <a:latin typeface="Eras Demi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6.wmf"/><Relationship Id="rId6" Type="http://schemas.openxmlformats.org/officeDocument/2006/relationships/image" Target="../media/image8.png"/><Relationship Id="rId7" Type="http://schemas.openxmlformats.org/officeDocument/2006/relationships/image" Target="../media/image6.wmf"/><Relationship Id="rId8" Type="http://schemas.openxmlformats.org/officeDocument/2006/relationships/image" Target="../media/image9.png"/><Relationship Id="rId9" Type="http://schemas.openxmlformats.org/officeDocument/2006/relationships/image" Target="../media/image6.wmf"/><Relationship Id="rId10" Type="http://schemas.openxmlformats.org/officeDocument/2006/relationships/image" Target="../media/image5.png"/><Relationship Id="rId11" Type="http://schemas.openxmlformats.org/officeDocument/2006/relationships/image" Target="../media/image6.wmf"/><Relationship Id="rId12" Type="http://schemas.openxmlformats.org/officeDocument/2006/relationships/image" Target="../media/image7.png"/><Relationship Id="rId13" Type="http://schemas.openxmlformats.org/officeDocument/2006/relationships/image" Target="../media/image6.wmf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&#1044;&#1086;&#1076;&#1072;&#1090;&#1086;&#1082;%20&#8470;4.doc" TargetMode="External"/><Relationship Id="rId4" Type="http://schemas.openxmlformats.org/officeDocument/2006/relationships/hyperlink" Target="file:///&#1044;&#1086;&#1076;&#1072;&#1090;&#1086;&#1082;%20&#8470;4.doc" TargetMode="External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hyperlink" Target="file:///&#1044;&#1086;&#1076;&#1072;&#1090;&#1086;&#1082;%20&#8470;2.doc" TargetMode="External"/><Relationship Id="rId5" Type="http://schemas.openxmlformats.org/officeDocument/2006/relationships/hyperlink" Target="file:///&#1044;&#1086;&#1076;&#1072;&#1090;&#1086;&#1082;%20&#8470;2.doc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19280" y="5013000"/>
            <a:ext cx="5500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Eras Demi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ла: Густ Вікторія Анатоліївна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2" name=""/>
          <p:cNvSpPr/>
          <p:nvPr/>
        </p:nvSpPr>
        <p:spPr>
          <a:xfrm>
            <a:off x="6426360" y="655308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676520"/>
            <a:ext cx="84247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“ </a:t>
            </a: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ування креативної особистості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собами сучасних технологій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уроках природознавства”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0" y="4653000"/>
            <a:ext cx="3352680" cy="239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5880" y="26668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6668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26668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666880"/>
            <a:ext cx="1676160" cy="2590920"/>
          </a:xfrm>
          <a:custGeom>
            <a:avLst/>
            <a:gdLst>
              <a:gd name="textAreaLeft" fmla="*/ 67320 w 1676160"/>
              <a:gd name="textAreaRight" fmla="*/ 1608840 w 16761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86">
                <a:moveTo>
                  <a:pt x="2969" y="0"/>
                </a:moveTo>
                <a:arcTo wR="2969" hR="2969" stAng="16200000" swAng="-5400000"/>
                <a:lnTo>
                  <a:pt x="0" y="30417"/>
                </a:lnTo>
                <a:arcTo wR="2969" hR="2969" stAng="10800000" swAng="-5400000"/>
                <a:lnTo>
                  <a:pt x="18631" y="333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95680" y="1172880"/>
            <a:ext cx="6437520" cy="1387800"/>
            <a:chOff x="895680" y="1172880"/>
            <a:chExt cx="6437520" cy="1387800"/>
          </a:xfrm>
        </p:grpSpPr>
        <p:sp>
          <p:nvSpPr>
            <p:cNvPr id="101" name=""/>
            <p:cNvSpPr/>
            <p:nvPr/>
          </p:nvSpPr>
          <p:spPr>
            <a:xfrm rot="3418800">
              <a:off x="1105920" y="1397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ffde66"/>
                </a:gs>
                <a:gs pos="100000">
                  <a:srgbClr val="7566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70360" y="1569600"/>
              <a:ext cx="931680" cy="131760"/>
              <a:chOff x="2070360" y="1569600"/>
              <a:chExt cx="931680" cy="131760"/>
            </a:xfrm>
          </p:grpSpPr>
          <p:sp>
            <p:nvSpPr>
              <p:cNvPr id="103" name=""/>
              <p:cNvSpPr/>
              <p:nvPr/>
            </p:nvSpPr>
            <p:spPr>
              <a:xfrm>
                <a:off x="2070360" y="15696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59640" y="15706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60920" y="15717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36880" y="16128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 rot="3418800">
              <a:off x="2827080" y="13320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c66bb"/>
                </a:gs>
                <a:gs pos="100000">
                  <a:srgbClr val="4f2f5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791880" y="1569600"/>
              <a:ext cx="931680" cy="131760"/>
              <a:chOff x="3791880" y="1569600"/>
              <a:chExt cx="931680" cy="131760"/>
            </a:xfrm>
          </p:grpSpPr>
          <p:sp>
            <p:nvSpPr>
              <p:cNvPr id="109" name=""/>
              <p:cNvSpPr/>
              <p:nvPr/>
            </p:nvSpPr>
            <p:spPr>
              <a:xfrm>
                <a:off x="3791880" y="15696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81160" y="15706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82440" y="15717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58400" y="16128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rot="3418800">
              <a:off x="4476600" y="13320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ffde66"/>
                </a:gs>
                <a:gs pos="100000">
                  <a:srgbClr val="7566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513400" y="1569600"/>
              <a:ext cx="1218240" cy="131760"/>
              <a:chOff x="5513400" y="1569600"/>
              <a:chExt cx="1218240" cy="131760"/>
            </a:xfrm>
          </p:grpSpPr>
          <p:sp>
            <p:nvSpPr>
              <p:cNvPr id="115" name=""/>
              <p:cNvSpPr/>
              <p:nvPr/>
            </p:nvSpPr>
            <p:spPr>
              <a:xfrm>
                <a:off x="5513400" y="15696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30040" y="15706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46960" y="15717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6320" y="16128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3418800">
              <a:off x="6198120" y="13320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c66bb"/>
                </a:gs>
                <a:gs pos="100000">
                  <a:srgbClr val="4f2f5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95280" y="15238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920" y="1447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6440" y="1447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8920" y="1447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34290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0462"/>
                </a:solidFill>
                <a:latin typeface="Arial"/>
              </a:rPr>
              <a:t>Прагнення до зн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35268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0462"/>
                </a:solidFill>
                <a:latin typeface="Arial"/>
              </a:rPr>
              <a:t>Бажання самостій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124080"/>
            <a:ext cx="16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0462"/>
                </a:solidFill>
                <a:latin typeface="Arial"/>
              </a:rPr>
              <a:t>Виявлення стійких творчих інтерес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3048120"/>
            <a:ext cx="16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0462"/>
                </a:solidFill>
                <a:latin typeface="Arial"/>
              </a:rPr>
              <a:t>Цілеспрямо-вані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0462"/>
                </a:solidFill>
                <a:latin typeface="Arial"/>
              </a:rPr>
              <a:t>Наполегли-вість у розв</a:t>
            </a:r>
            <a:r>
              <a:rPr b="1" lang="en-US" sz="1800" spc="-1" strike="noStrike">
                <a:solidFill>
                  <a:srgbClr val="040462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40462"/>
                </a:solidFill>
                <a:latin typeface="Arial"/>
              </a:rPr>
              <a:t>язанні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1752480" y="228600"/>
            <a:ext cx="5715000" cy="76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"/>
          <p:cNvSpPr txBox="1"/>
          <p:nvPr/>
        </p:nvSpPr>
        <p:spPr>
          <a:xfrm>
            <a:off x="2133720" y="380880"/>
            <a:ext cx="513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обливості дитячої творчост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0" name="Рисунок 2" descr="H:\tiger-1300883669.png"/>
          <p:cNvPicPr/>
          <p:nvPr/>
        </p:nvPicPr>
        <p:blipFill>
          <a:blip r:embed="rId3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005840" y="1173240"/>
            <a:ext cx="6879960" cy="4804920"/>
            <a:chOff x="1005840" y="1173240"/>
            <a:chExt cx="6879960" cy="4804920"/>
          </a:xfrm>
        </p:grpSpPr>
        <p:sp>
          <p:nvSpPr>
            <p:cNvPr id="133" name=""/>
            <p:cNvSpPr/>
            <p:nvPr/>
          </p:nvSpPr>
          <p:spPr>
            <a:xfrm>
              <a:off x="220356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01600">
              <a:off x="134784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01600">
              <a:off x="140472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01600">
              <a:off x="131904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20602200">
              <a:off x="1297440" y="2054880"/>
              <a:ext cx="575352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01600">
              <a:off x="132876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20602200">
              <a:off x="131112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01600">
              <a:off x="286524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1240" y="290664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науко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4960" y="1992240"/>
              <a:ext cx="103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ігро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68040" y="244944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музич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88040" y="30510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539200">
              <a:off x="1323360" y="2053080"/>
              <a:ext cx="6257520" cy="297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8776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90560" y="3440160"/>
              <a:ext cx="171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навчаль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7880" y="420228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образотворч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7480" y="404964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техніч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01600">
              <a:off x="296712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6416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2124000" y="260280"/>
            <a:ext cx="4724640" cy="64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" name=""/>
          <p:cNvSpPr txBox="1"/>
          <p:nvPr/>
        </p:nvSpPr>
        <p:spPr>
          <a:xfrm>
            <a:off x="2514600" y="380880"/>
            <a:ext cx="4038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и  творчост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Рисунок 2" descr="H:\tiger-1300883669.png"/>
          <p:cNvPicPr/>
          <p:nvPr/>
        </p:nvPicPr>
        <p:blipFill>
          <a:blip r:embed="rId3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b13f9a"/>
              </a:gs>
              <a:gs pos="100000">
                <a:srgbClr val="9c3788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13f9a"/>
              </a:gs>
              <a:gs pos="100000">
                <a:srgbClr val="9c3788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13f9a"/>
              </a:gs>
              <a:gs pos="100000">
                <a:srgbClr val="9c3788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13f9a"/>
              </a:gs>
              <a:gs pos="100000">
                <a:srgbClr val="9c3788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13f9a"/>
              </a:gs>
              <a:gs pos="100000">
                <a:srgbClr val="9c378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b13f9a"/>
              </a:gs>
              <a:gs pos="100000">
                <a:srgbClr val="9c378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164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167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170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173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176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179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ef2ca"/>
                </a:gs>
                <a:gs pos="100000">
                  <a:srgbClr val="ffde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de6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5662f"/>
              </a:gs>
              <a:gs pos="100000">
                <a:srgbClr val="ffde6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7736"/>
              </a:gs>
              <a:gs pos="50000">
                <a:srgbClr val="ffde66"/>
              </a:gs>
              <a:gs pos="100000">
                <a:srgbClr val="89773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de66">
                  <a:alpha val="0"/>
                </a:srgbClr>
              </a:gs>
              <a:gs pos="100000">
                <a:srgbClr val="a18c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186" name="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750120" y="339408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a0612"/>
                </a:solidFill>
                <a:latin typeface="Arial"/>
              </a:rPr>
              <a:t>Творч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1371600"/>
            <a:ext cx="3240000" cy="703800"/>
          </a:xfrm>
          <a:prstGeom prst="rect">
            <a:avLst/>
          </a:prstGeom>
          <a:solidFill>
            <a:srgbClr val="eea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ивати мислення, уяву, па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676520"/>
            <a:ext cx="2254320" cy="398880"/>
          </a:xfrm>
          <a:prstGeom prst="rect">
            <a:avLst/>
          </a:prstGeom>
          <a:solidFill>
            <a:srgbClr val="eea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оригіналь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3429000"/>
            <a:ext cx="2133720" cy="703800"/>
          </a:xfrm>
          <a:prstGeom prst="rect">
            <a:avLst/>
          </a:prstGeom>
          <a:solidFill>
            <a:srgbClr val="eea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багато працю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5029200"/>
            <a:ext cx="3249720" cy="1008720"/>
          </a:xfrm>
          <a:prstGeom prst="rect">
            <a:avLst/>
          </a:prstGeom>
          <a:solidFill>
            <a:srgbClr val="eea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міння аналізувати, порівнювати, систематизу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352680"/>
            <a:ext cx="2092320" cy="398880"/>
          </a:xfrm>
          <a:prstGeom prst="rect">
            <a:avLst/>
          </a:prstGeom>
          <a:solidFill>
            <a:srgbClr val="eea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ові думки і д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5029200"/>
            <a:ext cx="3019320" cy="398880"/>
          </a:xfrm>
          <a:prstGeom prst="rect">
            <a:avLst/>
          </a:prstGeom>
          <a:solidFill>
            <a:srgbClr val="eea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исокий рівень зн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1371600" y="152280"/>
            <a:ext cx="6172200" cy="6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9" name=""/>
          <p:cNvSpPr txBox="1"/>
          <p:nvPr/>
        </p:nvSpPr>
        <p:spPr>
          <a:xfrm>
            <a:off x="1600200" y="304920"/>
            <a:ext cx="581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о потрібно для творчості 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916360" y="1773360"/>
            <a:ext cx="3197160" cy="2890800"/>
            <a:chOff x="2916360" y="1773360"/>
            <a:chExt cx="3197160" cy="2890800"/>
          </a:xfrm>
        </p:grpSpPr>
        <p:sp>
          <p:nvSpPr>
            <p:cNvPr id="202" name=""/>
            <p:cNvSpPr/>
            <p:nvPr/>
          </p:nvSpPr>
          <p:spPr>
            <a:xfrm flipH="1" rot="16200000">
              <a:off x="2834280" y="289008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b3d6"/>
                </a:gs>
                <a:gs pos="100000">
                  <a:srgbClr val="b13f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5400000">
              <a:off x="5704920" y="283644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b3d6"/>
                </a:gs>
                <a:gs pos="100000">
                  <a:srgbClr val="b13f9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rot="10800000">
              <a:off x="4269240" y="433728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b3d6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3240" y="177336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89400" y="191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22960" y="205272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de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22960" y="205272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4720" y="218448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97736"/>
                </a:gs>
                <a:gs pos="50000">
                  <a:srgbClr val="ffde66"/>
                </a:gs>
                <a:gs pos="100000">
                  <a:srgbClr val="8977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54720" y="218448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4000" y="3357720"/>
            <a:ext cx="25192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1425a"/>
              </a:gs>
              <a:gs pos="50000">
                <a:srgbClr val="d490c5"/>
              </a:gs>
              <a:gs pos="100000">
                <a:srgbClr val="614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819520"/>
            <a:ext cx="25192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1425a"/>
              </a:gs>
              <a:gs pos="50000">
                <a:srgbClr val="d490c5"/>
              </a:gs>
              <a:gs pos="100000">
                <a:srgbClr val="614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286000"/>
            <a:ext cx="25192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1425a"/>
              </a:gs>
              <a:gs pos="50000">
                <a:srgbClr val="d490c5"/>
              </a:gs>
              <a:gs pos="100000">
                <a:srgbClr val="614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92720" y="3429000"/>
            <a:ext cx="2843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852640"/>
            <a:ext cx="2808360" cy="647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276640"/>
            <a:ext cx="27370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17800" y="271944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b192b"/>
                </a:solidFill>
                <a:latin typeface="Arial"/>
              </a:rPr>
              <a:t>У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a0612"/>
                </a:solidFill>
                <a:latin typeface="Verdana"/>
              </a:rPr>
              <a:t>творч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3623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лімпі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2924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нкур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4290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маг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234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іктор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5640" y="2924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успільне визн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3500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і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, товариші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чите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1403280" y="476280"/>
            <a:ext cx="6400800" cy="69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6" name=""/>
          <p:cNvSpPr txBox="1"/>
          <p:nvPr/>
        </p:nvSpPr>
        <p:spPr>
          <a:xfrm>
            <a:off x="1619280" y="549360"/>
            <a:ext cx="601020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о стимулює творчого учня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7" name="Рисунок 2" descr="H:\tiger-1300883669.png"/>
          <p:cNvPicPr/>
          <p:nvPr/>
        </p:nvPicPr>
        <p:blipFill>
          <a:blip r:embed="rId3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82000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e0190a"/>
                </a:solidFill>
                <a:uFillTx/>
                <a:latin typeface="Arial"/>
              </a:rPr>
              <a:t>Для мене як для вчителя важливими засобами розвитку інтелектуально – творчих задатків учнів є :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сягнення тісного взаємозв’язку мовленнєвої та розумової діяльності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лучення дітей до різноманітних творчих задатків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навчального середовища школярів з метою розвитку їх допитливості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ення сприятливої атмосфери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тичне створення ситуації вибору навчальних завдань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навча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знавальної діяльності через альтернативні форми роботи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охочення висловлювання дітьми оригінальних ідей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ання особистого прикладу творчого підходу до вирішення проблем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ситуації успіху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248520"/>
            <a:ext cx="61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76520" y="274320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solidFill>
            <a:srgbClr val="eea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63640" y="1773360"/>
            <a:ext cx="5977080" cy="86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a0612"/>
                </a:solidFill>
                <a:latin typeface="Arial"/>
              </a:rPr>
              <a:t>“ </a:t>
            </a:r>
            <a:r>
              <a:rPr b="1" lang="uk-UA" sz="2800" spc="-1" strike="noStrike">
                <a:solidFill>
                  <a:srgbClr val="aa0612"/>
                </a:solidFill>
                <a:latin typeface="Arial"/>
              </a:rPr>
              <a:t>Вчитись легко, коли цікаво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2360" y="306864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Успі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599240" y="4508640"/>
            <a:ext cx="1544760" cy="1766880"/>
            <a:chOff x="7599240" y="4508640"/>
            <a:chExt cx="1544760" cy="1766880"/>
          </a:xfrm>
        </p:grpSpPr>
        <p:sp>
          <p:nvSpPr>
            <p:cNvPr id="236" name=""/>
            <p:cNvSpPr/>
            <p:nvPr/>
          </p:nvSpPr>
          <p:spPr>
            <a:xfrm>
              <a:off x="7751880" y="5970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99240" y="4508640"/>
              <a:ext cx="1544760" cy="1544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32720" y="4545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65b7c"/>
                </a:gs>
                <a:gs pos="100000">
                  <a:srgbClr val="d490c5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89960" y="4599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9688e"/>
                </a:gs>
                <a:gs pos="100000">
                  <a:srgbClr val="d490c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7632720" y="4599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773120" y="5106960"/>
              <a:ext cx="117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40462"/>
                  </a:solidFill>
                  <a:latin typeface="Arial"/>
                </a:rPr>
                <a:t>впевн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40462"/>
                  </a:solidFill>
                  <a:latin typeface="Arial"/>
                </a:rPr>
                <a:t>ні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84720" y="4581360"/>
            <a:ext cx="1544760" cy="1766880"/>
            <a:chOff x="6084720" y="4581360"/>
            <a:chExt cx="1544760" cy="1766880"/>
          </a:xfrm>
        </p:grpSpPr>
        <p:sp>
          <p:nvSpPr>
            <p:cNvPr id="243" name=""/>
            <p:cNvSpPr/>
            <p:nvPr/>
          </p:nvSpPr>
          <p:spPr>
            <a:xfrm>
              <a:off x="6237000" y="604332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581360"/>
              <a:ext cx="1544760" cy="1544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18200" y="461772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2641"/>
                </a:gs>
                <a:gs pos="100000">
                  <a:srgbClr val="b83d68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5080" y="467172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42c4b"/>
                </a:gs>
                <a:gs pos="100000">
                  <a:srgbClr val="b83d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6118200" y="467172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275160" y="5179680"/>
              <a:ext cx="113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40462"/>
                  </a:solidFill>
                  <a:latin typeface="Arial"/>
                </a:rPr>
                <a:t>раді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513680" y="4508640"/>
            <a:ext cx="1599480" cy="1766880"/>
            <a:chOff x="4513680" y="4508640"/>
            <a:chExt cx="1599480" cy="1766880"/>
          </a:xfrm>
        </p:grpSpPr>
        <p:sp>
          <p:nvSpPr>
            <p:cNvPr id="250" name=""/>
            <p:cNvSpPr/>
            <p:nvPr/>
          </p:nvSpPr>
          <p:spPr>
            <a:xfrm>
              <a:off x="4705560" y="5970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53280" y="4508640"/>
              <a:ext cx="1544400" cy="154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545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a18c40"/>
                </a:gs>
                <a:gs pos="100000">
                  <a:srgbClr val="ffde66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3640" y="4599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b8a049"/>
                </a:gs>
                <a:gs pos="100000">
                  <a:srgbClr val="ffde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4586400" y="4599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513680" y="5106960"/>
              <a:ext cx="159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40462"/>
                  </a:solidFill>
                  <a:latin typeface="Arial"/>
                </a:rPr>
                <a:t>наполегли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40462"/>
                  </a:solidFill>
                  <a:latin typeface="Arial"/>
                </a:rPr>
                <a:t>ві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059280" y="4581360"/>
            <a:ext cx="1544400" cy="1766880"/>
            <a:chOff x="3059280" y="4581360"/>
            <a:chExt cx="1544400" cy="1766880"/>
          </a:xfrm>
        </p:grpSpPr>
        <p:sp>
          <p:nvSpPr>
            <p:cNvPr id="257" name=""/>
            <p:cNvSpPr/>
            <p:nvPr/>
          </p:nvSpPr>
          <p:spPr>
            <a:xfrm>
              <a:off x="3168720" y="6043320"/>
              <a:ext cx="129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9280" y="4581360"/>
              <a:ext cx="1544400" cy="15444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92400" y="461772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9640" y="467172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9"/>
            <a:stretch/>
          </p:blipFill>
          <p:spPr>
            <a:xfrm>
              <a:off x="3092400" y="4671720"/>
              <a:ext cx="9774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252600" y="5179680"/>
              <a:ext cx="11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Arial"/>
                </a:rPr>
                <a:t>настрі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0" y="4653000"/>
            <a:ext cx="1544760" cy="1766880"/>
            <a:chOff x="0" y="4653000"/>
            <a:chExt cx="1544760" cy="1766880"/>
          </a:xfrm>
        </p:grpSpPr>
        <p:sp>
          <p:nvSpPr>
            <p:cNvPr id="264" name=""/>
            <p:cNvSpPr/>
            <p:nvPr/>
          </p:nvSpPr>
          <p:spPr>
            <a:xfrm>
              <a:off x="152640" y="611496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4653000"/>
              <a:ext cx="1544760" cy="15444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480" y="46893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65b7c"/>
                </a:gs>
                <a:gs pos="100000">
                  <a:srgbClr val="d490c5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720" y="474336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9688e"/>
                </a:gs>
                <a:gs pos="100000">
                  <a:srgbClr val="d490c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1"/>
            <a:stretch/>
          </p:blipFill>
          <p:spPr>
            <a:xfrm>
              <a:off x="33480" y="474336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6280" y="5251320"/>
              <a:ext cx="14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40462"/>
                  </a:solidFill>
                  <a:latin typeface="Arial"/>
                </a:rPr>
                <a:t>підтрим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547640" y="4653000"/>
            <a:ext cx="1544760" cy="1766880"/>
            <a:chOff x="1547640" y="4653000"/>
            <a:chExt cx="1544760" cy="1766880"/>
          </a:xfrm>
        </p:grpSpPr>
        <p:sp>
          <p:nvSpPr>
            <p:cNvPr id="271" name=""/>
            <p:cNvSpPr/>
            <p:nvPr/>
          </p:nvSpPr>
          <p:spPr>
            <a:xfrm>
              <a:off x="1699920" y="611496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47640" y="4653000"/>
              <a:ext cx="1544760" cy="154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81120" y="46893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2641"/>
                </a:gs>
                <a:gs pos="100000">
                  <a:srgbClr val="b83d68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38000" y="47433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42c4b"/>
                </a:gs>
                <a:gs pos="100000">
                  <a:srgbClr val="b83d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3"/>
            <a:stretch/>
          </p:blipFill>
          <p:spPr>
            <a:xfrm>
              <a:off x="1581120" y="474336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599120" y="5251320"/>
              <a:ext cx="14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творчі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Содержимое 4" descr="свиток 5.png"/>
          <p:cNvPicPr/>
          <p:nvPr/>
        </p:nvPicPr>
        <p:blipFill>
          <a:blip r:embed="rId14"/>
          <a:stretch/>
        </p:blipFill>
        <p:spPr>
          <a:xfrm>
            <a:off x="1619280" y="260280"/>
            <a:ext cx="5181480" cy="86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8" name=""/>
          <p:cNvSpPr txBox="1"/>
          <p:nvPr/>
        </p:nvSpPr>
        <p:spPr>
          <a:xfrm>
            <a:off x="1979640" y="404640"/>
            <a:ext cx="457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ула успіху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1116000" y="762120"/>
            <a:ext cx="7238880" cy="609588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2050920" y="189000"/>
            <a:ext cx="5562720" cy="10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"/>
          <p:cNvSpPr txBox="1"/>
          <p:nvPr/>
        </p:nvSpPr>
        <p:spPr>
          <a:xfrm>
            <a:off x="2438280" y="533520"/>
            <a:ext cx="4800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ворчість вчителя -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рука успіхів учні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e0190a"/>
                </a:solidFill>
                <a:uFillTx/>
                <a:latin typeface="Arial"/>
              </a:rPr>
              <a:t>Формування креативної особистості засобами сучасних технологій дає стійкі та позитивні результати: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ворча  праця учнів на уроці сприяє свідомому і міцному засвоєнню виучуваного матеріалу.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виток інтелектуа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ворчих задатків є перспективним у плані формування сфери інтелектуальної власності школярів.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пішне засвоєння навчального матеріалу залежить не лише від пізнавальних можливостей і здібностей учнів, а й від організації вчителем роботи на уроці, коли кожен учень працює з оптимальним навантаженням.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жливо розвивати в дітей молодшого шкільного віку не просто бажання вчитися, прагнення оволодівати знаннями, а виховувати у дитини органічну потребу вмотивовано сприймати нову інформацію,  вміти застосовувати її в реальному житті, використовувати нові знання в реальних ситуаціях.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560" y="762120"/>
            <a:ext cx="8713800" cy="461160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0190a"/>
                </a:solidFill>
                <a:latin typeface="Arial"/>
              </a:rPr>
              <a:t>                </a:t>
            </a:r>
            <a:r>
              <a:rPr b="1" lang="uk-UA" sz="2400" spc="-1" strike="noStrike">
                <a:solidFill>
                  <a:srgbClr val="e0190a"/>
                </a:solidFill>
                <a:latin typeface="Arial"/>
              </a:rPr>
              <a:t>Форми проведення навчальних занять з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0190a"/>
                </a:solidFill>
                <a:latin typeface="Arial"/>
              </a:rPr>
              <a:t>                                   </a:t>
            </a:r>
            <a:r>
              <a:rPr b="1" lang="uk-UA" sz="2400" spc="-1" strike="noStrike">
                <a:solidFill>
                  <a:srgbClr val="e0190a"/>
                </a:solidFill>
                <a:latin typeface="Arial"/>
              </a:rPr>
              <a:t>природознавства: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остереження за природою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роки-подорожі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сні журнали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портажі з місця подій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яткування дня Землі (космонавтики, прильоту птахів ...)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ласні дослідження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ворчі завдання, екологічні акції тощо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дидактичні ігри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289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pic>
        <p:nvPicPr>
          <p:cNvPr id="292" name="Rectangle 3" descr=""/>
          <p:cNvPicPr/>
          <p:nvPr/>
        </p:nvPicPr>
        <p:blipFill>
          <a:blip r:embed="rId2"/>
          <a:stretch/>
        </p:blipFill>
        <p:spPr>
          <a:xfrm>
            <a:off x="1258920" y="1276200"/>
            <a:ext cx="6337440" cy="5581800"/>
          </a:xfrm>
          <a:prstGeom prst="rect">
            <a:avLst/>
          </a:prstGeom>
          <a:ln w="0">
            <a:noFill/>
          </a:ln>
        </p:spPr>
      </p:pic>
      <p:pic>
        <p:nvPicPr>
          <p:cNvPr id="293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611280" y="189000"/>
            <a:ext cx="7993080" cy="86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4" name=""/>
          <p:cNvSpPr txBox="1"/>
          <p:nvPr/>
        </p:nvSpPr>
        <p:spPr>
          <a:xfrm>
            <a:off x="900000" y="333360"/>
            <a:ext cx="755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 "Допоможи Колючці знайти живу природу"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248160"/>
            <a:ext cx="395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1989000"/>
            <a:ext cx="8513640" cy="244800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0190a"/>
                </a:solidFill>
                <a:latin typeface="Monotype Corsiva"/>
              </a:rPr>
              <a:t>“</a:t>
            </a:r>
            <a:r>
              <a:rPr b="1" i="1" lang="uk-UA" sz="3600" spc="-1" strike="noStrike">
                <a:solidFill>
                  <a:srgbClr val="e0190a"/>
                </a:solidFill>
                <a:latin typeface="Monotype Corsiva"/>
              </a:rPr>
              <a:t>У житті немає іншого сенсу, крім  того, який людина надає йому сама, розкриваючи свої здібності”</a:t>
            </a:r>
            <a:endParaRPr b="0" lang="en-US" sz="36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0190a"/>
                </a:solidFill>
                <a:latin typeface="Monotype Corsiva"/>
              </a:rPr>
              <a:t>                                </a:t>
            </a:r>
            <a:r>
              <a:rPr b="1" lang="uk-UA" sz="3600" spc="-1" strike="noStrike">
                <a:solidFill>
                  <a:srgbClr val="e0190a"/>
                </a:solidFill>
                <a:latin typeface="Monotype Corsiva"/>
              </a:rPr>
              <a:t>Еріх Флоре</a:t>
            </a:r>
            <a:endParaRPr b="0" lang="en-US" sz="36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47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1692360" y="549360"/>
            <a:ext cx="5943600" cy="79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"/>
          <p:cNvSpPr txBox="1"/>
          <p:nvPr/>
        </p:nvSpPr>
        <p:spPr>
          <a:xfrm>
            <a:off x="2124000" y="692280"/>
            <a:ext cx="5040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дагогічне кредо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Рисунок 2" descr="H:\tiger-1300883669.png"/>
          <p:cNvPicPr/>
          <p:nvPr/>
        </p:nvPicPr>
        <p:blipFill>
          <a:blip r:embed="rId3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8964720" cy="3763800"/>
          </a:xfrm>
          <a:prstGeom prst="rect">
            <a:avLst/>
          </a:prstGeom>
          <a:ln w="0">
            <a:noFill/>
          </a:ln>
        </p:spPr>
      </p:pic>
      <p:pic>
        <p:nvPicPr>
          <p:cNvPr id="298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1476360" y="260280"/>
            <a:ext cx="6551640" cy="86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9" name=""/>
          <p:cNvSpPr txBox="1"/>
          <p:nvPr/>
        </p:nvSpPr>
        <p:spPr>
          <a:xfrm>
            <a:off x="1763640" y="260280"/>
            <a:ext cx="59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 "Знайди серед тварин звірів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949480" y="0"/>
            <a:ext cx="619452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0" y="2349360"/>
            <a:ext cx="3059280" cy="86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04" name=""/>
          <p:cNvSpPr txBox="1"/>
          <p:nvPr/>
        </p:nvSpPr>
        <p:spPr>
          <a:xfrm>
            <a:off x="250920" y="2492280"/>
            <a:ext cx="273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 "Чиє дитинча ?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26920" y="1264680"/>
            <a:ext cx="7345440" cy="338580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идактична гра „Впізнай за описом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Тема: Різноманітність тварин у природі». 3 кла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«Допоможе алфаві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гадай алфавіт і ти зможеш розшифр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зви рослин(тварин), які занесені до Червоної книги Украї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0190a"/>
                </a:solidFill>
                <a:latin typeface="Arial"/>
              </a:rPr>
              <a:t>20,12,6,22,18,12,9,17,11,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ідсніж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561080" cy="309852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ра «Математичні дії»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онай дії і прочитай назви свійських тварин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0190a"/>
                </a:solidFill>
                <a:latin typeface="Arial"/>
              </a:rPr>
              <a:t>ВІЛ – Л + ВЦ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(вівця)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0190a"/>
                </a:solidFill>
                <a:latin typeface="Arial"/>
              </a:rPr>
              <a:t>ПІОН – ОН + ВЕ + 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(півень)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0190a"/>
                </a:solidFill>
                <a:latin typeface="Arial"/>
              </a:rPr>
              <a:t>ІНД + КРИ – К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індик)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0190a"/>
                </a:solidFill>
                <a:latin typeface="Arial"/>
              </a:rPr>
              <a:t>КОРА – А + ОВ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(корова)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311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32000" y="980640"/>
            <a:ext cx="6245280" cy="374652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e0190a"/>
                </a:solidFill>
                <a:uFillTx/>
                <a:latin typeface="Arial"/>
              </a:rPr>
              <a:t>Гра «Я почну, а ти закінчуй»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ьогодні по дорозі до школи я бачив…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шу землю вдень освітлює…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 п’ємо…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 дихаємо…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іля школи росте…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ночі я бачила на небі…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би живуть у …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315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росворд, складений до уроку природознавства в 1 класі по темі: «Звірі».</a:t>
            </a:r>
            <a:endParaRPr b="0" lang="en-US" sz="24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560" y="1218960"/>
            <a:ext cx="8893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1280" y="1341360"/>
            <a:ext cx="9072720" cy="5031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6920" y="692280"/>
            <a:ext cx="6750360" cy="417960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ок природознавства у 3 класі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0190a"/>
                </a:solidFill>
                <a:uFillTx/>
                <a:latin typeface="Arial"/>
              </a:rPr>
              <a:t>Кубування по темі “Зима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іть це; (учні, кидаючи куб, визначають для себе вид завдання)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ізуйте;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івняйте;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оціюйте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діть застосування цьому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опонуйте аргументи “за” і “проти”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323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98000" cy="245124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e0190a"/>
                </a:solidFill>
                <a:uFillTx/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e0190a"/>
                </a:solidFill>
                <a:uFillTx/>
                <a:latin typeface="Arial"/>
              </a:rPr>
              <a:t>ІНТЕРАКТИВНИЙ МЕТОД „ПРЕСС”.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розв’язання логічних завдань „Що зайве? Чому?”)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бо, Місяць, вода, зорі, пісок, карта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уб, камінь, Сонце, повітря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лон, ластівка, робітник, земля, комар.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326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137440" cy="324324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e0190a"/>
                </a:solidFill>
                <a:uFillTx/>
                <a:latin typeface="Arial"/>
              </a:rPr>
              <a:t>Інтенсивні методики навчання на уроках природознавства: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бота в групах, парах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стосування інноваційних методів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ання інформаційно-комунікаційних засобів;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досліджень учнями;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ровадження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проектної технології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329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395280" y="5805360"/>
            <a:ext cx="1512720" cy="60984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Додаток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 №4.doc</a:t>
            </a:r>
            <a:endParaRPr b="0" lang="en-US" sz="2400" spc="-1" strike="noStrike">
              <a:solidFill>
                <a:srgbClr val="006699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4464000" cy="2089080"/>
          </a:xfrm>
          <a:prstGeom prst="rect">
            <a:avLst/>
          </a:prstGeom>
          <a:solidFill>
            <a:srgbClr val="d490c5"/>
          </a:solidFill>
          <a:ln w="0">
            <a:noFill/>
          </a:ln>
        </p:spPr>
        <p:txBody>
          <a:bodyPr lIns="18360" rIns="18360" tIns="46800" bIns="46800" anchor="t">
            <a:normAutofit fontScale="96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Eras Demi IT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Eras Demi ITC"/>
              </a:rPr>
              <a:t>Ці технології передбачають одночасну спільну роботу всього класу.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Eras Demi ITC"/>
              </a:rPr>
              <a:t>Це такі форми роботи, як: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333" name="Содержимое 4" descr=""/>
          <p:cNvPicPr/>
          <p:nvPr/>
        </p:nvPicPr>
        <p:blipFill>
          <a:blip r:embed="rId2"/>
          <a:stretch/>
        </p:blipFill>
        <p:spPr>
          <a:xfrm>
            <a:off x="450072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0" y="549360"/>
            <a:ext cx="507672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5" name=""/>
          <p:cNvSpPr txBox="1"/>
          <p:nvPr/>
        </p:nvSpPr>
        <p:spPr>
          <a:xfrm>
            <a:off x="0" y="836640"/>
            <a:ext cx="4965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хнології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ективно-груповог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вчан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230688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Орієнтиром у моїй роботі стали слова В. Сухомлинського: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e0190a"/>
                </a:solidFill>
                <a:uFillTx/>
                <a:latin typeface="Arial"/>
              </a:rPr>
              <a:t>«</a:t>
            </a:r>
            <a:r>
              <a:rPr b="1" i="1" lang="uk-UA" sz="2400" spc="-1" strike="noStrike" u="sng">
                <a:solidFill>
                  <a:srgbClr val="e0190a"/>
                </a:solidFill>
                <a:uFillTx/>
                <a:latin typeface="Arial"/>
              </a:rPr>
              <a:t>Дитина має бути не тільки учнем, а передусім людиною з різноманітними інтересами, запитами, прагненнями».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мета – зробити все можливе, щоб кожна дитина розкрила свої здібності і таланти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52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248520"/>
            <a:ext cx="3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11280" y="1628640"/>
            <a:ext cx="8305560" cy="344808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Творча праця учнів на уроці сприяє свідомому і   міцному засвоєнню вивченого матері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иток інтелектуально-творчих задатків є перспективним у плані формування сфери інтелектуальної власності школяр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Кожен вчитель має створювати умови для особистісного зростання учнів, яке виявляється у підвищенні їхньої пізнавальної і соціальної активності, вмінні самостійно і критично мислити, здійснювати вибір, відповідати за нього, вміти позитивно і гуманно вирішувати конфліктні ситуації, поважати думку інш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2484360" y="476280"/>
            <a:ext cx="4267440" cy="86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0" name=""/>
          <p:cNvSpPr txBox="1"/>
          <p:nvPr/>
        </p:nvSpPr>
        <p:spPr>
          <a:xfrm>
            <a:off x="3048120" y="685800"/>
            <a:ext cx="3343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сновки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42880" y="1066680"/>
            <a:ext cx="8601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9b2d1f"/>
                </a:solidFill>
                <a:latin typeface="Eras Demi ITC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1970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Все, що робиться з любов'ю і разом з                                                              дітьми приречено на успі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1547640" y="260280"/>
            <a:ext cx="5943600" cy="7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"/>
          <p:cNvSpPr txBox="1"/>
          <p:nvPr/>
        </p:nvSpPr>
        <p:spPr>
          <a:xfrm>
            <a:off x="1763640" y="404640"/>
            <a:ext cx="555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а моєї роботи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Рисунок 2" descr="H:\tiger-1300883669.png"/>
          <p:cNvPicPr/>
          <p:nvPr/>
        </p:nvPicPr>
        <p:blipFill>
          <a:blip r:embed="rId3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2276640"/>
            <a:ext cx="8153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безпечити розвиток творчої особист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багатити інтелектуальний потенціал кожної дити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ворити систему роботи по розвитку творчої, пізнавальної, самостійної активності молодших школяр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звивати позитивні нахили, здібності, творче мислення, потреби і вміння самовдосконале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ховувати бажання працювати колективно і самостійно, вміння доводити розпочату роботу до кінця, отримувати задоволення від своєї роб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6248160"/>
            <a:ext cx="395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6021360"/>
            <a:ext cx="1584360" cy="53820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de66"/>
                </a:solidFill>
                <a:uFillTx/>
                <a:latin typeface="Impact"/>
                <a:hlinkClick r:id="rId4"/>
              </a:rPr>
              <a:t>Додаток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Impact"/>
                <a:hlinkClick r:id="rId5"/>
              </a:rPr>
              <a:t> №2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1557360"/>
            <a:ext cx="8153280" cy="389016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гуманістична спрямованість у навчанні та вихованн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ошуки нових нестандартних форм та методів навчання, які допомагають учням активно засвоювати матері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диференційований підхід до дітей з урахуванням їхніх індивідуальних здібностей, виявлення та підтримка обдарованих ді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стимулювання навчальної діяльності ( заохочення, створення ситуацій успіху, спонукання до активної прац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себічне підвищення ефективності кожного уро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провадження інноваційних технологій навчання та виховання учн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1835280" y="260280"/>
            <a:ext cx="5333760" cy="64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"/>
          <p:cNvSpPr txBox="1"/>
          <p:nvPr/>
        </p:nvSpPr>
        <p:spPr>
          <a:xfrm>
            <a:off x="1981080" y="380880"/>
            <a:ext cx="746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ципи роботи :                   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Рисунок 2" descr="H:\tiger-1300883669.png"/>
          <p:cNvPicPr/>
          <p:nvPr/>
        </p:nvPicPr>
        <p:blipFill>
          <a:blip r:embed="rId3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248160"/>
            <a:ext cx="395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758360" cy="3243240"/>
          </a:xfrm>
          <a:prstGeom prst="rect">
            <a:avLst/>
          </a:prstGeom>
          <a:solidFill>
            <a:srgbClr val="7be4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видки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звито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хнічни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грамни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ливосте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сональни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ютері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зповсюдженн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інформаційн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унікаційни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еативни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хнологі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ворюю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альн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ливост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ї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користанн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стем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віт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звитк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ворчог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тенціал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дин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цес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безпеченн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упност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і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ізним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нкам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вчальн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ховни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ладі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віт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68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0" y="6248160"/>
            <a:ext cx="395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6699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часна освіта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 </a:t>
            </a:r>
            <a:r>
              <a:rPr b="0" i="1" lang="ru-RU" sz="2800" spc="-1" strike="noStrike" u="sng">
                <a:solidFill>
                  <a:srgbClr val="e0190a"/>
                </a:solidFill>
                <a:uFillTx/>
                <a:latin typeface="Arial"/>
              </a:rPr>
              <a:t>креативна,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або </a:t>
            </a:r>
            <a:r>
              <a:rPr b="0" i="1" lang="ru-RU" sz="2800" spc="-1" strike="noStrike" u="sng">
                <a:solidFill>
                  <a:srgbClr val="e0190a"/>
                </a:solidFill>
                <a:uFillTx/>
                <a:latin typeface="Arial"/>
              </a:rPr>
              <a:t>творча освіта. 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e0190a"/>
                </a:solidFill>
                <a:latin typeface="Arial"/>
              </a:rPr>
              <a:t>Здатність до навчан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це здатність до надбання знань, а </a:t>
            </a:r>
            <a:r>
              <a:rPr b="0" i="1" lang="ru-RU" sz="2800" spc="-1" strike="noStrike" u="sng">
                <a:solidFill>
                  <a:srgbClr val="e0190a"/>
                </a:solidFill>
                <a:uFillTx/>
                <a:latin typeface="Arial"/>
              </a:rPr>
              <a:t>креативніс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це здатність до перетворення знань. 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 нею пов’язані увага, фантазія, народження гіпотез тощо.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71" name="Рисунок 2" descr="H:\tiger-1300883669.png"/>
          <p:cNvPicPr/>
          <p:nvPr/>
        </p:nvPicPr>
        <p:blipFill>
          <a:blip r:embed="rId2"/>
          <a:stretch/>
        </p:blipFill>
        <p:spPr>
          <a:xfrm>
            <a:off x="5791320" y="465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0" y="6248160"/>
            <a:ext cx="395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6699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57200" y="2057400"/>
            <a:ext cx="4500720" cy="7142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c66bb"/>
              </a:gs>
              <a:gs pos="100000">
                <a:srgbClr val="c594d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терактивне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1371600" y="2971800"/>
            <a:ext cx="4500720" cy="7142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обистісно орієнтоване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2133720" y="3886200"/>
            <a:ext cx="4500360" cy="714240"/>
          </a:xfrm>
          <a:prstGeom prst="roundRect">
            <a:avLst>
              <a:gd name="adj" fmla="val 9106"/>
            </a:avLst>
          </a:prstGeom>
          <a:solidFill>
            <a:srgbClr val="df930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формаційно-комунікацій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2971800" y="4800600"/>
            <a:ext cx="4500720" cy="714240"/>
          </a:xfrm>
          <a:prstGeom prst="roundRect">
            <a:avLst>
              <a:gd name="adj" fmla="val 9106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виток творчої особист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1523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00"/>
                </a:solidFill>
                <a:latin typeface="Arial"/>
              </a:rPr>
              <a:t>Сучасні педагогічні технологі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1905120" y="304920"/>
            <a:ext cx="5790960" cy="10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"/>
          <p:cNvSpPr txBox="1"/>
          <p:nvPr/>
        </p:nvSpPr>
        <p:spPr>
          <a:xfrm>
            <a:off x="2209680" y="4572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ляхи формуванн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ворчої активності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6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8"/>
          <p:cNvSpPr/>
          <p:nvPr/>
        </p:nvSpPr>
        <p:spPr>
          <a:xfrm>
            <a:off x="7467480" y="4267080"/>
            <a:ext cx="609840" cy="979560"/>
          </a:xfrm>
          <a:prstGeom prst="pie">
            <a:avLst/>
          </a:pr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3"/>
          <p:cNvSpPr/>
          <p:nvPr/>
        </p:nvSpPr>
        <p:spPr>
          <a:xfrm>
            <a:off x="3962520" y="4267080"/>
            <a:ext cx="4084560" cy="63180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3962520" y="4876920"/>
            <a:ext cx="3476520" cy="44136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Активність і самостій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8229600" y="1295280"/>
            <a:ext cx="647640" cy="981360"/>
          </a:xfrm>
          <a:prstGeom prst="pie">
            <a:avLst/>
          </a:pr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5334120" y="1295280"/>
            <a:ext cx="3560760" cy="62712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5334120" y="1905120"/>
            <a:ext cx="2948040" cy="35856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Творча а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6"/>
          <p:cNvSpPr/>
          <p:nvPr/>
        </p:nvSpPr>
        <p:spPr>
          <a:xfrm>
            <a:off x="8001000" y="2743200"/>
            <a:ext cx="614520" cy="976320"/>
          </a:xfrm>
          <a:prstGeom prst="pie">
            <a:avLst/>
          </a:pr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4800600" y="2743200"/>
            <a:ext cx="3827520" cy="625320"/>
          </a:xfrm>
          <a:prstGeom prst="pie">
            <a:avLst/>
          </a:pr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800600" y="3352680"/>
            <a:ext cx="3213000" cy="44784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Пізнавальна діяль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0"/>
          <p:cNvSpPr/>
          <p:nvPr/>
        </p:nvSpPr>
        <p:spPr>
          <a:xfrm rot="20719200">
            <a:off x="3581280" y="3886200"/>
            <a:ext cx="1285920" cy="1285920"/>
          </a:xfrm>
          <a:prstGeom prst="pie">
            <a:avLst/>
          </a:pr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62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0"/>
          <p:cNvSpPr/>
          <p:nvPr/>
        </p:nvSpPr>
        <p:spPr>
          <a:xfrm rot="20719200">
            <a:off x="4191120" y="1981080"/>
            <a:ext cx="1285920" cy="1285920"/>
          </a:xfrm>
          <a:prstGeom prst="pie">
            <a:avLst/>
          </a:pr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62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058920" cy="345600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1828800" y="152280"/>
            <a:ext cx="571500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"/>
          <p:cNvSpPr txBox="1"/>
          <p:nvPr/>
        </p:nvSpPr>
        <p:spPr>
          <a:xfrm>
            <a:off x="1981080" y="380880"/>
            <a:ext cx="5410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тапи формування творчої активності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248520"/>
            <a:ext cx="3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83d6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1T18:22:32Z</dcterms:created>
  <dc:creator>user</dc:creator>
  <dc:description/>
  <dc:language>en-US</dc:language>
  <cp:lastModifiedBy>user</cp:lastModifiedBy>
  <dcterms:modified xsi:type="dcterms:W3CDTF">2017-11-04T15:35:36Z</dcterms:modified>
  <cp:revision>18</cp:revision>
  <dc:subject/>
  <dc:title>Творчість – це не сума знань, а особлива спрямованість інтелекту, особливий взаємозв’язок між інтелектуальним життям особистості і проявом її сил в активній діяльності.</dc:title>
</cp:coreProperties>
</file>