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23.jpeg" ContentType="image/jpeg"/>
  <Override PartName="/ppt/media/image29.jpeg" ContentType="image/jpeg"/>
  <Override PartName="/ppt/media/image1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png" ContentType="image/png"/>
  <Override PartName="/ppt/media/image43.jpeg" ContentType="image/jpeg"/>
  <Override PartName="/ppt/media/image37.jpeg" ContentType="image/jpeg"/>
  <Override PartName="/ppt/media/image13.png" ContentType="image/png"/>
  <Override PartName="/ppt/media/image40.jpeg" ContentType="image/jpeg"/>
  <Override PartName="/ppt/media/image12.jpeg" ContentType="image/jpeg"/>
  <Override PartName="/ppt/media/image34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DCA-75B6-4B1A-85FF-7E3329ED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2B62-3FFA-4F10-BE61-37F992D7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CC9-8D29-4A7D-AFDC-39ECD249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095-D3EC-44DF-A04E-838E2E60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ABCA-CDB1-4CC8-9CB6-3A4A45BB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43C0-B3F4-4168-B967-824A286F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14CF-6C42-4E67-A32D-D4AAC9B4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EEFF-ED21-42E0-9896-B00FB590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5AFB-2280-49C9-9994-1FC2A433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2AA8-385C-4311-8696-D98D6F13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C35F-B272-4DA8-8F2E-F8799DA1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8E1-FE41-4CB5-8DAD-816061BD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59CC-41EA-438D-915D-EE9BC54F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5DB7-D57D-476D-8809-332E427A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4974-4919-4021-84CC-A11D9D21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1D3A-0DED-4D2E-8966-690EA9E6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791A-AD7A-4ED6-97DA-D5EDEF0D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509F-8DB2-4668-A4EA-79DAE4A3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92DC-AD67-4466-B0C9-2B824D72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DB8-581D-46A2-83B8-A6F49AE9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9B45-06D4-4453-AE50-D6E082B9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98F-6C95-4CD7-849F-79A5C704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0C9-B01E-4181-A58B-109F4943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101D-34EE-4813-94E2-FE8D1A8B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6D5A-E9F0-4249-9DF7-2DFFFD3B79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4B8B-E5BD-43B6-87B0-6D3FE762EA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Тем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тихійні явища природи, е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кологічні проблеми та природоохоронні території Африки.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1A5"/>
          <p:cNvPicPr/>
          <p:nvPr/>
        </p:nvPicPr>
        <p:blipFill>
          <a:blip r:embed="rId1"/>
          <a:stretch/>
        </p:blipFill>
        <p:spPr>
          <a:xfrm>
            <a:off x="539640" y="5407200"/>
            <a:ext cx="33847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Picture 4" descr="01605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0" y="51577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національному парку Цаво, розташованому в Кенії, охороняються африканські слони, а також багато видів  антило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19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1965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3059280" y="0"/>
            <a:ext cx="6084720" cy="10688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Перлина Африки -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національний парк Серенгет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4" descr="479086"/>
          <p:cNvPicPr/>
          <p:nvPr/>
        </p:nvPicPr>
        <p:blipFill>
          <a:blip r:embed="rId1"/>
          <a:stretch/>
        </p:blipFill>
        <p:spPr>
          <a:xfrm>
            <a:off x="0" y="0"/>
            <a:ext cx="953928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0" y="0"/>
            <a:ext cx="50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ий о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єкт охорони національного пар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н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ра (Східна  Африка)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ви та  леопар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19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4" descr="Leop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4" descr="04903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68360" y="5373720"/>
            <a:ext cx="60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ірському масиві Рувензорі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хороняються людиноподібні мавпи  (горила та шимпанз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19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19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3"/>
          <p:cNvGraphicFramePr/>
          <p:nvPr/>
        </p:nvGraphicFramePr>
        <p:xfrm>
          <a:off x="539640" y="549360"/>
          <a:ext cx="8064720" cy="59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806472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Мета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формувати в учнів систему знань про заповідні території Африки; сформувати уявлення учнів про стихійні природні явища та екологічні проблеми материка; підвести учнів до розуміння чинників екологічних пробл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звивати навички самостійної навчально-пізнавальної діяльності, роботи з основними та додатковими джерелами географічних знан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ховувати повагу до природи Землі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1A5"/>
          <p:cNvPicPr/>
          <p:nvPr/>
        </p:nvPicPr>
        <p:blipFill>
          <a:blip r:embed="rId1"/>
          <a:stretch/>
        </p:blipFill>
        <p:spPr>
          <a:xfrm>
            <a:off x="3348000" y="5805360"/>
            <a:ext cx="2736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31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95280" y="5484960"/>
            <a:ext cx="87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р. Ніл створено національний парк Кабарега, у якому під охороною перебувають  крокодили, бегемоти, білі чапл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789098"/>
          <p:cNvPicPr/>
          <p:nvPr/>
        </p:nvPicPr>
        <p:blipFill>
          <a:blip r:embed="rId1"/>
          <a:stretch/>
        </p:blipFill>
        <p:spPr>
          <a:xfrm>
            <a:off x="1403280" y="333360"/>
            <a:ext cx="6624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3272"/>
          <p:cNvPicPr/>
          <p:nvPr/>
        </p:nvPicPr>
        <p:blipFill>
          <a:blip r:embed="rId1"/>
          <a:stretch/>
        </p:blipFill>
        <p:spPr>
          <a:xfrm>
            <a:off x="1042920" y="0"/>
            <a:ext cx="72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Picture 4" descr="789000"/>
          <p:cNvPicPr/>
          <p:nvPr/>
        </p:nvPicPr>
        <p:blipFill>
          <a:blip r:embed="rId1"/>
          <a:stretch/>
        </p:blipFill>
        <p:spPr>
          <a:xfrm>
            <a:off x="468360" y="0"/>
            <a:ext cx="81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19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Picture 3" descr="654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2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208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повторним та єдиним парком Східної  Африки, в якому охороняються рожеві фламінго, є національний  парк озера Наку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их птахів тут більше  мільй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375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3153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0" y="436572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ку природу Афр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х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но зберегти не лише для тог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щоб  забезпечити потреби люди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е й тому, что вона неповторна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31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2" name="Picture 3" descr="789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61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Багато тварин Африки з давніх часів були об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'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єктами полюванн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З часів колонізаціі материка </a:t>
            </a:r>
            <a:r>
              <a:rPr b="1" lang="uk-UA" sz="3200" spc="-1" strike="noStrike">
                <a:solidFill>
                  <a:srgbClr val="990033"/>
                </a:solidFill>
                <a:latin typeface="Arial"/>
              </a:rPr>
              <a:t>єв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ропейцями почалося масове винищення тварин заради   слонової кістки, рогу носорогів, крокодилової шкіри, шкіри  хижих тварин,  пір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'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я страус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Все це і зараз має високу цінність на світовому ринку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4" name="Picture 3" descr="7890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6" name="Picture 3" descr="789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789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4" descr="789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3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7" name="Picture 3" descr="789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30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675065"/>
          <p:cNvPicPr/>
          <p:nvPr/>
        </p:nvPicPr>
        <p:blipFill>
          <a:blip r:embed="rId1"/>
          <a:stretch/>
        </p:blipFill>
        <p:spPr>
          <a:xfrm>
            <a:off x="2411280" y="0"/>
            <a:ext cx="47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654062"/>
          <p:cNvPicPr/>
          <p:nvPr/>
        </p:nvPicPr>
        <p:blipFill>
          <a:blip r:embed="rId1"/>
          <a:stretch/>
        </p:blipFill>
        <p:spPr>
          <a:xfrm>
            <a:off x="91440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3155"/>
          <p:cNvPicPr/>
          <p:nvPr/>
        </p:nvPicPr>
        <p:blipFill>
          <a:blip r:embed="rId1"/>
          <a:stretch/>
        </p:blipFill>
        <p:spPr>
          <a:xfrm>
            <a:off x="2340000" y="0"/>
            <a:ext cx="453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3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19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6"/>
          <p:cNvSpPr txBox="1"/>
          <p:nvPr/>
        </p:nvSpPr>
        <p:spPr>
          <a:xfrm>
            <a:off x="1332000" y="5877000"/>
            <a:ext cx="64800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афарі в Африці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На Землі протягом історичного часу вже зникли :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435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110 видів звірі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150 видів птахі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295 видів великих ссавців    перебувають під загрозою  зникненн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Тільки в Африці зникли десятки видів великих  твар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за даними ЮНЕС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Пустельний ле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Проживав на території Марокко, Тунісу, Алжиру до Х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VIII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с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Розорювання земель, будівництво доріг, розвиток скотарства, полювання з застосуванням вогнепальної  зброї зробили свою справу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Африканська  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коровоподібна 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антилоп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В кінці Х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VIII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ст. величезні стада цих великих  довірливих  тварин  знаходилися на півдні Алжиру і Тунісу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Блакитна конеподібна антилоп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Надзвичайно струнка і красива твар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Проживала на півдні Афр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Винищена на початку Х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Х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с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Карликовий бегемо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Карликові бегемоти  проживали  в африканських  саван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Вони  зникли  з планети на початку ХХ  с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Лему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На о. Мадагаскар за  порівняно короткий проміжок часу було винищено 14 видів лемурів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Південноафриканска зебра квагг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Зебра квагга мала смуги лише на шиї та морді. Голандські переселенці  - бури - спеціально знищували  кваггу, щоб прибрати її з тих земель, де вони організували свої фермерські господарства. З шкіри цієї тварини виготовлялись бурдюки для зберігання вина та зер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вже до початку ХХ  ст. не залишилось жодного  представника квагг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Антилопа - білохвостий гн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Граційна, неповторної краси антилопа. Проживала  в савані Східної Афр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Остання тварина  була  побачена перед початком другої світової  війн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За даними ЮНЕСКО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99632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1000 носорог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             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5600 слон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 flipV="1" rot="10800000">
            <a:off x="-1800" y="2923920"/>
            <a:ext cx="882324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ільки в саванах Східної Африк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в 60-х роках ХХ  с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щорічно  убива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66"/>
                </a:solidFill>
                <a:latin typeface="Arial"/>
                <a:ea typeface="Arial"/>
              </a:rPr>
              <a:t>Цих тварин ви вже ніколи  не побачите 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Стихійні явища, з якими необхідно боротис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3300"/>
                </a:solidFill>
                <a:latin typeface="Arial"/>
              </a:rPr>
              <a:t>посухи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2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3300"/>
                </a:solidFill>
                <a:latin typeface="Arial"/>
              </a:rPr>
              <a:t>неврожаї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2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3300"/>
                </a:solidFill>
                <a:latin typeface="Arial"/>
              </a:rPr>
              <a:t>голо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ЗАПОВІДНИК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5946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заповідники– це території, на яких зберігаються  в природному стані всі складов</a:t>
            </a:r>
            <a:r>
              <a:rPr b="1" lang="uk-UA" sz="4000" spc="-1" strike="noStrike">
                <a:solidFill>
                  <a:srgbClr val="990033"/>
                </a:solidFill>
                <a:latin typeface="Arial"/>
              </a:rPr>
              <a:t>і</a:t>
            </a: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 компоненти П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тут дозволяється перебувати лише тим   людям, які виконують наукову та дослідну робот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Зона Сахелю – це район,  де часто бувають посухи</a:t>
            </a:r>
            <a:br>
              <a:rPr sz="4000"/>
            </a:br>
            <a:r>
              <a:rPr b="0" lang="ru-RU" sz="3600" spc="-1" strike="noStrike">
                <a:solidFill>
                  <a:srgbClr val="ffffb7"/>
                </a:solidFill>
                <a:latin typeface="Arial Black"/>
              </a:rPr>
              <a:t>                       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Площа – більш як 2 млн.км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«Сахель» – слово арабське, що означа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край, кордон, смуга землі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ахелем називають область, що розташована на південь від Сахари  та простягається широкою смугою з заходу на схід через усю Північну Африку від Сенегалу до Судан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MAP43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MAP43_T"/>
          <p:cNvPicPr/>
          <p:nvPr/>
        </p:nvPicPr>
        <p:blipFill>
          <a:blip r:embed="rId2"/>
          <a:stretch/>
        </p:blipFill>
        <p:spPr>
          <a:xfrm>
            <a:off x="2124000" y="22320"/>
            <a:ext cx="324000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cc33"/>
                </a:solidFill>
                <a:latin typeface="Arial Black"/>
              </a:rPr>
              <a:t>Оазис в пустелі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4" descr="2854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654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30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4" descr="22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2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4" descr="708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0" y="4365720"/>
            <a:ext cx="873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  останні 10-15 років Сахара  пересунула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південь на 150-200 км. Для спасінн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ван від наступу пустель  створюються лісов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уги протяжністю зі сходу на захід довжиною 1500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0 км. Вони повинні відгороди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емлеробні райони від сухих вітрів пустел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708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6"/>
          <p:cNvSpPr/>
          <p:nvPr/>
        </p:nvSpPr>
        <p:spPr>
          <a:xfrm>
            <a:off x="0" y="476280"/>
            <a:ext cx="9144000" cy="66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ричини  опустелювання  Сахел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стабільність природної зони чер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лу кількість опаді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обхідність населення займати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емлеробств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ідсічно-вогневе землеробст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іст тваринництва та необхідні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гону худоби на пасовищ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рубка дерев та кущів  природної  зони напівпус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Знищуються вічнозелені ліси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За останні 100 років площа лісів зменшилась майже  на 60%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Щорічно в Африці знищуєть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5 млн.га лісі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Відновлення лісів проходить повільн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З кожних 29 га вирубаних лісів відновлюється  1-2 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Національні пар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В національних парках, на відміну від заповідників, можуть перебувати туристи, котрі зобов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'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язані виконувати встановлені правила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Змінюється вигляд первинних саван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Люди розорюють землі під сільськогосподарські  культур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Переважає вирощування монокультур   сорго, бавовника, арахіса, що призводить до  збіднення грунтового  покри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Проект «Велика штучна річка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Обговорюється проект обводнення Сахари шляхом перекиду води з екваториальних широт або з підземних джерел Сахари на відстань 2000-3000 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Але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47" name="Picture 4" descr="BLUERI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0" y="4221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гатство, різноманітність та давність природи Африки виявляє великий інтерес для всього людства. Особливо дивує багатство та неповторність звірів и птахі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берегти цю природну роскіш – основне завдання  всіх держав  континен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Times New Roman"/>
              </a:rPr>
              <a:t>Дякую за уваг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« ЗАПАМ</a:t>
            </a:r>
            <a:r>
              <a:rPr b="1" lang="en-US" sz="6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'</a:t>
            </a: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ЯТАЙ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Ми не власники природних багатств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а лише довірені особи наших нащадків…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1A5"/>
          <p:cNvPicPr/>
          <p:nvPr/>
        </p:nvPicPr>
        <p:blipFill>
          <a:blip r:embed="rId1"/>
          <a:stretch/>
        </p:blipFill>
        <p:spPr>
          <a:xfrm>
            <a:off x="539640" y="5300640"/>
            <a:ext cx="3168720" cy="1197000"/>
          </a:xfrm>
          <a:prstGeom prst="rect">
            <a:avLst/>
          </a:prstGeom>
          <a:ln w="0">
            <a:noFill/>
          </a:ln>
        </p:spPr>
      </p:pic>
      <p:sp>
        <p:nvSpPr>
          <p:cNvPr id="114" name="Line 5"/>
          <p:cNvSpPr/>
          <p:nvPr/>
        </p:nvSpPr>
        <p:spPr>
          <a:xfrm flipV="1">
            <a:off x="2700360" y="6381360"/>
            <a:ext cx="644364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На території Африки розташовано більш як 150 національних парків та заповідників загальною площею 45 млн 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Найбільша кількість природоохоронних територій знаходиться  на Східно-Африканському нагір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'</a:t>
            </a: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ї  та на півдні матер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3"/>
          <p:cNvGraphicFramePr/>
          <p:nvPr/>
        </p:nvGraphicFramePr>
        <p:xfrm>
          <a:off x="826920" y="404640"/>
          <a:ext cx="756144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04640"/>
                    <a:ext cx="756144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ystema</cp:lastModifiedBy>
  <dcterms:modified xsi:type="dcterms:W3CDTF">2017-11-01T09:29:58Z</dcterms:modified>
  <cp:revision>52</cp:revision>
  <dc:subject/>
  <dc:title>PowerPoint Presentation</dc:title>
</cp:coreProperties>
</file>