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1.png" ContentType="image/png"/>
  <Override PartName="/ppt/media/image19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gif" ContentType="image/gif"/>
  <Override PartName="/ppt/media/image18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6.gif" ContentType="image/gif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8C46D-35EA-474D-9797-5854C4FD65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6B614-90E1-4D14-904F-8134014926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86B7C-33F7-476C-BB85-7270650F86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544F5-3178-4860-8137-3174BB33A9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95FD3-31EC-4DFA-A814-D745894671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6A8FA-2FE4-48AD-8EED-7872C914F9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49162-D815-4558-B6B4-67BE600CEB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76934-2794-44EA-8ED2-6011C6EDF5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8C234-25EF-4EBD-9977-714AA0AAB4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A0D0E-3CA8-4173-AACC-A263133A92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54F81-E1F2-481E-8964-D15F2B1D5A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D2430-4BE6-4454-8C25-A186DA6A59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B1747-28D1-4B49-9E5F-2C4333EF14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ED00F-5E08-4E95-8EDD-E127B520DD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847B6-640C-42EC-8714-5C6564F211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7D680-52DB-4BAF-B39F-C7EEFB3C12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E625E-8F88-478F-A969-BF63DC49F4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121A9-A035-46B0-8F45-3E6E379656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F59EC-4EA7-456A-A14A-64A8BC3857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27A98-E66A-4C38-A3BD-0878735B6A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927E6-F0E9-45E0-95EA-1D0069196E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B7BBE-DA7D-489B-A21C-543B925BF2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9F4-F166-4806-84BC-7C7CDEE8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2C2-56FB-4DF1-8E02-3368BE36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755-FAA3-4EA7-9819-677F0A4A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96C-FAFB-4EC7-A33A-DF1425B6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DDC-EA48-4212-9E27-5E016473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309-26F7-4109-8E04-2C9FFB0F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879-F014-4EE4-9543-9C901898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715-0B84-446E-B16F-53A98BC8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1C9-C590-4466-A0A0-C9DE7EF6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871-B8D7-4BFF-B0EB-4425CA1D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1DB-ABFA-47EB-B8D8-BD53EFB6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A10-A5D9-479E-A8BE-947680C7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B32B02-5353-4D9A-80E6-1F6A91FF9F8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724040" y="301680"/>
            <a:ext cx="65768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Богдан Хмельницький: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талановитий державник чи «нерозумний син?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11440" y="301680"/>
            <a:ext cx="695808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«СРСР у пер</a:t>
            </a:r>
            <a:r>
              <a:rPr b="1" i="1" lang="uk-UA" sz="4400" spc="-1" strike="noStrike">
                <a:solidFill>
                  <a:srgbClr val="c00000"/>
                </a:solidFill>
                <a:latin typeface="Arial"/>
              </a:rPr>
              <a:t>іоди “застою” і “перебудови”. Розпад СРСР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:\2 УЧИТЕЛЬ РОКУ 2016\власова\срср.jpg"/>
          <p:cNvPicPr/>
          <p:nvPr/>
        </p:nvPicPr>
        <p:blipFill>
          <a:blip r:embed="rId2"/>
          <a:stretch/>
        </p:blipFill>
        <p:spPr>
          <a:xfrm>
            <a:off x="3468600" y="3708360"/>
            <a:ext cx="5105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25240" y="421920"/>
            <a:ext cx="749484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иток СРСР у період “застою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754360" y="1279440"/>
          <a:ext cx="6719760" cy="5181840"/>
        </p:xfrm>
        <a:graphic>
          <a:graphicData uri="http://schemas.openxmlformats.org/drawingml/2006/table">
            <a:tbl>
              <a:tblPr/>
              <a:tblGrid>
                <a:gridCol w="2239920"/>
                <a:gridCol w="2239920"/>
                <a:gridCol w="2239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ітичне житт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кономічний розви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внішня полі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 “ресталінізації” – повернення до сталінської моделі соціалізму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ономічна реформ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ягнення паритету між СРСР та США в ядерних озброєннях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ушення будь-яких проявів вільнодумств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иження темпів промислового виробництв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рина Брежнєва”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береження монополії КПР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остання дефіциту продуктів першого вжитк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ручання у справи країн Африки і Азії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25240" y="422280"/>
            <a:ext cx="749484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ИСИДЕНСТВО -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уховний, інтелектуальний і моральний супротив закостенілій радянській системі. Учасниками руху була творча інтелігенція. Інакше дисидентів називали «інакомислячі», тобто ті люди, що не були згодні з ідеологією тоталітарного Радянського Сою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:\2 УЧИТЕЛЬ РОКУ 2016\власова\лібералізація_files\big_poster426314.jpg"/>
          <p:cNvPicPr/>
          <p:nvPr/>
        </p:nvPicPr>
        <p:blipFill>
          <a:blip r:embed="rId2"/>
          <a:stretch/>
        </p:blipFill>
        <p:spPr>
          <a:xfrm>
            <a:off x="6611760" y="4208400"/>
            <a:ext cx="2357640" cy="314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:\2 УЧИТЕЛЬ РОКУ 2016\власова\солженицин.jpg"/>
          <p:cNvPicPr/>
          <p:nvPr/>
        </p:nvPicPr>
        <p:blipFill>
          <a:blip r:embed="rId3"/>
          <a:stretch/>
        </p:blipFill>
        <p:spPr>
          <a:xfrm>
            <a:off x="2611440" y="4422600"/>
            <a:ext cx="382284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25240" y="421920"/>
            <a:ext cx="749484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«Какие стройки, спутники в стране!</a:t>
            </a:r>
            <a:br>
              <a:rPr sz="2400"/>
            </a:b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о потеряли мы в пути неровном</a:t>
            </a:r>
            <a:br>
              <a:rPr sz="2400"/>
            </a:b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И двадцять миллионов на войне,</a:t>
            </a:r>
            <a:br>
              <a:rPr sz="2400"/>
            </a:b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И миллионы – на войне с народом.</a:t>
            </a:r>
            <a:br>
              <a:rPr sz="2400"/>
            </a:b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быть об этом, память отрубив?</a:t>
            </a:r>
            <a:br>
              <a:rPr sz="2400"/>
            </a:b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о где топор, что память враз отрубит?</a:t>
            </a:r>
            <a:br>
              <a:rPr sz="2400"/>
            </a:b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икто, как мы, так не спасал других,</a:t>
            </a:r>
            <a:br>
              <a:rPr sz="2400"/>
            </a:b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икто, как мы, так сам себя не губит…»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Євтушенко,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:\2 УЧИТЕЛЬ РОКУ 2016\Новая папка\12.jpg"/>
          <p:cNvPicPr/>
          <p:nvPr/>
        </p:nvPicPr>
        <p:blipFill>
          <a:blip r:embed="rId2"/>
          <a:stretch/>
        </p:blipFill>
        <p:spPr>
          <a:xfrm>
            <a:off x="2968560" y="3922560"/>
            <a:ext cx="2156040" cy="320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:\2 УЧИТЕЛЬ РОКУ 2016\Новая папка\12а.jpeg"/>
          <p:cNvPicPr/>
          <p:nvPr/>
        </p:nvPicPr>
        <p:blipFill>
          <a:blip r:embed="rId3"/>
          <a:stretch/>
        </p:blipFill>
        <p:spPr>
          <a:xfrm>
            <a:off x="5969160" y="4351320"/>
            <a:ext cx="3674880" cy="27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25240" y="422280"/>
            <a:ext cx="749484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середині 1980-х років СРСР охопила криза, а у 1982 році до влади на короткий термін прийшов Юрій Андропов. У 1985 році лідером КПРС став Михайло Горбачов. З його приходом до влади в житті СРСР відбулися докорінні зміни, які увійшли в історію як “перебудов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:\2 УЧИТЕЛЬ РОКУ 2016\власова\горбачев.jpg"/>
          <p:cNvPicPr/>
          <p:nvPr/>
        </p:nvPicPr>
        <p:blipFill>
          <a:blip r:embed="rId2"/>
          <a:stretch/>
        </p:blipFill>
        <p:spPr>
          <a:xfrm>
            <a:off x="6040440" y="349416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H:\2 УЧИТЕЛЬ РОКУ 2016\власова\перестройка.png"/>
          <p:cNvPicPr/>
          <p:nvPr/>
        </p:nvPicPr>
        <p:blipFill>
          <a:blip r:embed="rId3"/>
          <a:stretch/>
        </p:blipFill>
        <p:spPr>
          <a:xfrm>
            <a:off x="0" y="1422360"/>
            <a:ext cx="2276640" cy="1424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:\2 УЧИТЕЛЬ РОКУ 2016\власова\лібералізація_files\img19.jpg"/>
          <p:cNvPicPr/>
          <p:nvPr/>
        </p:nvPicPr>
        <p:blipFill>
          <a:blip r:embed="rId4"/>
          <a:stretch/>
        </p:blipFill>
        <p:spPr>
          <a:xfrm>
            <a:off x="2325600" y="2922480"/>
            <a:ext cx="362268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25240" y="-360"/>
            <a:ext cx="749484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иток СРСР періоду “перебудов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25600" y="708120"/>
          <a:ext cx="7358040" cy="6431040"/>
        </p:xfrm>
        <a:graphic>
          <a:graphicData uri="http://schemas.openxmlformats.org/drawingml/2006/table">
            <a:tbl>
              <a:tblPr/>
              <a:tblGrid>
                <a:gridCol w="2452680"/>
                <a:gridCol w="2452680"/>
                <a:gridCol w="245268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кономічні рефор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ітичне житт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внішня полі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еншено планові показник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корення соціально-економічного розвитку (реформа Рижкова – Абалкіна та Шаталіна – Явлінського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ізація переговорного процесу (СРСР став більш відкритим для світового співтоваритства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більшення обсягу держзамовлень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сність (“Про пресу “ – 1990рік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інчення “холодної війни”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олошення економічної самостійності підприємств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кратизація суспільно- політичних віднос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пинення інтервенції в Афганістані (лютий 1989 ро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згортання кооперативного руху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ширення “чорного ринку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15" name="Picture 2" descr="H:\2 УЧИТЕЛЬ РОКУ 2016\власова\лібералізація_files\preview_91.gif"/>
          <p:cNvPicPr/>
          <p:nvPr/>
        </p:nvPicPr>
        <p:blipFill>
          <a:blip r:embed="rId2"/>
          <a:stretch/>
        </p:blipFill>
        <p:spPr>
          <a:xfrm>
            <a:off x="5254560" y="5565600"/>
            <a:ext cx="2405160" cy="16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25240" y="421920"/>
            <a:ext cx="749484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ОЛІТИЧНА РЕФОРМ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овий виборчий закон;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проведення з’їзду народних депутатів СРСР;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створення постійного законодавчого органу Верховної Ради СРСР.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МОГИ СКАСУВАТИ СТ. 6 КОНСТИТУЦІЇ СРСР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:\2 УЧИТЕЛЬ РОКУ 2016\власова\лібералізація_files\i-31617.jpg"/>
          <p:cNvPicPr/>
          <p:nvPr/>
        </p:nvPicPr>
        <p:blipFill>
          <a:blip r:embed="rId2"/>
          <a:stretch/>
        </p:blipFill>
        <p:spPr>
          <a:xfrm>
            <a:off x="6326280" y="2851200"/>
            <a:ext cx="3405240" cy="451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H:\2 УЧИТЕЛЬ РОКУ 2016\власова\конституція плакат.jpg"/>
          <p:cNvPicPr/>
          <p:nvPr/>
        </p:nvPicPr>
        <p:blipFill>
          <a:blip r:embed="rId3"/>
          <a:stretch/>
        </p:blipFill>
        <p:spPr>
          <a:xfrm>
            <a:off x="2325600" y="3565440"/>
            <a:ext cx="3810240" cy="2664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6"/>
          <p:cNvSpPr/>
          <p:nvPr/>
        </p:nvSpPr>
        <p:spPr>
          <a:xfrm>
            <a:off x="2325600" y="6494400"/>
            <a:ext cx="4357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90 РІК – СКАСУВАЛИ СТ.6, ВВЕЛИ ІНСТИТУТ ПРЕЗИДЕНТ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25240" y="422280"/>
            <a:ext cx="749484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КТИВІЗАЦІЯ НАЦІОНАЛЬНО-ВИЗВОЛЬНОГО РУХУ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Парад суверенітетів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:\2 УЧИТЕЛЬ РОКУ 2016\власова\парад суверенитотов.jpg"/>
          <p:cNvPicPr/>
          <p:nvPr/>
        </p:nvPicPr>
        <p:blipFill>
          <a:blip r:embed="rId2"/>
          <a:stretch/>
        </p:blipFill>
        <p:spPr>
          <a:xfrm>
            <a:off x="2897280" y="2494080"/>
            <a:ext cx="63799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25240" y="421920"/>
            <a:ext cx="749484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ло створено союзний договір, попереднє підписання якого мало відбутися 20 серпня 1991 року.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9 серпня – спроба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утчу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бройного виступу групи змовників (8 осіб) з метою здійснення державного перевороту. Створено ДКНС – Державний комітет з надзвичайного стану. Спроба провалилася, змовників заарештували. Діяльність КПРС було припинено, ліквідовано КД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H:\2 УЧИТЕЛЬ РОКУ 2016\Новая папка\17.jpg"/>
          <p:cNvPicPr/>
          <p:nvPr/>
        </p:nvPicPr>
        <p:blipFill>
          <a:blip r:embed="rId2"/>
          <a:stretch/>
        </p:blipFill>
        <p:spPr>
          <a:xfrm>
            <a:off x="3897360" y="4351320"/>
            <a:ext cx="4667040" cy="29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25240" y="279000"/>
            <a:ext cx="749484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23 серпня по 1 вересня 1991 року проголосили незалежність Естонія, Латвія, Україна, Молдова, Азербайджан, Киргизстан, Узбекистан. 1 грудня 1991 року – референдум в Україні, 91% висловилося за незалежність.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 грудня 1991 року – зустріч керівників України, Білорусі та Росії в Біловезькій Пущі (біля м.Брест), де було остаточно вирішено питання про ліквідацію СРС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H:\2 УЧИТЕЛЬ РОКУ 2016\Новая папка\18.png"/>
          <p:cNvPicPr/>
          <p:nvPr/>
        </p:nvPicPr>
        <p:blipFill>
          <a:blip r:embed="rId2"/>
          <a:stretch/>
        </p:blipFill>
        <p:spPr>
          <a:xfrm>
            <a:off x="2397240" y="4422600"/>
            <a:ext cx="2952720" cy="248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:\2 УЧИТЕЛЬ РОКУ 2016\Новая папка\18а.jpg"/>
          <p:cNvPicPr/>
          <p:nvPr/>
        </p:nvPicPr>
        <p:blipFill>
          <a:blip r:embed="rId3"/>
          <a:stretch/>
        </p:blipFill>
        <p:spPr>
          <a:xfrm>
            <a:off x="5183280" y="4565520"/>
            <a:ext cx="4678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25240" y="636480"/>
            <a:ext cx="749484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цей же час створили ще один документ – Угоду про створення СНД (Співдружності Незалежних Держав).  25 грудня 1991 року Горбачов виступив по телебаченню із заявою про припинення своєї діяльності на посту президента. Росія вступила у новий етап свого розвитку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H:\2 УЧИТЕЛЬ РОКУ 2016\Новая папка\6а.jpg"/>
          <p:cNvPicPr/>
          <p:nvPr/>
        </p:nvPicPr>
        <p:blipFill>
          <a:blip r:embed="rId2"/>
          <a:stretch/>
        </p:blipFill>
        <p:spPr>
          <a:xfrm>
            <a:off x="2540160" y="2208240"/>
            <a:ext cx="714348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25240" y="421920"/>
            <a:ext cx="7494840" cy="662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4400" spc="-1" strike="noStrike">
                <a:solidFill>
                  <a:srgbClr val="ff0000"/>
                </a:solidFill>
                <a:latin typeface="Arial"/>
              </a:rPr>
              <a:t>МЕТА УРОК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дати характеристику політичному, соціально-економічному, повсякденному і культурному життю в СРСР періодів “застою” та “перебудови”; висловити оцінку діяльності радянських лідерів; визначити поняття і причини появи дисидентського руху; встановити причини розпаду СРСР;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розвивати критичне мислення; вміння аналізувати, порівнювати, співставляти, систематизувати інформацію, висловлювати власні думки;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виховувати почуття патіотизму, толерантності та поваги до інших народ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25240" y="421920"/>
            <a:ext cx="749484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АЗЛИ”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працюємо раз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:\2 УЧИТЕЛЬ РОКУ 2016\власова\розпад срср  5 тыс изображений найдено в Яндекс.Картинках_files\1_002.jpg"/>
          <p:cNvPicPr/>
          <p:nvPr/>
        </p:nvPicPr>
        <p:blipFill>
          <a:blip r:embed="rId2"/>
          <a:stretch/>
        </p:blipFill>
        <p:spPr>
          <a:xfrm>
            <a:off x="1754280" y="1708200"/>
            <a:ext cx="8082000" cy="2343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:\2 УЧИТЕЛЬ РОКУ 2016\Новая папка\20.jpg"/>
          <p:cNvPicPr/>
          <p:nvPr/>
        </p:nvPicPr>
        <p:blipFill>
          <a:blip r:embed="rId3"/>
          <a:stretch/>
        </p:blipFill>
        <p:spPr>
          <a:xfrm>
            <a:off x="4254480" y="4280040"/>
            <a:ext cx="3214800" cy="29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25240" y="421920"/>
            <a:ext cx="749484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Опрацювати параграф 16 у підручнику;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Стор.119 – таблиця (письмово);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 Скласти політичний портрет Л.Брежнєва, М.Горбачова (на вибі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H:\2 УЧИТЕЛЬ РОКУ 2016\Новая папка\21.gif"/>
          <p:cNvPicPr/>
          <p:nvPr/>
        </p:nvPicPr>
        <p:blipFill>
          <a:blip r:embed="rId2"/>
          <a:stretch/>
        </p:blipFill>
        <p:spPr>
          <a:xfrm>
            <a:off x="4468680" y="4137120"/>
            <a:ext cx="305748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25240" y="421920"/>
            <a:ext cx="749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uk-UA" sz="4400" spc="-1" strike="noStrike">
                <a:solidFill>
                  <a:srgbClr val="ff0000"/>
                </a:solidFill>
                <a:latin typeface="Arial"/>
              </a:rPr>
              <a:t>ПЛАН УРОКУ:</a:t>
            </a:r>
            <a:br>
              <a:rPr sz="4400"/>
            </a:br>
            <a:br>
              <a:rPr sz="4400"/>
            </a:br>
            <a:r>
              <a:rPr b="0" i="1" lang="uk-UA" sz="3200" spc="-1" strike="noStrike">
                <a:solidFill>
                  <a:srgbClr val="ff0000"/>
                </a:solidFill>
                <a:latin typeface="Arial"/>
              </a:rPr>
              <a:t>1. Загальна характеристика суспільно-політичного життя у СРСР в період “застою”</a:t>
            </a:r>
            <a:br>
              <a:rPr sz="3200"/>
            </a:br>
            <a:r>
              <a:rPr b="0" i="1" lang="uk-UA" sz="3200" spc="-1" strike="noStrike">
                <a:solidFill>
                  <a:srgbClr val="ff0000"/>
                </a:solidFill>
                <a:latin typeface="Arial"/>
              </a:rPr>
              <a:t>2. Дисидентський рух</a:t>
            </a:r>
            <a:br>
              <a:rPr sz="3200"/>
            </a:br>
            <a:r>
              <a:rPr b="0" i="1" lang="uk-UA" sz="3200" spc="-1" strike="noStrike">
                <a:solidFill>
                  <a:srgbClr val="ff0000"/>
                </a:solidFill>
                <a:latin typeface="Arial"/>
              </a:rPr>
              <a:t>3. Період “перебудови”. М.Горбачов</a:t>
            </a:r>
            <a:br>
              <a:rPr sz="3200"/>
            </a:br>
            <a:r>
              <a:rPr b="0" i="1" lang="uk-UA" sz="3200" spc="-1" strike="noStrike">
                <a:solidFill>
                  <a:srgbClr val="ff0000"/>
                </a:solidFill>
                <a:latin typeface="Arial"/>
              </a:rPr>
              <a:t>4. Лібералізація. Політична реформа.</a:t>
            </a:r>
            <a:br>
              <a:rPr sz="3200"/>
            </a:br>
            <a:r>
              <a:rPr b="0" i="1" lang="uk-UA" sz="3200" spc="-1" strike="noStrike">
                <a:solidFill>
                  <a:srgbClr val="ff0000"/>
                </a:solidFill>
                <a:latin typeface="Arial"/>
              </a:rPr>
              <a:t>5. Розпад СР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:\2 УЧИТЕЛЬ РОКУ 2016\власова\целина.jpg"/>
          <p:cNvPicPr/>
          <p:nvPr/>
        </p:nvPicPr>
        <p:blipFill>
          <a:blip r:embed="rId2"/>
          <a:stretch/>
        </p:blipFill>
        <p:spPr>
          <a:xfrm>
            <a:off x="5540400" y="4280040"/>
            <a:ext cx="4254480" cy="303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H:\2 УЧИТЕЛЬ РОКУ 2016\Новая папка\4а.gif"/>
          <p:cNvPicPr/>
          <p:nvPr/>
        </p:nvPicPr>
        <p:blipFill>
          <a:blip r:embed="rId3"/>
          <a:stretch/>
        </p:blipFill>
        <p:spPr>
          <a:xfrm>
            <a:off x="2397240" y="351000"/>
            <a:ext cx="1428480" cy="2381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:\2 УЧИТЕЛЬ РОКУ 2016\Новая папка\4б.jpg"/>
          <p:cNvPicPr/>
          <p:nvPr/>
        </p:nvPicPr>
        <p:blipFill>
          <a:blip r:embed="rId4"/>
          <a:stretch/>
        </p:blipFill>
        <p:spPr>
          <a:xfrm>
            <a:off x="3968640" y="493560"/>
            <a:ext cx="4762440" cy="353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:\2 УЧИТЕЛЬ РОКУ 2016\Новая папка\5.gif"/>
          <p:cNvPicPr/>
          <p:nvPr/>
        </p:nvPicPr>
        <p:blipFill>
          <a:blip r:embed="rId5"/>
          <a:stretch/>
        </p:blipFill>
        <p:spPr>
          <a:xfrm>
            <a:off x="2754360" y="4422600"/>
            <a:ext cx="2062080" cy="2405160"/>
          </a:xfrm>
          <a:prstGeom prst="rect">
            <a:avLst/>
          </a:prstGeom>
          <a:ln w="0">
            <a:noFill/>
          </a:ln>
        </p:spPr>
      </p:pic>
      <p:pic>
        <p:nvPicPr>
          <p:cNvPr id="66" name="Sovetskie_pesni_Zemlya_celinnaya_(vmusice.net).mp3" descr=""/>
          <p:cNvPicPr/>
          <p:nvPr/>
        </p:nvPicPr>
        <p:blipFill>
          <a:blip r:embed="rId6"/>
          <a:stretch/>
        </p:blipFill>
        <p:spPr>
          <a:xfrm>
            <a:off x="2968560" y="292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49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:\2 УЧИТЕЛЬ РОКУ 2016\власова\кукуруза.jpg"/>
          <p:cNvPicPr/>
          <p:nvPr/>
        </p:nvPicPr>
        <p:blipFill>
          <a:blip r:embed="rId2"/>
          <a:stretch/>
        </p:blipFill>
        <p:spPr>
          <a:xfrm>
            <a:off x="5468760" y="636480"/>
            <a:ext cx="4211640" cy="6215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H:\2 УЧИТЕЛЬ РОКУ 2016\власова\хр і кукурудза.jpg"/>
          <p:cNvPicPr/>
          <p:nvPr/>
        </p:nvPicPr>
        <p:blipFill>
          <a:blip r:embed="rId3"/>
          <a:stretch/>
        </p:blipFill>
        <p:spPr>
          <a:xfrm>
            <a:off x="1254240" y="1208160"/>
            <a:ext cx="4064040" cy="302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:\2 УЧИТЕЛЬ РОКУ 2016\Новая папка\5.gif"/>
          <p:cNvPicPr/>
          <p:nvPr/>
        </p:nvPicPr>
        <p:blipFill>
          <a:blip r:embed="rId4"/>
          <a:stretch/>
        </p:blipFill>
        <p:spPr>
          <a:xfrm>
            <a:off x="3111480" y="4708440"/>
            <a:ext cx="16938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25240" y="421920"/>
            <a:ext cx="74948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СОЦ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І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:\2 УЧИТЕЛЬ РОКУ 2016\Новая папка\6.jpg"/>
          <p:cNvPicPr/>
          <p:nvPr/>
        </p:nvPicPr>
        <p:blipFill>
          <a:blip r:embed="rId2"/>
          <a:stretch/>
        </p:blipFill>
        <p:spPr>
          <a:xfrm>
            <a:off x="3254400" y="1494000"/>
            <a:ext cx="614196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39760" y="565200"/>
            <a:ext cx="771552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танні роки перебування Хрущова у влади (1962-1964рр.) запам’яталися як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період кризи та безладд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збільшились ціна на продовольство (до 40%);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погіршилось постачання продуктів харчування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4 жовтня 1964 року на пленумі ЦК КПРС проти Хрущова виступив Михайло Суслов. Керівника партії усунули від влади і відправили на пенсі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H:\2 УЧИТЕЛЬ РОКУ 2016\власова\пенсия Хрущов.jpg"/>
          <p:cNvPicPr/>
          <p:nvPr/>
        </p:nvPicPr>
        <p:blipFill>
          <a:blip r:embed="rId2"/>
          <a:stretch/>
        </p:blipFill>
        <p:spPr>
          <a:xfrm>
            <a:off x="4540320" y="5137200"/>
            <a:ext cx="31431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25240" y="707760"/>
            <a:ext cx="7494840" cy="25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964 року першим секретарем ЦК КПРС стає Леонід Брежнєв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Його 18-річне правління увійшло в історію як період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“застою”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скасування реформ Хрущова, відсутність розвитку. Термін взято із доповіді  М.Горбачова (1980рр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2825640" y="3422520"/>
            <a:ext cx="657252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ласна назва цього періоду - «розвин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ціалізм». В цей період в радянськ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спільстві складалися передумови глибоко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ної кризи — економічної та соціальної, які врешті призвели до краху радянської економіки та    політичного розпаду СР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H:\2 УЧИТЕЛЬ РОКУ 2016\власова\бр.карикатура.gif"/>
          <p:cNvPicPr/>
          <p:nvPr/>
        </p:nvPicPr>
        <p:blipFill>
          <a:blip r:embed="rId2"/>
          <a:stretch/>
        </p:blipFill>
        <p:spPr>
          <a:xfrm>
            <a:off x="182520" y="1208160"/>
            <a:ext cx="2486160" cy="353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:\2 УЧИТЕЛЬ РОКУ 2016\власова\дефіцит_files\p1-olympics-z-20140208.jpg"/>
          <p:cNvPicPr/>
          <p:nvPr/>
        </p:nvPicPr>
        <p:blipFill>
          <a:blip r:embed="rId3"/>
          <a:stretch/>
        </p:blipFill>
        <p:spPr>
          <a:xfrm>
            <a:off x="6754680" y="5521320"/>
            <a:ext cx="2643480" cy="1820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H:\2 УЧИТЕЛЬ РОКУ 2016\власова\дефіцит_files\i_051.jpg"/>
          <p:cNvPicPr/>
          <p:nvPr/>
        </p:nvPicPr>
        <p:blipFill>
          <a:blip r:embed="rId4"/>
          <a:stretch/>
        </p:blipFill>
        <p:spPr>
          <a:xfrm>
            <a:off x="3754440" y="5923080"/>
            <a:ext cx="107172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446040" y="6937200"/>
            <a:ext cx="9070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H:\2 УЧИТЕЛЬ РОКУ 2016\71133849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25240" y="421920"/>
            <a:ext cx="749484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НЕОСТАЛІНІЗМ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відновлення економічної, політичної, репресивної системи, культу особи, з деякими урахуваннями сучасного розвитку;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спроби реабілітувати Сталін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:\2 УЧИТЕЛЬ РОКУ 2016\власова\дефіцит_files\i_027.jpg"/>
          <p:cNvPicPr/>
          <p:nvPr/>
        </p:nvPicPr>
        <p:blipFill>
          <a:blip r:embed="rId2"/>
          <a:stretch/>
        </p:blipFill>
        <p:spPr>
          <a:xfrm>
            <a:off x="3254400" y="3208320"/>
            <a:ext cx="5348160" cy="400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1T20:58:23Z</dcterms:created>
  <dc:creator/>
  <dc:description/>
  <dc:language>en-US</dc:language>
  <cp:lastModifiedBy>Пользователь</cp:lastModifiedBy>
  <dcterms:modified xsi:type="dcterms:W3CDTF">2016-01-20T07:48:58Z</dcterms:modified>
  <cp:revision>38</cp:revision>
  <dc:subject/>
  <dc:title>Слайд 1</dc:title>
</cp:coreProperties>
</file>