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D09E-7ED1-4970-95F9-1F014F953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9A1D-AD2D-4A00-A85A-B2D21D11A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981F-ED6F-420A-80CF-55965AC624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82E-13D1-42DD-B50C-F2A5B837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84C-BE6E-4BE5-B35A-F1179C06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00D-2927-4C5E-B8D1-065585ED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F48-6A3C-4DF5-A154-B1B316D3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72BB-55F9-4C10-97F0-E0A8C5E9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F1D6-A7FB-4B61-B754-F3F37436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3214-18CB-4F76-A3AC-28081B16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77F5-C54E-4CD0-8F26-AF422B45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FA23-2700-44EF-A72D-ED7DDBAC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69B4-02D9-43D1-ABBE-17CBF766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D65D-1B7A-4DD6-B6D3-01F7A59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514-D76B-486B-AF87-72AEFDD9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C73C-BDD1-40A6-AE79-46AD33BF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F4D9-5E33-4712-A4A6-6AA730E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6BC5-247A-4DBA-91D5-BBE83242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FA57-A93E-4355-BEBC-3DD28D14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2B8C-483A-4B9B-8A09-5EC3B671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3DE-AEBD-4F61-8A67-287A9EF5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FBE-BF22-4ED3-8213-AAAA622F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531-3B90-4D28-A94D-B778B34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DF9-C977-456F-9024-FB7AC75C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BEF-3F9D-4C29-833A-E4918BD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5FB-1371-4E3A-A936-1BE2437D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C70-E07B-4ADA-90D0-981ABD38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FEE1-77A2-4D3F-8FA6-75452106B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87CC-275E-426E-9454-277813E9E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3" descr="Летняя пора —Ю. Ладыгин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Кие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7" descr=""/>
          <p:cNvPicPr/>
          <p:nvPr/>
        </p:nvPicPr>
        <p:blipFill>
          <a:blip r:embed="rId2"/>
          <a:stretch/>
        </p:blipFill>
        <p:spPr>
          <a:xfrm>
            <a:off x="1328760" y="-109440"/>
            <a:ext cx="6046920" cy="142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Лі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5" descr=""/>
          <p:cNvPicPr/>
          <p:nvPr/>
        </p:nvPicPr>
        <p:blipFill>
          <a:blip r:embed="rId2"/>
          <a:stretch/>
        </p:blipFill>
        <p:spPr>
          <a:xfrm>
            <a:off x="1627200" y="298440"/>
            <a:ext cx="5651640" cy="185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4" descr="117352787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6" descr=""/>
          <p:cNvPicPr/>
          <p:nvPr/>
        </p:nvPicPr>
        <p:blipFill>
          <a:blip r:embed="rId2"/>
          <a:stretch/>
        </p:blipFill>
        <p:spPr>
          <a:xfrm>
            <a:off x="2120760" y="0"/>
            <a:ext cx="531036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gora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8" descr=""/>
          <p:cNvPicPr/>
          <p:nvPr/>
        </p:nvPicPr>
        <p:blipFill>
          <a:blip r:embed="rId2"/>
          <a:stretch/>
        </p:blipFill>
        <p:spPr>
          <a:xfrm>
            <a:off x="2425680" y="182520"/>
            <a:ext cx="4340160" cy="185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3" descr="http://pernatidruzi.org.ua/pictures/djatsyr/s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Cv_rkun_-_Cv_r_n_(get-tune.net).mp3" descr=""/>
          <p:cNvPicPr/>
          <p:nvPr/>
        </p:nvPicPr>
        <p:blipFill>
          <a:blip r:embed="rId2"/>
          <a:stretch/>
        </p:blipFill>
        <p:spPr>
          <a:xfrm>
            <a:off x="569880" y="48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kuznechi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http://mahnograd.com/uploadimg/09_12/18/mahnograd_ruimhdmqc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одержимое 3" descr="http://www.artekovetc.ru/gorodok_r/foto_gor/0_leo/l_r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4" descr="га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гор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668600" y="53816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жон  Кіт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( 1795 – 182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http://www.ukrlit.vn.ua/zaruba/biography/kits.jpg"/>
          <p:cNvPicPr/>
          <p:nvPr/>
        </p:nvPicPr>
        <p:blipFill>
          <a:blip r:embed="rId1"/>
          <a:stretch/>
        </p:blipFill>
        <p:spPr>
          <a:xfrm>
            <a:off x="2548080" y="439560"/>
            <a:ext cx="4044960" cy="4619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4" descr="доли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myimage" descr="&amp;scy;&amp;tcy;&amp;iecy;&amp;rcy;&amp;ncy;&amp;yacy; &amp;pcy;&amp;ocy;&amp;lcy;&amp;yacy; &amp;Scy;&amp;tcy;&amp;ocy;&amp;kcy;&amp;ocy;&amp;vcy;&amp;ycy;&amp;iecy; &amp;Fcy;&amp;ocy;&amp;tcy;&amp;ocy;&amp;gcy;&amp;rcy;&amp;acy;&amp;fcy;&amp;icy;&amp;icy; RF - &amp;icy;&amp;zcy;&amp;ocy;&amp;bcy;&amp;rcy;&amp;acy;&amp;zhcy;&amp;iecy;&amp;ncy;&amp;icy;&amp;iecy;: 1523497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4" descr="кон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4" descr="cіно.jpg"/>
          <p:cNvPicPr/>
          <p:nvPr/>
        </p:nvPicPr>
        <p:blipFill>
          <a:blip r:embed="rId1"/>
          <a:stretch/>
        </p:blipFill>
        <p:spPr>
          <a:xfrm>
            <a:off x="1770120" y="0"/>
            <a:ext cx="4600440" cy="6748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3" descr="http://stihi.ru/pics/2011/11/06/1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одержимое 4" descr="камі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4" descr="цвіркун.jpg"/>
          <p:cNvPicPr/>
          <p:nvPr/>
        </p:nvPicPr>
        <p:blipFill>
          <a:blip r:embed="rId1"/>
          <a:stretch/>
        </p:blipFill>
        <p:spPr>
          <a:xfrm>
            <a:off x="1652760" y="19080"/>
            <a:ext cx="5425920" cy="683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85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ли -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до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Содержимое 3" descr="http://dolina38.com/images/objects/77/v5_big.jpg"/>
          <p:cNvPicPr/>
          <p:nvPr/>
        </p:nvPicPr>
        <p:blipFill>
          <a:blip r:embed="rId1"/>
          <a:stretch/>
        </p:blipFill>
        <p:spPr>
          <a:xfrm>
            <a:off x="384120" y="1268280"/>
            <a:ext cx="8375760" cy="5294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ник,цвіркун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uk-UA" sz="3600" spc="-1" strike="noStrike">
                <a:solidFill>
                  <a:srgbClr val="00b050"/>
                </a:solidFill>
                <a:latin typeface="Arial"/>
              </a:rPr>
              <a:t>комаха, яка тертям крил створює тріскучі зв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4" descr="2617.jpg"/>
          <p:cNvPicPr/>
          <p:nvPr/>
        </p:nvPicPr>
        <p:blipFill>
          <a:blip r:embed="rId1"/>
          <a:stretch/>
        </p:blipFill>
        <p:spPr>
          <a:xfrm>
            <a:off x="1247760" y="1816200"/>
            <a:ext cx="744372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9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іножат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uk-UA" sz="4400" spc="-1" strike="noStrike">
                <a:solidFill>
                  <a:srgbClr val="00b050"/>
                </a:solidFill>
                <a:latin typeface="Arial"/>
              </a:rPr>
              <a:t>місце, відведене для косіння трави на сі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3" descr="http://mahnograd.com/uploadimg/09_12/18/mahnograd_ruimhdmqcy.jpg"/>
          <p:cNvPicPr/>
          <p:nvPr/>
        </p:nvPicPr>
        <p:blipFill>
          <a:blip r:embed="rId1"/>
          <a:stretch/>
        </p:blipFill>
        <p:spPr>
          <a:xfrm>
            <a:off x="208080" y="1620720"/>
            <a:ext cx="8686800" cy="5015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1520" y="249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00b050"/>
                </a:solidFill>
                <a:latin typeface="Arial"/>
              </a:rPr>
              <a:t>«Про  коника </a:t>
            </a:r>
            <a:br>
              <a:rPr sz="6600"/>
            </a:br>
            <a:r>
              <a:rPr b="1" lang="uk-UA" sz="6600" spc="-1" strike="noStrike">
                <a:solidFill>
                  <a:srgbClr val="00b050"/>
                </a:solidFill>
                <a:latin typeface="Arial"/>
              </a:rPr>
              <a:t> та </a:t>
            </a:r>
            <a:br>
              <a:rPr sz="6600"/>
            </a:br>
            <a:r>
              <a:rPr b="1" lang="uk-UA" sz="6600" spc="-1" strike="noStrike">
                <a:solidFill>
                  <a:srgbClr val="00b050"/>
                </a:solidFill>
                <a:latin typeface="Arial"/>
              </a:rPr>
              <a:t> цвіркун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2" descr=""/>
          <p:cNvPicPr/>
          <p:nvPr/>
        </p:nvPicPr>
        <p:blipFill>
          <a:blip r:embed="rId1"/>
          <a:stretch/>
        </p:blipFill>
        <p:spPr>
          <a:xfrm>
            <a:off x="2189160" y="639720"/>
            <a:ext cx="567540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РЯДКА1.avi"/>
          <p:cNvSpPr/>
          <p:nvPr/>
        </p:nvSpPr>
        <p:spPr>
          <a:xfrm>
            <a:off x="914400" y="685800"/>
            <a:ext cx="7315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6988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-  таємниця людського житт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4" descr="http://go2.imgsmail.ru/imgpreview?key=http%3A//2photo.ru/uploads/posts/600px/20008/20091113/karlson444/74%5Fkarlson444.jpg&amp;mb=imgdb_preview_1745"/>
          <p:cNvPicPr/>
          <p:nvPr/>
        </p:nvPicPr>
        <p:blipFill>
          <a:blip r:embed="rId1"/>
          <a:stretch/>
        </p:blipFill>
        <p:spPr>
          <a:xfrm>
            <a:off x="387360" y="1746360"/>
            <a:ext cx="3782880" cy="4419360"/>
          </a:xfrm>
          <a:prstGeom prst="rect">
            <a:avLst/>
          </a:prstGeom>
          <a:ln w="0">
            <a:noFill/>
          </a:ln>
        </p:spPr>
      </p:pic>
      <p:pic>
        <p:nvPicPr>
          <p:cNvPr id="147" name="Содержимое 5" descr="http://bfoto.ru/foto/forest/bfoto_ru_287.jpg"/>
          <p:cNvPicPr/>
          <p:nvPr/>
        </p:nvPicPr>
        <p:blipFill>
          <a:blip r:embed="rId2"/>
          <a:stretch/>
        </p:blipFill>
        <p:spPr>
          <a:xfrm>
            <a:off x="4703760" y="1731960"/>
            <a:ext cx="4038480" cy="4405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727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339840" y="399960"/>
            <a:ext cx="880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0f0f0"/>
                </a:solidFill>
                <a:latin typeface="Times New Roman"/>
                <a:ea typeface="Times New Roman"/>
              </a:rPr>
              <a:t>Осенний пейзаж Е. Е. Во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Shopen-Val_s-6-Op64-1(muzofon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3827520" y="0"/>
            <a:ext cx="5316480" cy="69404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425520" y="1616040"/>
            <a:ext cx="325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Шишкин. Мостик в лесу. 18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Объект 3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1339920" y="5826240"/>
            <a:ext cx="76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Ильич Левитан Март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Содержимое 3" descr="Летняя пора —Ю. Ладыгин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970200" y="5456160"/>
            <a:ext cx="715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няя пора —Ю. Ладыг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одержимое 3" descr="И. Шишкин. Корабельная роща. 1898.jp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1056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1295280" y="6081840"/>
            <a:ext cx="69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Шишкин. Корабельная роща. 18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4760" y="182160"/>
            <a:ext cx="82296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f0"/>
                </a:solidFill>
                <a:latin typeface="Arial"/>
              </a:rPr>
              <a:t>Відповіді  до  тес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674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А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</a:t>
            </a: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іський, сільський, гірський, лісовий, морський, …, …, …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50560" y="309240"/>
            <a:ext cx="840564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Домашнє 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206280" y="4452840"/>
            <a:ext cx="893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но виконати творче завданн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28-129 підручника: «Опишіть картину літнього (зимового, весняного, осіннього) дня (ранку, вечора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-7речен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353880" y="1238400"/>
            <a:ext cx="85838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итися виразно читати, аналізувати вір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Кіт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3587760"/>
          <a:ext cx="5827680" cy="981000"/>
        </p:xfrm>
        <a:graphic>
          <a:graphicData uri="http://schemas.openxmlformats.org/drawingml/2006/table">
            <a:tbl>
              <a:tblPr/>
              <a:tblGrid>
                <a:gridCol w="2844720"/>
                <a:gridCol w="2982960"/>
              </a:tblGrid>
              <a:tr h="24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и літньої прир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и зимової прир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Rectangle 6"/>
          <p:cNvSpPr/>
          <p:nvPr/>
        </p:nvSpPr>
        <p:spPr>
          <a:xfrm>
            <a:off x="206280" y="2100960"/>
            <a:ext cx="893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іть таблицю, обираючи звукові образи з перекладів (українською і російською) й оригіналу вір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7440" y="61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йомитись  із життям і творчістю відомого англійського поета, Джона  Кітс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крити для себе красу поезії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азно читати вірші, спостерігати над поетичним текстом, аналізувати поезі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іти висловлювати свої думки та враження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5" descr="ph05463.jpg"/>
          <p:cNvPicPr/>
          <p:nvPr/>
        </p:nvPicPr>
        <p:blipFill>
          <a:blip r:embed="rId1"/>
          <a:stretch/>
        </p:blipFill>
        <p:spPr>
          <a:xfrm>
            <a:off x="2805120" y="210960"/>
            <a:ext cx="3984480" cy="4921560"/>
          </a:xfrm>
          <a:prstGeom prst="rect">
            <a:avLst/>
          </a:prstGeom>
          <a:ln w="0">
            <a:noFill/>
          </a:ln>
        </p:spPr>
      </p:pic>
      <p:sp>
        <p:nvSpPr>
          <p:cNvPr id="97" name="Текст 3"/>
          <p:cNvSpPr/>
          <p:nvPr/>
        </p:nvSpPr>
        <p:spPr>
          <a:xfrm>
            <a:off x="1668600" y="5381640"/>
            <a:ext cx="5486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жон  Кіт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( 1795 – 182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3520" y="2057040"/>
            <a:ext cx="879012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рш -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сний текст — віршований тві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72216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22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22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Характерні  ознаки  вір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1480" y="1047240"/>
            <a:ext cx="8229600" cy="14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аження людських почуттів, настроїв, думо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501480" y="19065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ликий або середній обсяг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457200" y="4200480"/>
            <a:ext cx="815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а організація (рядків, пауз тощо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442800" y="258444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дність і неподільність змісту (неможливо сприйняти будь-яку частину вірша без урахування цілого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506520" y="4746600"/>
            <a:ext cx="765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 (за рахунок чергування, упорядкованого руху складів, суголосся звукі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12440" y="1366920"/>
            <a:ext cx="796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заж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опис природи будь-якого незамкненого простору зовнішнього світу; види пейзажу різноманітні за змістом (лісові, степові, морські, міські тощо) і призначенням у творі (утілення почуттів, думок, настроїв; розкриття образу; вираження позиції автора тощ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Назвіть  пейзаж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opup_img" descr="http://go3.imgsmail.ru/imgpreview?key=http%3A//photo.carpathian-photo.com/2007-07/01/240.jpg&amp;mb=imgdb_preview_1335"/>
          <p:cNvPicPr/>
          <p:nvPr/>
        </p:nvPicPr>
        <p:blipFill>
          <a:blip r:embed="rId1"/>
          <a:stretch/>
        </p:blipFill>
        <p:spPr>
          <a:xfrm>
            <a:off x="1357200" y="1496880"/>
            <a:ext cx="6942240" cy="501516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2"/>
          <a:stretch/>
        </p:blipFill>
        <p:spPr>
          <a:xfrm>
            <a:off x="1189080" y="5492880"/>
            <a:ext cx="7169040" cy="1663560"/>
          </a:xfrm>
          <a:prstGeom prst="rect">
            <a:avLst/>
          </a:prstGeom>
          <a:ln w="0">
            <a:noFill/>
          </a:ln>
        </p:spPr>
      </p:pic>
      <p:pic>
        <p:nvPicPr>
          <p:cNvPr id="109" name="Krasivaya-muzyka-Zvuki-prirody-gitara-fleyta(muzofon.com).mp3" descr=""/>
          <p:cNvPicPr/>
          <p:nvPr/>
        </p:nvPicPr>
        <p:blipFill>
          <a:blip r:embed="rId3"/>
          <a:stretch/>
        </p:blipFill>
        <p:spPr>
          <a:xfrm>
            <a:off x="879480" y="857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41:29Z</dcterms:created>
  <dc:creator>ppsworld.ru</dc:creator>
  <dc:description/>
  <cp:keywords>фон для power point</cp:keywords>
  <dc:language>en-US</dc:language>
  <cp:lastModifiedBy>Best</cp:lastModifiedBy>
  <dcterms:modified xsi:type="dcterms:W3CDTF">2013-11-12T11:45:49Z</dcterms:modified>
  <cp:revision>67</cp:revision>
  <dc:subject/>
  <dc:title>Слайд 1</dc:title>
</cp:coreProperties>
</file>