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F3B-ECFB-4CF3-BD9D-3D8154E3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1D5-CC65-459E-8574-7F073C2F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C0E-5A9F-433F-AB0B-0445C878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C1B-4F15-4D55-AF27-99E76370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A4D-DDC3-42A0-982A-085074CF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547-4F8B-4EBD-8F38-4999E0C0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A69-E8B5-429B-8610-0F74DA38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FA5-F62C-4A7D-A2DA-0D381C6B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6FE-5BE2-4164-9626-2C2C673B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B72-2985-42AF-AE72-FAAEFF4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322-155B-45FA-8990-56691A2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49A-F499-41E2-854F-E2BCFFBD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A6A-CC32-4DEB-AE68-F75A0F02E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2"/>
          <p:cNvSpPr/>
          <p:nvPr/>
        </p:nvSpPr>
        <p:spPr>
          <a:xfrm>
            <a:off x="785880" y="57168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без             Людина       соловей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857160" y="214308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Вітчизни,                 я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2286000" y="435780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лісу.                 бе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Прямая со стрелкой 16"/>
          <p:cNvCxnSpPr/>
          <p:nvPr/>
        </p:nvCxnSpPr>
        <p:spPr>
          <a:xfrm flipH="1">
            <a:off x="1631520" y="891000"/>
            <a:ext cx="1512000" cy="180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17"/>
          <p:cNvCxnSpPr/>
          <p:nvPr/>
        </p:nvCxnSpPr>
        <p:spPr>
          <a:xfrm>
            <a:off x="1284840" y="1213920"/>
            <a:ext cx="572040" cy="1072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20"/>
          <p:cNvCxnSpPr/>
          <p:nvPr/>
        </p:nvCxnSpPr>
        <p:spPr>
          <a:xfrm>
            <a:off x="4143240" y="2571840"/>
            <a:ext cx="19296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Прямая со стрелкой 23"/>
          <p:cNvCxnSpPr/>
          <p:nvPr/>
        </p:nvCxnSpPr>
        <p:spPr>
          <a:xfrm flipV="1">
            <a:off x="6786720" y="1213560"/>
            <a:ext cx="429120" cy="1358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27"/>
          <p:cNvCxnSpPr/>
          <p:nvPr/>
        </p:nvCxnSpPr>
        <p:spPr>
          <a:xfrm flipH="1">
            <a:off x="6714720" y="1213920"/>
            <a:ext cx="869040" cy="3358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29"/>
          <p:cNvCxnSpPr/>
          <p:nvPr/>
        </p:nvCxnSpPr>
        <p:spPr>
          <a:xfrm flipH="1" flipV="1">
            <a:off x="4071600" y="4785480"/>
            <a:ext cx="164376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57be338de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Прямоугольник 5" descr=""/>
          <p:cNvPicPr/>
          <p:nvPr/>
        </p:nvPicPr>
        <p:blipFill>
          <a:blip r:embed="rId2"/>
          <a:stretch/>
        </p:blipFill>
        <p:spPr>
          <a:xfrm>
            <a:off x="1212840" y="1231920"/>
            <a:ext cx="601668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11"/>
          <p:cNvGrpSpPr/>
          <p:nvPr/>
        </p:nvGrpSpPr>
        <p:grpSpPr>
          <a:xfrm>
            <a:off x="457200" y="1600200"/>
            <a:ext cx="4038120" cy="4524480"/>
            <a:chOff x="457200" y="1600200"/>
            <a:chExt cx="4038120" cy="45244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2855160" y="3030480"/>
              <a:ext cx="905400" cy="1662840"/>
            </a:xfrm>
            <a:prstGeom prst="bentConnector3">
              <a:avLst>
                <a:gd name="adj1" fmla="val 235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2439360" y="3446280"/>
              <a:ext cx="905400" cy="831240"/>
            </a:xfrm>
            <a:prstGeom prst="bentConnector3">
              <a:avLst>
                <a:gd name="adj1" fmla="val 235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>
              <a:off x="2477160" y="3409200"/>
              <a:ext cx="14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H="1" flipV="1" rot="5400000">
              <a:off x="1608120" y="3445560"/>
              <a:ext cx="905400" cy="832680"/>
            </a:xfrm>
            <a:prstGeom prst="bentConnector3">
              <a:avLst>
                <a:gd name="adj1" fmla="val 235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1192680" y="3030120"/>
              <a:ext cx="905400" cy="1663560"/>
            </a:xfrm>
            <a:prstGeom prst="bentConnector3">
              <a:avLst>
                <a:gd name="adj1" fmla="val 235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1033"/>
            <p:cNvSpPr/>
            <p:nvPr/>
          </p:nvSpPr>
          <p:spPr>
            <a:xfrm>
              <a:off x="2120040" y="160020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МОВ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34"/>
            <p:cNvSpPr/>
            <p:nvPr/>
          </p:nvSpPr>
          <p:spPr>
            <a:xfrm>
              <a:off x="45720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128844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212004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37"/>
            <p:cNvSpPr/>
            <p:nvPr/>
          </p:nvSpPr>
          <p:spPr>
            <a:xfrm>
              <a:off x="295164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378288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Picture 8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500040" y="857160"/>
            <a:ext cx="642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`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їзджаються дочки у гості до ді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Ось там Завірюха санчатами  ї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За нею Метелиця слідом мет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Хурделиця Хугу з собою ве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А тільки- но вітер у полі завіє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Як стануть на межі Хуртеча й Заві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Нарешті,удвох з Заметіллю приїх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Найменша –улюблена донечка-Віхо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1928880" y="1214280"/>
            <a:ext cx="3857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Синоніми</a:t>
            </a: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-це слова близькі за значення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85880" y="10000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Йду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428920" y="114300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Поспішають, прямують, шкандибають,дибаю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214280" y="35002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Тіка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786040" y="364320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іжить,минає, ховаєть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драпає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Равнобедренный треугольник 16"/>
          <p:cNvSpPr/>
          <p:nvPr/>
        </p:nvSpPr>
        <p:spPr>
          <a:xfrm>
            <a:off x="571680" y="785880"/>
            <a:ext cx="78552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Равнобедренный треугольник 17"/>
          <p:cNvSpPr/>
          <p:nvPr/>
        </p:nvSpPr>
        <p:spPr>
          <a:xfrm>
            <a:off x="571680" y="2500200"/>
            <a:ext cx="785520" cy="714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Равнобедренный треугольник 13"/>
          <p:cNvSpPr/>
          <p:nvPr/>
        </p:nvSpPr>
        <p:spPr>
          <a:xfrm>
            <a:off x="571680" y="4714920"/>
            <a:ext cx="785520" cy="714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0"/>
          <p:cNvSpPr/>
          <p:nvPr/>
        </p:nvSpPr>
        <p:spPr>
          <a:xfrm>
            <a:off x="1571760" y="21960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права 138- уважно прочитати, дібрати з дужок потрібні за змістом  слова і записати речення. Пояснити свій вибі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1500120" y="2219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права 139-вдосконалити, відредагувати твір Тарасика «Іде зим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Довести правильність своєї дум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1928880" y="4434120"/>
            <a:ext cx="692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Скласти  міркування  із  3-4  речень «Навіщо  допомагати  бра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шим  меншим  взимку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Равнобедренный треугольник 17"/>
          <p:cNvSpPr/>
          <p:nvPr/>
        </p:nvSpPr>
        <p:spPr>
          <a:xfrm>
            <a:off x="571680" y="2500200"/>
            <a:ext cx="785520" cy="714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1928880" y="1000080"/>
            <a:ext cx="4572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Вправа 140(1,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Вправа 140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Равнобедренный треугольник 16"/>
          <p:cNvSpPr/>
          <p:nvPr/>
        </p:nvSpPr>
        <p:spPr>
          <a:xfrm>
            <a:off x="1357200" y="171468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Равнобедренный треугольник 17"/>
          <p:cNvSpPr/>
          <p:nvPr/>
        </p:nvSpPr>
        <p:spPr>
          <a:xfrm>
            <a:off x="2143080" y="171468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Равнобедренный треугольник 8"/>
          <p:cNvSpPr/>
          <p:nvPr/>
        </p:nvSpPr>
        <p:spPr>
          <a:xfrm>
            <a:off x="1643040" y="2571840"/>
            <a:ext cx="57168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09:50Z</dcterms:created>
  <dc:creator>Dom</dc:creator>
  <dc:description/>
  <dc:language>en-US</dc:language>
  <cp:lastModifiedBy>User</cp:lastModifiedBy>
  <dcterms:modified xsi:type="dcterms:W3CDTF">2013-10-26T16:39:50Z</dcterms:modified>
  <cp:revision>107</cp:revision>
  <dc:subject/>
  <dc:title>Слайд 1</dc:title>
</cp:coreProperties>
</file>