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16B-E2AE-4294-807E-89CF15ADAA2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7498-C552-4097-9BE5-C44F78CFE5D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21D-785F-4CFE-8395-DCBD33F8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908-B1E9-49DF-8E3F-99304FF5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DA9-AB6E-4F95-9D7E-31DB10B3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C7E-6D96-402A-B6BF-5C0E0457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A96F-ECC9-49A4-BBCA-3EFC1642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9D23-623A-47DD-8B1A-41E46EB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00E0-2493-4912-ABB8-D24B2B0D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BF49-C4CA-4867-A958-63B46A2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ECA-4180-4204-8329-49EBC8AA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B6E-BA69-46A8-8D0B-8DADAC8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F1F7-AC3A-4C57-A455-EDD1B22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BC9-5E50-43E9-89B9-ACE4FCE2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DCC6-0325-4D3B-A4A0-772E8682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9DC3-5871-4DCB-9783-41ADFB74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016A-5000-4BEE-B942-F3A2DBBA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C41F-2F69-4802-8E1F-850B9AA5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B8DD-C574-470B-B2F2-C3B0CC94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2A24-682C-4DDE-88BB-0630CCA5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22AD-2856-49FC-B935-AAE8727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ECF0-4568-4A35-84FF-C6606F6A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A66F-076A-4BCD-8258-D9BB5BD5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9746-3361-4C1B-8B60-6AD821AC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2A5-77C1-48CD-BE5D-1799EBF3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9FFE-210A-4378-9AF4-C6D02F4D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F32D-819F-4A16-81FA-4D0F55A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3C4E-F081-4E5F-A7A8-2B19C9C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E9FA-5818-4486-88F3-817207F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C843-33EE-478B-AE17-B683C55E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30C9-30B9-438E-8E80-D01662AC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0217-15C5-4521-940A-E61ECF4C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F65-8824-4963-BA74-05D90555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623-8654-4796-95CB-98CF7708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0FB-CD9E-4163-B4EE-06E8428C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50E-2CB9-40A4-99B2-EB13CB6C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22B-1F11-482B-AAE2-2DC80AD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B00-1FEA-415D-81B6-272B0F9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D8DC-2B72-43D0-879F-653F783D9D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6A07-E73A-471F-9FEB-25D16E2A2DAB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786B-4C8C-45EF-945A-F0A57D98776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COOK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147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2195640" y="4149720"/>
            <a:ext cx="201132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PO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3958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fresh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fast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tinned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baby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organic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) vegetarian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) frozen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) genetically modified f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280" y="1268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) food prepared for bab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 food that has been scientifically manipulated to improve resistance to dise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 food such as pizzas or hambur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 food that is stored below 0 centigr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) a diet that has no meat or fi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) food grown without using pestici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) food stored inside metal t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) food that hasn’t been frosen or tin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ating ou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actf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Fast food restaurants serving burgers and chips are every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The first Indian curry house opened in London in 18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70,000 people are employed in the ethnic food indus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There `s a huge variety of restaurants to choose from with cuisines from all over the wor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)Bradford, in the North East, is the curry capital of Brit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)There now nearly 10,000 Indian restaurants in Brit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is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chicken tikk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assa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scribed as “a true British dish”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ontains a traditional British grav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combination of two different tradi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itish love chick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3240360" cy="21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4246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8900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When they get up, I give them breakfas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What do they get up to during the day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When we get back home , I always have a cup of te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Tuzik gets on with the ca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5003640" y="33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leave a b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5003640" y="1268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cause troub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5003640" y="2997360"/>
            <a:ext cx="34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arrive ho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4932360" y="4149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have a good relationship with someone or an anim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food/drink do you choose if you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686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a quick breakfas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 a healthy sna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preparing a picnic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really, really thirs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starving and in a hurr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4788000" y="3933720"/>
            <a:ext cx="4103640" cy="2732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66544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5:10Z</dcterms:created>
  <dc:creator>User</dc:creator>
  <dc:description/>
  <dc:language>en-US</dc:language>
  <cp:lastModifiedBy>user</cp:lastModifiedBy>
  <dcterms:modified xsi:type="dcterms:W3CDTF">2017-11-04T16:49:57Z</dcterms:modified>
  <cp:revision>15</cp:revision>
  <dc:subject/>
  <dc:title>WORD POWER</dc:title>
</cp:coreProperties>
</file>