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E3E-3699-4812-A7E4-94DAB32F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AE3-3DA2-447A-A2CA-60714148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225-788A-47CC-ABB9-20271E31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6D3-D792-472D-AF12-AEE12A4D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866B-E4AD-4900-A3F6-51741C8B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482D-1AC9-4C9B-8385-0480D63D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47EB-2D6E-4DC8-A56F-E8CD26CE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2C45-3877-4D5F-8234-0E7528E0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5B07-ECE5-4F5F-8868-6653BB34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9868-4EE1-403A-9CEA-E99B7AFD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E7AE-29A4-4657-8782-4BBB924F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B8F-DCE7-4F6B-9F92-A917F6BD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80FC-51F8-4FF6-833F-07BDBA6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C730-FCB5-4A20-86DF-031DE63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AC64-72A1-4BD2-8DD5-C802611A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10AF-BBC1-49AD-952D-62CF17EF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75D6-9482-498F-9712-CB84AC69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57E-B9FE-41F9-91E9-3DBEE4D2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9C2-9341-4141-823D-1D992A94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E37-B76E-4CA9-A402-841D56FE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01B-ED1D-456E-AF3B-19198DA8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461-2C5D-4FEF-A2D5-62F9E1F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311-8574-4076-804F-2FCE57E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832-2E08-412C-8A5E-7160DB7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8994-2C3B-43BA-AC13-A3615AFB70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C8E2-6807-42B3-A800-F7272FF041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5481360"/>
            <a:ext cx="4032360" cy="1376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Підготувала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читель початкових класів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расноградського багатопрофільного ліцею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уліченко Інна Вікторі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2050920" y="2421000"/>
            <a:ext cx="496908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ЕСЕ</a:t>
            </a:r>
            <a:endParaRPr b="0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694512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Дайте відповіді на запитанн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omic Sans MS"/>
              </a:rPr>
              <a:t>Як порадите вчинити Сашкові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omic Sans MS"/>
              </a:rPr>
              <a:t>Чи траплялися з вами такі випад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omic Sans MS"/>
              </a:rPr>
              <a:t>Побудуйте есе на тему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Comic Sans MS"/>
              </a:rPr>
              <a:t>«Що для мене важливіше: домовленість з друзя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Comic Sans MS"/>
              </a:rPr>
              <a:t>чи власні бажання?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151920"/>
            <a:ext cx="68720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Варто замислитис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Цей величезний світ – дзеркало, у яке нам потрібно дивитися, щоб пізнати себе до кінц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(Монтень, засновник жанру ес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71640" y="184464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спроб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проб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досвід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начер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Есе – це музика дум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Слово «есе» з французької означа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Рисунок 3" descr="kity_mal1"/>
          <p:cNvPicPr/>
          <p:nvPr/>
        </p:nvPicPr>
        <p:blipFill>
          <a:blip r:embed="rId1"/>
          <a:stretch/>
        </p:blipFill>
        <p:spPr>
          <a:xfrm>
            <a:off x="5364000" y="2276640"/>
            <a:ext cx="280836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10920" y="1196640"/>
            <a:ext cx="806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невеликий обсяг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власні думки, своє ставлення до того, про що говорит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есе має здивувати, зацікавити читач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має бути зрозуміли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Comic Sans MS"/>
              </a:rPr>
              <a:t>Есе я пишу для того, щоб зрозуміти, що я дума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67294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Ознаки е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31640" y="1052280"/>
            <a:ext cx="4895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ff0000"/>
                </a:solidFill>
                <a:uFillTx/>
                <a:latin typeface="Comic Sans MS"/>
              </a:rPr>
              <a:t>Вступ</a:t>
            </a:r>
            <a:r>
              <a:rPr b="1" lang="uk-UA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uk-UA" sz="2600" spc="-1" strike="noStrike">
                <a:solidFill>
                  <a:srgbClr val="ffff00"/>
                </a:solidFill>
                <a:latin typeface="Comic Sans MS"/>
              </a:rPr>
              <a:t>(одне речення, яке пояснює головну тему есе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ff0000"/>
                </a:solidFill>
                <a:uFillTx/>
                <a:latin typeface="Comic Sans MS"/>
              </a:rPr>
              <a:t>Основна частина</a:t>
            </a:r>
            <a:r>
              <a:rPr b="1" lang="uk-UA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00"/>
                </a:solidFill>
                <a:latin typeface="Comic Sans MS"/>
              </a:rPr>
              <a:t>(кілька речень, у яких викладено факти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uk-UA" sz="2600" spc="-1" strike="noStrike">
                <a:solidFill>
                  <a:srgbClr val="ffff00"/>
                </a:solidFill>
                <a:latin typeface="Comic Sans MS"/>
              </a:rPr>
              <a:t>власні думки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ff0000"/>
                </a:solidFill>
                <a:uFillTx/>
                <a:latin typeface="Comic Sans MS"/>
              </a:rPr>
              <a:t>Висновок</a:t>
            </a:r>
            <a:r>
              <a:rPr b="1" lang="uk-UA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uk-UA" sz="2600" spc="-1" strike="noStrike">
                <a:solidFill>
                  <a:srgbClr val="ffff00"/>
                </a:solidFill>
                <a:latin typeface="Comic Sans MS"/>
              </a:rPr>
              <a:t>(одне підсумкове речення, що пов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’</a:t>
            </a:r>
            <a:r>
              <a:rPr b="1" lang="uk-UA" sz="2600" spc="-1" strike="noStrike">
                <a:solidFill>
                  <a:srgbClr val="ffff00"/>
                </a:solidFill>
                <a:latin typeface="Comic Sans MS"/>
              </a:rPr>
              <a:t>язує між собою вступ і основну частину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151920"/>
            <a:ext cx="687204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Будова есе нагадує будову гамбургер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3019680" cy="20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907560"/>
            <a:ext cx="77342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Comic Sans MS"/>
              </a:rPr>
              <a:t>Текст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Коли я повертаюся зі школи, мене завжди зустрічає Рекс. А сьогодні він не вибіг мені назустрі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Це тому, що в тата розпочалася відпустка. І він на кілька днів поїхав на озеро порибалити. Узяв намет, рюкзак із речами і Рекса, щоб той теж побув на природі. Та й татові з Рексом не буде самотнь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Ось чому сьогодні мій чотириногий друг мене не зустрі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204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mic Sans MS"/>
              </a:rPr>
              <a:t>Зіставлення есе і міркуван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Я повертався зі школи. Сподівався, що мене зустріне Рекс. Але він не вибіг мені назустрі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Я захвилювався. Що могло статися?      Може, він захворів? Ні, напевно, поїв із насолодою бабусиного борщу з кісткою і задрімав. А можливо, тато забрав його з собою на озеро порибали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Треба швидше запитати в бабусі, де Рек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8709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Comic Sans MS"/>
              </a:rPr>
              <a:t>Текст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4000" y="1699920"/>
            <a:ext cx="864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Comic Sans MS"/>
              </a:rPr>
              <a:t>Міркуван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mic Sans MS"/>
              </a:rPr>
              <a:t>1) Розпочинається з твердження, яке доводитьс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mic Sans MS"/>
              </a:rPr>
              <a:t>чи пояснюєтьс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mic Sans MS"/>
              </a:rPr>
              <a:t>2) У кінці міркування робиться виснов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Comic Sans MS"/>
              </a:rPr>
              <a:t>Е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mic Sans MS"/>
              </a:rPr>
              <a:t>1) Нічого не доводитьс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mic Sans MS"/>
              </a:rPr>
              <a:t>2) Висловлюються думки, розмірковування, здогад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mic Sans MS"/>
              </a:rPr>
              <a:t>3) У кінці висновок не обов'язков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Відмінність між есе і міркування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42920" y="1844280"/>
            <a:ext cx="7338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1.Побудова есе за зразко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2.Складання есе за поданим плано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3.Створення есе на задану т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4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Завдання </a:t>
            </a:r>
            <a:br>
              <a:rPr sz="4400"/>
            </a:b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для формування складати е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152280"/>
            <a:ext cx="680076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Спробуйте </a:t>
            </a:r>
            <a:br>
              <a:rPr sz="4400"/>
            </a:b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скласти ес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Comic Sans MS"/>
              </a:rPr>
              <a:t>Хлопчики домовились зустрітися в неділю на стадіоні, щоб пограти у футбол. Але Сашко полюбляє вранці поспати. Тому прокинувшись, почав розмірковувати – йти йому на стадіон чи краще поніжитися в ліжку під ковдро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5:35:16Z</dcterms:created>
  <dc:creator>Администратор</dc:creator>
  <dc:description/>
  <dc:language>en-US</dc:language>
  <cp:lastModifiedBy>Host</cp:lastModifiedBy>
  <dcterms:modified xsi:type="dcterms:W3CDTF">2017-01-09T14:32:26Z</dcterms:modified>
  <cp:revision>75</cp:revision>
  <dc:subject/>
  <dc:title>Зачетная работа по теме: Правописание приставок</dc:title>
</cp:coreProperties>
</file>