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23C-935A-4E24-A7EA-C22C9DE5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4D9-7927-46A6-8E2E-CE3C29F5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C68-3636-42A1-9E3A-C61E20A6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596-B566-485C-A30A-6A5C3C92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C53-5C9C-48E6-9088-F0A12252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42A6-1B94-4357-B68E-F103988F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EFA-DC10-403B-964A-28970D8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F09A-E5F5-4533-9C34-A5FF4F23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17A-B192-4DC5-90D3-33F0969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A38-6D31-46BC-A39A-B05A336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EF2-1DF7-40F2-B120-5EE3971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4B5-025C-4691-B457-9BA4905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9505-7E3D-4252-B80E-9220B28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FB56-B3BF-49C1-8640-79CFB26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452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0830-F728-40D0-B0F7-7E17F93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7DC1-E47F-4223-A640-F41B7953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12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680" y="3944520"/>
            <a:ext cx="26470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8F81-F1EE-4B91-831C-9D796F81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AEA-ECFC-473F-878A-665C44F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103-87A9-4618-8598-D2A4291F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97E-51D3-4D42-96E0-FA28C43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CBC-ABB4-4A43-97F4-2AA1B5C5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A31-DF50-4795-9678-0F7E414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4452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2BD-0A64-41DD-8268-B94D93A5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4520"/>
            <a:ext cx="822168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9A0-32F9-45CD-BA1D-5EDC6FF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234200" cy="1973160"/>
            <a:chOff x="0" y="0"/>
            <a:chExt cx="7234200" cy="1973160"/>
          </a:xfrm>
        </p:grpSpPr>
        <p:sp>
          <p:nvSpPr>
            <p:cNvPr id="1" name="Freeform 2"/>
            <p:cNvSpPr/>
            <p:nvPr/>
          </p:nvSpPr>
          <p:spPr>
            <a:xfrm>
              <a:off x="0" y="925560"/>
              <a:ext cx="7115040" cy="1047600"/>
            </a:xfrm>
            <a:custGeom>
              <a:avLst/>
              <a:gdLst>
                <a:gd name="textAreaLeft" fmla="*/ 0 w 7115040"/>
                <a:gd name="textAreaRight" fmla="*/ 7115400 w 711504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7234200" cy="1895400"/>
            </a:xfrm>
            <a:custGeom>
              <a:avLst/>
              <a:gdLst>
                <a:gd name="textAreaLeft" fmla="*/ 0 w 7234200"/>
                <a:gd name="textAreaRight" fmla="*/ 7234560 w 723420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153700-A70F-44CF-92F9-DFB047E7D4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0" y="0"/>
            <a:ext cx="8450280" cy="5935680"/>
            <a:chOff x="0" y="0"/>
            <a:chExt cx="8450280" cy="5935680"/>
          </a:xfrm>
        </p:grpSpPr>
        <p:sp>
          <p:nvSpPr>
            <p:cNvPr id="45" name="Freeform 2"/>
            <p:cNvSpPr/>
            <p:nvPr/>
          </p:nvSpPr>
          <p:spPr>
            <a:xfrm>
              <a:off x="0" y="2286000"/>
              <a:ext cx="8175600" cy="3649680"/>
            </a:xfrm>
            <a:custGeom>
              <a:avLst/>
              <a:gdLst>
                <a:gd name="textAreaLeft" fmla="*/ 0 w 8175600"/>
                <a:gd name="textAreaRight" fmla="*/ 8175960 w 8175600"/>
                <a:gd name="textAreaTop" fmla="*/ 0 h 3649680"/>
                <a:gd name="textAreaBottom" fmla="*/ 3650040 h 364968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1"/>
                </a:gs>
                <a:gs pos="100000">
                  <a:srgbClr val="00008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3"/>
            <p:cNvSpPr/>
            <p:nvPr/>
          </p:nvSpPr>
          <p:spPr>
            <a:xfrm>
              <a:off x="0" y="0"/>
              <a:ext cx="8450280" cy="5848200"/>
            </a:xfrm>
            <a:custGeom>
              <a:avLst/>
              <a:gdLst>
                <a:gd name="textAreaLeft" fmla="*/ 0 w 8450280"/>
                <a:gd name="textAreaRight" fmla="*/ 8450640 w 8450280"/>
                <a:gd name="textAreaTop" fmla="*/ 0 h 5848200"/>
                <a:gd name="textAreaBottom" fmla="*/ 5848200 h 584820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48EFDE-B50E-4F62-9833-FDF749740196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13932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Женщины в жизни Александра Сергеевича Пушкина</a:t>
            </a:r>
            <a:r>
              <a:rPr b="1" lang="ru-RU" sz="4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3241440" cy="4127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7596360" y="2421000"/>
            <a:ext cx="1008000" cy="103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1076400" cy="124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7596360" y="3933720"/>
            <a:ext cx="1081080" cy="102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468360" y="3789360"/>
            <a:ext cx="1081080" cy="10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468360" y="5013360"/>
            <a:ext cx="1081080" cy="115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7596360" y="5373720"/>
            <a:ext cx="1081080" cy="10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6443640" y="2997360"/>
            <a:ext cx="1008000" cy="103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6443640" y="4653000"/>
            <a:ext cx="1009800" cy="103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1763640" y="2997360"/>
            <a:ext cx="1079640" cy="10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1763640" y="4581360"/>
            <a:ext cx="1079640" cy="11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06920" y="1260360"/>
            <a:ext cx="439272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то в имени тебе моем?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о умрет, как шум печальн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лны, плеснувшей в берег дальны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к звук ночной в лесу глухо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о на памятном листк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тавит мертвый след, подобн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зору надписи надгроб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 непонятном язык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то в нем? Забытое дав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волненьях новых и мятежны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воей душе не даст о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споминаний чистых, нежны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 в день печали, в тишин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изнеси его тоскуя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кажи: есть память обо мне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сть в мире сердце, где живу я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554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А.А. Оленина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527640" cy="4969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нна Петровна Керн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(1800 - 1879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00360" y="1619280"/>
            <a:ext cx="4181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ием чистой красоты” для Пушкина была красавица Анна Керн, милая, добрая женщина с несчастной судь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378000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«Гений чистой красоты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79280"/>
            <a:ext cx="29638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помню чудное мгновенье: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о мной явилась ты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мимолетное виденье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гений чистой красоты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омленьях грусти безнадежной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ревогах шумной суеты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учал мне долго голос нежный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нились милые черты.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и годы. Бурь порыв мятежный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еял прежние мечты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я забыл твой голос нежный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й небесные черты.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луши, во мраке заточенья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янулись тихо дни мои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божества, без вдохновенья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лез, без жизни, без любви.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ше настало пробужденье: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т опять явилась ты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мимолетное виденье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гений чистой красоты.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ердце бьется в упоенье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ля него воскресли вновь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божество, и вдохновенье,</a:t>
            </a:r>
            <a:br>
              <a:rPr sz="1300"/>
            </a:b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жизнь, и слезы, и любовь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600360" y="1260360"/>
            <a:ext cx="5219640" cy="40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Наталья Николаевна Гончарова (1812 - 186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360" y="1619280"/>
            <a:ext cx="4181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вежее прелестное лицо, как будто нарисованное кистью талантливого художника: огромные карие глаза, изящный носик, бледное лицо и каштановые шикарные локоны…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«Моя мадонна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так называл диву Александр Сергеевич Пушкин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39640" y="1685880"/>
            <a:ext cx="3384720" cy="46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356000" y="189000"/>
            <a:ext cx="4788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ДОН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множеством картин старинных мастеров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красить я всегда желал свою обител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 суеверно им дивился посетител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нимая важному сужденью знатоков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 простом углу моем, средь медленных трудов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ой картины я желал быть вечно зрител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ой: чтоб на меня с холста, как с облаков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чистая и наш божественный спаситель —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а с величием, он с разумом в очах —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зирали кроткие, во славе и лучах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и, без ангелов, под пальмою Сиона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нились мои желания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ворец Тебя мне ниспослал, тебя, моя Мадонна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истейшей прелести чистейший образ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58920" y="900000"/>
            <a:ext cx="378144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ffff"/>
                </a:solidFill>
                <a:latin typeface="Tahoma"/>
              </a:rPr>
              <a:t>Вывод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Как поэт, он считал своим долгом быть влюблённым во всех хорошеньких женщин и молодых девушек, с которыми он встречался…В сущности, он обожал только свою музу и поэтизировал всё, что ви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Bookman Old Style"/>
              </a:rPr>
              <a:t>М.Н.Волкон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3132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227640" y="115920"/>
            <a:ext cx="2708280" cy="2881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179280" y="189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Души моей царицы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84720" y="3789360"/>
            <a:ext cx="266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Tahoma"/>
              </a:rPr>
              <a:t>Ужели их      забуд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Tahoma"/>
              </a:rPr>
              <a:t>друзей души мо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.С.Пушк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79280" y="1260360"/>
            <a:ext cx="575964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атерина Павловна Баку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рия Николаевна Раевская (Волконска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малия Ризн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лизавета Ксаверьевна Воронц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на Николаевна Вуль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впраксия Николаевна Вульф (Вревска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на Петровна Кер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фья Фёдоровна Пушк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атерина Николаевна Ушак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на Алексеевна Ол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графена Фёдоровна Закревс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атерина  Васильевна Вельяш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лена Михайловна Завадовс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лександра Осиповна Россет (Смирно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талья Николаевна Гончарова (Пушки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920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Екатерина Павловна Бакунина(1795-1869).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3280" y="980640"/>
            <a:ext cx="54831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чь камергера, дипломата П.П. Бакунина. Была одной из любимых фрейлин императрицы Елизаветы Алексее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5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Екатерина Бакун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19280" y="1619280"/>
            <a:ext cx="450036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e2b59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милая, повсюду ты со мною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я уныл и втайне я грущ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снет ли день за синею горою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ойдёт ли ночь с осеннею луною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сё тебя, прелестный друг, ищу..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61960" y="1959120"/>
            <a:ext cx="3218040" cy="41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Мария Николаевна Раевская(Волконская)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 (1805-186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5338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чь прославленного героя Отечественной войны 1812г. генерала  Н.Н.Раев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280200" y="1700280"/>
            <a:ext cx="266868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1656000" cy="222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Rectangle 5"/>
          <p:cNvSpPr/>
          <p:nvPr/>
        </p:nvSpPr>
        <p:spPr>
          <a:xfrm>
            <a:off x="1979640" y="3860640"/>
            <a:ext cx="6408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января 1825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а декабриста С.Г.Волконского, сосланного в Сибир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М.Н.Раевская(Волконская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788000" y="191628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ccff"/>
                </a:solidFill>
                <a:latin typeface="Tahoma"/>
              </a:rPr>
              <a:t>Я помню море пред грозо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ccff"/>
                </a:solidFill>
                <a:latin typeface="Tahoma"/>
              </a:rPr>
              <a:t>Как я завидовал волн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ccff"/>
                </a:solidFill>
                <a:latin typeface="Tahoma"/>
              </a:rPr>
              <a:t>Бегущим бурной черед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ccff"/>
                </a:solidFill>
                <a:latin typeface="Tahoma"/>
              </a:rPr>
              <a:t>С любовью лечь к её нога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С.Пушкин « Евгений Онегин», гл.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816360" cy="5185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90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Елизавета Ксаверьевна Воронцова ( 1792-1880гг.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9690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жденная графиня Браницкая. Все, знавшие графиню, описывали её как женщину исключительной прелести и очаровывающего благородного изя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31920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Е.К. Воронцов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11280" y="1260000"/>
            <a:ext cx="493236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 последний раз твой образ мил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рзаю мысленно ласка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удить мечту сердечной сил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с негой робкой и уныл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вою любовь воспомина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егут, меняясь, наши лет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еняя всё, меняя нас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ж ты для своего поэ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гильным сумраком одет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 для тебя твой друг уга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ими же, дальная подруг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ощанье сердца моег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к овдовевшая супруг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к друг, обнявший молча друг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ед заточением ег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260000"/>
            <a:ext cx="40388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60360" y="1557360"/>
            <a:ext cx="3851280" cy="4824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2968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Анна Алексеевна Оленина</a:t>
            </a:r>
            <a:r>
              <a:rPr b="1" lang="ru-RU" sz="4000" spc="-1" strike="noStrike" u="sng">
                <a:solidFill>
                  <a:srgbClr val="ccffff"/>
                </a:solidFill>
                <a:uFillTx/>
                <a:latin typeface="Tahoma"/>
              </a:rPr>
              <a:t> </a:t>
            </a: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(1808-1888г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95640" y="1530000"/>
            <a:ext cx="5267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чь директора Публичной библиотеки, президента Академии художеств А.Оленина. Анна сочиняла музыку, стихи и обладала хорошим голо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01600" y="1844640"/>
            <a:ext cx="362736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6:03:58Z</dcterms:created>
  <dc:creator>www.PHILka.RU</dc:creator>
  <dc:description/>
  <dc:language>en-US</dc:language>
  <cp:lastModifiedBy>пк</cp:lastModifiedBy>
  <dcterms:modified xsi:type="dcterms:W3CDTF">2017-11-06T16:28:27Z</dcterms:modified>
  <cp:revision>13</cp:revision>
  <dc:subject/>
  <dc:title>Слайд 1</dc:title>
</cp:coreProperties>
</file>