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3.jpeg" ContentType="image/jpeg"/>
  <Override PartName="/ppt/media/image8.jpeg" ContentType="image/jpeg"/>
  <Override PartName="/ppt/media/image5.png" ContentType="image/png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21.jpeg" ContentType="image/jpeg"/>
  <Override PartName="/ppt/media/image20.jpeg" ContentType="image/jpeg"/>
  <Override PartName="/ppt/media/image14.gif" ContentType="image/gif"/>
  <Override PartName="/ppt/media/image19.jpeg" ContentType="image/jpeg"/>
  <Override PartName="/ppt/media/image18.jpeg" ContentType="image/jpeg"/>
  <Override PartName="/ppt/media/image16.gif" ContentType="image/gif"/>
  <Override PartName="/ppt/media/image2.png" ContentType="image/png"/>
  <Override PartName="/ppt/media/image9.jpeg" ContentType="image/jpeg"/>
  <Override PartName="/ppt/media/image15.gif" ContentType="image/gif"/>
  <Override PartName="/ppt/media/image1.png" ContentType="image/png"/>
  <Override PartName="/ppt/media/image17.jpeg" ContentType="image/jpeg"/>
  <Override PartName="/ppt/media/image3.png" ContentType="image/pn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9E24-1627-4589-BF2F-B86E90F38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56DA-1872-4264-B176-611275A1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5553-8A46-4475-BE40-65B2DEBC8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D51F-F1D7-45F3-9518-1552D68A5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3E14-7C2E-4B13-B157-1FE25CCE3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E57C-5A9A-4C27-AD83-008F23F7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038F-51BF-43FC-A04E-57C956AD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CBE1-88A3-415A-B348-7073B2B9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FC09-4979-4D59-94F7-30A882B3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344D-E15A-4C36-AFAC-FE673F2E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8584-F140-49AF-988D-B86970AF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A8DC-0734-4E83-8F3D-4D1D38BC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7476-F56E-46DB-8E14-D8F1449C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6B08-00F5-4C6B-AFFF-71BE2EA1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FC70-4F1E-4357-B8E7-A77D8587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6493-8140-45BF-9EAE-D92D3EDA0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FE1F-A19E-4E5F-855F-870C29665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19CA-6182-40BD-BADB-5B22CF99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65A9-1D3A-4827-9B78-AFE10DD7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0D38-620F-4EE7-BEBD-56CCB735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7497-DFA8-4F32-8963-EA4CA263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887B-181E-48BF-9F80-05E44953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BA3E-30D3-4A14-A3A6-77F6D7DB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D4D1-AF85-48C5-8A0E-5B47F31C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3B68-2AE7-4700-9710-4332C5EF33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7CEF-B8F9-4E3B-B9A7-1793C5F5A18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7"/>
          <p:cNvSpPr txBox="1"/>
          <p:nvPr/>
        </p:nvSpPr>
        <p:spPr>
          <a:xfrm>
            <a:off x="1692360" y="907920"/>
            <a:ext cx="575928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7 січня -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Різдво Христов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  <p:pic>
        <p:nvPicPr>
          <p:cNvPr id="163" name="Picture 8" descr="christmas_animated_gifs_03"/>
          <p:cNvPicPr/>
          <p:nvPr/>
        </p:nvPicPr>
        <p:blipFill>
          <a:blip r:embed="rId1"/>
          <a:stretch/>
        </p:blipFill>
        <p:spPr>
          <a:xfrm>
            <a:off x="2843280" y="2852640"/>
            <a:ext cx="3238560" cy="3619440"/>
          </a:xfrm>
          <a:prstGeom prst="rect">
            <a:avLst/>
          </a:prstGeom>
          <a:ln w="0">
            <a:noFill/>
          </a:ln>
        </p:spPr>
      </p:pic>
      <p:grpSp>
        <p:nvGrpSpPr>
          <p:cNvPr id="164" name="Місце для нижнього колонтитула 4"/>
          <p:cNvGrpSpPr/>
          <p:nvPr/>
        </p:nvGrpSpPr>
        <p:grpSpPr>
          <a:xfrm>
            <a:off x="1195560" y="6119640"/>
            <a:ext cx="6673680" cy="750960"/>
            <a:chOff x="1195560" y="6119640"/>
            <a:chExt cx="6673680" cy="750960"/>
          </a:xfrm>
        </p:grpSpPr>
        <p:pic>
          <p:nvPicPr>
            <p:cNvPr id="165" name="Місце для нижнього колонтитула 4" descr=""/>
            <p:cNvPicPr/>
            <p:nvPr/>
          </p:nvPicPr>
          <p:blipFill>
            <a:blip r:embed="rId2"/>
            <a:stretch/>
          </p:blipFill>
          <p:spPr>
            <a:xfrm>
              <a:off x="1195560" y="6119640"/>
              <a:ext cx="667368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214280" y="6137280"/>
              <a:ext cx="66438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5" descr="75_koliad_1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6"/>
          <p:cNvSpPr/>
          <p:nvPr/>
        </p:nvSpPr>
        <p:spPr>
          <a:xfrm>
            <a:off x="2917800" y="189000"/>
            <a:ext cx="29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Колядуванн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21014"/>
          <p:cNvPicPr/>
          <p:nvPr/>
        </p:nvPicPr>
        <p:blipFill>
          <a:blip r:embed="rId1"/>
          <a:stretch/>
        </p:blipFill>
        <p:spPr>
          <a:xfrm>
            <a:off x="0" y="-47520"/>
            <a:ext cx="6948360" cy="69055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6"/>
          <p:cNvSpPr/>
          <p:nvPr/>
        </p:nvSpPr>
        <p:spPr>
          <a:xfrm>
            <a:off x="7742520" y="765000"/>
            <a:ext cx="609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eaebb09b73c567e7a941d94f0eb47710"/>
          <p:cNvPicPr/>
          <p:nvPr/>
        </p:nvPicPr>
        <p:blipFill>
          <a:blip r:embed="rId1"/>
          <a:stretch/>
        </p:blipFill>
        <p:spPr>
          <a:xfrm>
            <a:off x="1332000" y="0"/>
            <a:ext cx="669276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6"/>
          <p:cNvSpPr/>
          <p:nvPr/>
        </p:nvSpPr>
        <p:spPr>
          <a:xfrm>
            <a:off x="2343240" y="189000"/>
            <a:ext cx="490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80"/>
                </a:solidFill>
                <a:latin typeface="Arial"/>
              </a:rPr>
              <a:t>19 січня – Водохреще, (Йорда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4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7" descr="IMG"/>
          <p:cNvPicPr/>
          <p:nvPr/>
        </p:nvPicPr>
        <p:blipFill>
          <a:blip r:embed="rId1"/>
          <a:stretch/>
        </p:blipFill>
        <p:spPr>
          <a:xfrm>
            <a:off x="3780000" y="0"/>
            <a:ext cx="536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8"/>
          <p:cNvSpPr/>
          <p:nvPr/>
        </p:nvSpPr>
        <p:spPr>
          <a:xfrm>
            <a:off x="1405080" y="907920"/>
            <a:ext cx="609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4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5724360" y="1125360"/>
            <a:ext cx="363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які прибули до Віфлеєм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для участі в перепису населенн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4" descr="1"/>
          <p:cNvPicPr/>
          <p:nvPr/>
        </p:nvPicPr>
        <p:blipFill>
          <a:blip r:embed="rId1"/>
          <a:stretch/>
        </p:blipFill>
        <p:spPr>
          <a:xfrm>
            <a:off x="250920" y="1197000"/>
            <a:ext cx="5394240" cy="547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586a6eabe2e5da950382ac272f8ca1f8"/>
          <p:cNvPicPr/>
          <p:nvPr/>
        </p:nvPicPr>
        <p:blipFill>
          <a:blip r:embed="rId2"/>
          <a:stretch/>
        </p:blipFill>
        <p:spPr>
          <a:xfrm>
            <a:off x="6300720" y="3429000"/>
            <a:ext cx="2071800" cy="31669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7"/>
          <p:cNvSpPr/>
          <p:nvPr/>
        </p:nvSpPr>
        <p:spPr>
          <a:xfrm>
            <a:off x="250920" y="26028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Ісус Христос народився в іудейському місті Віфлеємі у сім'ї теслі Йосипа з Назарету та його нареченої Марії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7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623751_395eddb2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2"/>
          <p:cNvSpPr/>
          <p:nvPr/>
        </p:nvSpPr>
        <p:spPr>
          <a:xfrm>
            <a:off x="183240" y="258480"/>
            <a:ext cx="862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Через відсутність місця в будинк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родина була змушена переночувати в печері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що використовувалася як хлів для укриття худоби від непогод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8" descr="rizdvo-459x460"/>
          <p:cNvPicPr/>
          <p:nvPr/>
        </p:nvPicPr>
        <p:blipFill>
          <a:blip r:embed="rId1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>
            <a:off x="880200" y="547200"/>
            <a:ext cx="5592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Під час народження Хрис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над печерою зійшла Віфлеємська зірк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яка вказала про цю подію трьом волхва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(мудрецям).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13" descr="3551c6830c7e910d50a7eafc40a78bce"/>
          <p:cNvPicPr/>
          <p:nvPr/>
        </p:nvPicPr>
        <p:blipFill>
          <a:blip r:embed="rId2"/>
          <a:stretch/>
        </p:blipFill>
        <p:spPr>
          <a:xfrm>
            <a:off x="5651640" y="4278240"/>
            <a:ext cx="349236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42eba02aa5"/>
          <p:cNvPicPr/>
          <p:nvPr/>
        </p:nvPicPr>
        <p:blipFill>
          <a:blip r:embed="rId1"/>
          <a:stretch/>
        </p:blipFill>
        <p:spPr>
          <a:xfrm>
            <a:off x="0" y="1397160"/>
            <a:ext cx="6948360" cy="54608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3"/>
          <p:cNvSpPr/>
          <p:nvPr/>
        </p:nvSpPr>
        <p:spPr>
          <a:xfrm>
            <a:off x="976680" y="258840"/>
            <a:ext cx="674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Першими прийшли поклонитися Христу пастух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яким про цю подію возвістив янго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8" descr="5f30b3f32b2618ee25f6a7ff1c94511f"/>
          <p:cNvPicPr/>
          <p:nvPr/>
        </p:nvPicPr>
        <p:blipFill>
          <a:blip r:embed="rId2"/>
          <a:stretch/>
        </p:blipFill>
        <p:spPr>
          <a:xfrm>
            <a:off x="5796000" y="1916280"/>
            <a:ext cx="31320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360267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4"/>
          <p:cNvSpPr/>
          <p:nvPr/>
        </p:nvSpPr>
        <p:spPr>
          <a:xfrm>
            <a:off x="1838160" y="187560"/>
            <a:ext cx="501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Волхви піднесли Христу дарунки —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золото, ладан і Смир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4427640" y="1120680"/>
            <a:ext cx="435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олото — це царський дар, що символізує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що Ісус був людиною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родженою, щоб бути Цар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адан — це дарунок священнику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 як Ісус прийшов стати новим Вчител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мирна — це дар тому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то повинен помер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Смирну використовували для бальзамування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50920" y="580392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важається, що традиція дарувати подарунки на Різдво була започаткована саме ни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6" descr="0943c3ca78e8d11f153c55a66648cbfe"/>
          <p:cNvPicPr/>
          <p:nvPr/>
        </p:nvPicPr>
        <p:blipFill>
          <a:blip r:embed="rId1"/>
          <a:stretch/>
        </p:blipFill>
        <p:spPr>
          <a:xfrm>
            <a:off x="250920" y="1628640"/>
            <a:ext cx="4392360" cy="35672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8"/>
          <p:cNvSpPr/>
          <p:nvPr/>
        </p:nvSpPr>
        <p:spPr>
          <a:xfrm>
            <a:off x="324000" y="13968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несені волхвами дарунки мають наступне символічне значенн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4"/>
          <p:cNvSpPr/>
          <p:nvPr/>
        </p:nvSpPr>
        <p:spPr>
          <a:xfrm>
            <a:off x="2195640" y="384840"/>
            <a:ext cx="424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Довідавшись про народження Христа, цар Іудеї Ірод велів провести побиття дітей у віці до 2 років, але Христос був чудом врятований від смерті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Однак родина Йосипа була змушена бігти в Єгип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і перебувала там до смерті пануючого Ір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8" descr="d59603a095f067f6269baf4909de6915"/>
          <p:cNvPicPr/>
          <p:nvPr/>
        </p:nvPicPr>
        <p:blipFill>
          <a:blip r:embed="rId1"/>
          <a:stretch/>
        </p:blipFill>
        <p:spPr>
          <a:xfrm flipH="1">
            <a:off x="6227640" y="2276640"/>
            <a:ext cx="2719440" cy="36734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bf36cd67f8a7bdab6f002174414b0e9e"/>
          <p:cNvPicPr/>
          <p:nvPr/>
        </p:nvPicPr>
        <p:blipFill>
          <a:blip r:embed="rId2"/>
          <a:stretch/>
        </p:blipFill>
        <p:spPr>
          <a:xfrm>
            <a:off x="181080" y="2276640"/>
            <a:ext cx="20066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rizdv"/>
          <p:cNvPicPr/>
          <p:nvPr/>
        </p:nvPicPr>
        <p:blipFill>
          <a:blip r:embed="rId1"/>
          <a:stretch/>
        </p:blipFill>
        <p:spPr>
          <a:xfrm>
            <a:off x="324000" y="0"/>
            <a:ext cx="8532720" cy="6912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5005080" y="6216480"/>
            <a:ext cx="39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80"/>
                </a:solidFill>
                <a:latin typeface="Arial"/>
              </a:rPr>
              <a:t>Різдвяний верте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18:13:49Z</dcterms:created>
  <dc:creator>Mama</dc:creator>
  <dc:description/>
  <dc:language>en-US</dc:language>
  <cp:lastModifiedBy>Home</cp:lastModifiedBy>
  <dcterms:modified xsi:type="dcterms:W3CDTF">2016-12-21T17:10:01Z</dcterms:modified>
  <cp:revision>19</cp:revision>
  <dc:subject/>
  <dc:title>Слайд 1</dc:title>
</cp:coreProperties>
</file>