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36A-D8B1-4D56-85E0-5DFA7EFB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71F-7985-4A92-A644-7A4C690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5B-6AF2-4B28-A397-9AF28DB3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D0F-141F-4CD5-86DC-58B56A6A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4B7-1D44-47C7-B16E-7B2FABE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835-4BD4-4305-9991-268C02F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411-379F-4A72-80FE-0E63B0A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9DC-89CE-4FFA-A284-CFC4F531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482-AF0D-45DA-9635-90643A52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3C1-88C4-4E06-B80B-744CC4F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DBB-3687-483C-95C1-DEBB8F2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F9F-44D8-4586-97C8-0CB0073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674-99BC-4462-8B1C-5F4CDA66A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8101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кційне заняття № 5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1643040"/>
            <a:ext cx="8358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Тема: Складні</a:t>
            </a:r>
            <a:r>
              <a:rPr b="1" lang="ru-RU" sz="60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випад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правопису великої букв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974610724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57120" y="2071800"/>
          <a:ext cx="8429760" cy="4429080"/>
        </p:xfrm>
        <a:graphic>
          <a:graphicData uri="http://schemas.openxmlformats.org/drawingml/2006/table">
            <a:tbl>
              <a:tblPr/>
              <a:tblGrid>
                <a:gridCol w="4384800"/>
                <a:gridCol w="4044960"/>
              </a:tblGrid>
              <a:tr h="78588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бревіатури, утворені з початкових букв власних і загальних імен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ДМРПТ, СБУ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0" y="-6120"/>
            <a:ext cx="9144000" cy="198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ДМРП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karta-ukrainy-na-ukrainskom-yazyke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214720"/>
          <a:ext cx="8643960" cy="3429000"/>
        </p:xfrm>
        <a:graphic>
          <a:graphicData uri="http://schemas.openxmlformats.org/drawingml/2006/table">
            <a:tbl>
              <a:tblPr/>
              <a:tblGrid>
                <a:gridCol w="4562640"/>
                <a:gridCol w="4081320"/>
              </a:tblGrid>
              <a:tr h="685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 назвах держав, автономних територіальних одиниц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країна, 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ржава Бахрейн, Республіка Болгарія, Князівство Мона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0" y="39600"/>
            <a:ext cx="9144000" cy="19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ї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Петро Порошенко"/>
          <p:cNvPicPr/>
          <p:nvPr/>
        </p:nvPicPr>
        <p:blipFill>
          <a:blip r:embed="rId1"/>
          <a:stretch/>
        </p:blipFill>
        <p:spPr>
          <a:xfrm>
            <a:off x="2786040" y="442800"/>
            <a:ext cx="4071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14200" y="1214280"/>
          <a:ext cx="8715600" cy="5143680"/>
        </p:xfrm>
        <a:graphic>
          <a:graphicData uri="http://schemas.openxmlformats.org/drawingml/2006/table">
            <a:tbl>
              <a:tblPr/>
              <a:tblGrid>
                <a:gridCol w="4600800"/>
                <a:gridCol w="4114800"/>
              </a:tblGrid>
              <a:tr h="5706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азвах найвищих державних посад та установ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зидент України, Голова Верховної Ради України, Конституційний Суд України, Кабінет Міністрів України,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е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Генеральний прокурор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індивідуальних іменах людей, по батькові, прізвищах, псевдонімах, прізвись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тро Олексійович Порошенко, Марія-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реза, Гулак-Артемовський</a:t>
                      </a: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Володимир Мономах, Каменяр (І.Франк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1"/>
          <p:cNvSpPr/>
          <p:nvPr/>
        </p:nvSpPr>
        <p:spPr>
          <a:xfrm>
            <a:off x="0" y="-249120"/>
            <a:ext cx="9144000" cy="13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идент України</a:t>
            </a:r>
            <a:r>
              <a:rPr b="1" lang="uk-UA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Петро Олексійович Поро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928880"/>
          <a:ext cx="8262720" cy="4429080"/>
        </p:xfrm>
        <a:graphic>
          <a:graphicData uri="http://schemas.openxmlformats.org/drawingml/2006/table">
            <a:tbl>
              <a:tblPr/>
              <a:tblGrid>
                <a:gridCol w="4360680"/>
                <a:gridCol w="3902040"/>
              </a:tblGrid>
              <a:tr h="685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328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 географічних і топографічних власних назвах (крім службових слів та родових означень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івденна Бессарабія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Близький Схід, Побужж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0" y="-311760"/>
            <a:ext cx="9144000" cy="25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вденна Бессараб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Білгород-Дністровське-медичне-училище,_БДМУ"/>
          <p:cNvPicPr/>
          <p:nvPr/>
        </p:nvPicPr>
        <p:blipFill>
          <a:blip r:embed="rId1"/>
          <a:stretch/>
        </p:blipFill>
        <p:spPr>
          <a:xfrm>
            <a:off x="1000080" y="600120"/>
            <a:ext cx="6786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85840" y="1454040"/>
          <a:ext cx="8572320" cy="4975200"/>
        </p:xfrm>
        <a:graphic>
          <a:graphicData uri="http://schemas.openxmlformats.org/drawingml/2006/table">
            <a:tbl>
              <a:tblPr/>
              <a:tblGrid>
                <a:gridCol w="3714840"/>
                <a:gridCol w="4857480"/>
              </a:tblGrid>
              <a:tr h="6854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092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 складених назвах заводів, фабрик, наукових та навчальних закладів, кінотеатрів, музеїв, театрів, парків, клубів</a:t>
                      </a:r>
                      <a:r>
                        <a:rPr b="0" lang="uk-UA" sz="25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тощ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ілгород-Дністровське медичне училище, Республіканське вироб-ниче об’єднання „Поліграфкнига”, Десятий міжнародний з’їзд славістів, Державний музей українського образотворчого мистецтва, Київський будинок м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0" y="-124560"/>
            <a:ext cx="9144000" cy="158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ілгород-Дністровське медичне училищ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hotos.wikimapia.org/p/00/03/78/41/47_big.jpg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57120" y="276480"/>
            <a:ext cx="8358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, слався, рідне мі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м, де чорне море, де дністер-ріка.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 сяє промени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 хай живе в віках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85840" y="1143000"/>
          <a:ext cx="8643960" cy="5357880"/>
        </p:xfrm>
        <a:graphic>
          <a:graphicData uri="http://schemas.openxmlformats.org/drawingml/2006/table">
            <a:tbl>
              <a:tblPr/>
              <a:tblGrid>
                <a:gridCol w="4610160"/>
                <a:gridCol w="4033800"/>
              </a:tblGrid>
              <a:tr h="685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08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икметники, утворені від власних особових назв за допомогою суфіксів -ів-, 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їв-, -ов-, -ин-, -їн-</a:t>
                      </a:r>
                      <a:r>
                        <a:rPr b="0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ають значення „імені когось”, „пам’яті когось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ихайлівський сквер,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Грінченків словник, Шевченкові поезії, Тичинине слово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евченківська премі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1"/>
          <p:cNvSpPr/>
          <p:nvPr/>
        </p:nvSpPr>
        <p:spPr>
          <a:xfrm>
            <a:off x="0" y="-101880"/>
            <a:ext cx="914400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хайлівський ск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481640" y="-366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Вид на Белгород-Днестровскую крепость"/>
          <p:cNvPicPr/>
          <p:nvPr/>
        </p:nvPicPr>
        <p:blipFill>
          <a:blip r:embed="rId1"/>
          <a:stretch/>
        </p:blipFill>
        <p:spPr>
          <a:xfrm>
            <a:off x="428760" y="2643120"/>
            <a:ext cx="8286480" cy="4000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-156240"/>
            <a:ext cx="9144000" cy="27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ілгород-Дністровська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керманська фортец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5400"/>
            <a:ext cx="91440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іфська мог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Скіфська могила, Білгород-Дністровський"/>
          <p:cNvPicPr/>
          <p:nvPr/>
        </p:nvPicPr>
        <p:blipFill>
          <a:blip r:embed="rId1"/>
          <a:stretch/>
        </p:blipFill>
        <p:spPr>
          <a:xfrm>
            <a:off x="714240" y="1714680"/>
            <a:ext cx="7858440" cy="471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Скіфська могила, Білгород-Дністровський"/>
          <p:cNvPicPr/>
          <p:nvPr/>
        </p:nvPicPr>
        <p:blipFill>
          <a:blip r:embed="rId2"/>
          <a:stretch/>
        </p:blipFill>
        <p:spPr>
          <a:xfrm>
            <a:off x="866880" y="1866960"/>
            <a:ext cx="7858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42920" y="1285920"/>
          <a:ext cx="8715240" cy="4829040"/>
        </p:xfrm>
        <a:graphic>
          <a:graphicData uri="http://schemas.openxmlformats.org/drawingml/2006/table">
            <a:tbl>
              <a:tblPr/>
              <a:tblGrid>
                <a:gridCol w="4599000"/>
                <a:gridCol w="4116240"/>
              </a:tblGrid>
              <a:tr h="71424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 назвах пам’яток архітектури, замків, храмів, історичних подій, епох, війн, революцій, рухів, повстань, свят (зокрема релігійних), знаменних дат тощ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іфська могила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Вели-ка французька револю-ція, Софійський собор, Паризька комуна, День учителя, Великий піст, Теплого Олекси, </a:t>
                      </a:r>
                      <a:r>
                        <a:rPr b="1" lang="ru-RU" sz="3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е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День Перемоги, Свято Перемоги, День Незалежності Україн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0" y="-162720"/>
            <a:ext cx="9144000" cy="152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іфська мог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4200" y="1357200"/>
          <a:ext cx="8643960" cy="5154840"/>
        </p:xfrm>
        <a:graphic>
          <a:graphicData uri="http://schemas.openxmlformats.org/drawingml/2006/table">
            <a:tbl>
              <a:tblPr/>
              <a:tblGrid>
                <a:gridCol w="4527720"/>
                <a:gridCol w="4116240"/>
              </a:tblGrid>
              <a:tr h="685800"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r>
                        <a:rPr b="1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о 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9040"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 лапках назви художніх, музичних творів, наукових праць, газет, журналів, історичних пам’яток, літаків, автомобілів, виробів, продуктів тощо, які беруться в лапк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упинка «Порт», автобус 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Богдан»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цукерки „Стріла”,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пера „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орожець за Дунаєм”, 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азета „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вини Придні-стров’я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”, роман „Міс</a:t>
                      </a:r>
                      <a:r>
                        <a:rPr b="0" lang="uk-UA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0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0" y="-162720"/>
            <a:ext cx="9144000" cy="152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пинка «Порт», автобус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огд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57120" y="732960"/>
            <a:ext cx="85010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, слався, рідне мі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м, де чорне море, де дністер-рі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 сяє промени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ілгород-дністровський хай живе в віках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57120" y="732960"/>
            <a:ext cx="8572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лгород-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істровський, слався, рідне мі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м, де 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не море, де 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істер-рі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лгород-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істровський сяє променис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лгород-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uk-UA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істровський хай живе в віках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4320"/>
            <a:ext cx="91440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флекс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85840" y="1214280"/>
            <a:ext cx="85723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 занятті я дізнав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4519"/>
                </a:solidFill>
                <a:latin typeface="Times New Roman"/>
                <a:ea typeface="Times New Roman"/>
              </a:rPr>
              <a:t>зрозумів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вчив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95c4e"/>
                </a:solidFill>
                <a:latin typeface="Times New Roman"/>
                <a:ea typeface="Times New Roman"/>
              </a:rPr>
              <a:t>найбільші труднощі я відчув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не вмів, а тепер умію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є завдання</a:t>
            </a:r>
            <a:r>
              <a:rPr b="1" lang="uk-UA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. Опрацювати тему 7 «Вживання великої букви» с. 137 – 138 і записати правила, які не розглянули на занятті з підручника Олійник О.Б. Українська м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 Виконати вправу 124 с. 138 з підручника Олійник О.Б. Українська м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3. Підготуватися до практичного заняття №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План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Ск</a:t>
            </a:r>
            <a:r>
              <a:rPr b="0" lang="ru-RU" sz="4400" spc="-1" strike="noStrike">
                <a:solidFill>
                  <a:srgbClr val="0063c6"/>
                </a:solidFill>
                <a:latin typeface="Arial"/>
              </a:rPr>
              <a:t>ладні випадки правопису великої букви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:</a:t>
            </a: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а) 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0063c6"/>
                </a:solidFill>
                <a:latin typeface="Arial"/>
              </a:rPr>
              <a:t> великої літери пишеться 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кожне</a:t>
            </a:r>
            <a:r>
              <a:rPr b="0" lang="ru-RU" sz="4400" spc="-1" strike="noStrike">
                <a:solidFill>
                  <a:srgbClr val="0063c6"/>
                </a:solidFill>
                <a:latin typeface="Arial"/>
              </a:rPr>
              <a:t> слово у словосполученні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;</a:t>
            </a:r>
            <a:br>
              <a:rPr sz="4400"/>
            </a:b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б) 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з</a:t>
            </a:r>
            <a:r>
              <a:rPr b="0" lang="ru-RU" sz="4400" spc="-1" strike="noStrike">
                <a:solidFill>
                  <a:srgbClr val="0063c6"/>
                </a:solidFill>
                <a:latin typeface="Arial"/>
              </a:rPr>
              <a:t> великої літери пишеться 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перше</a:t>
            </a:r>
            <a:r>
              <a:rPr b="0" lang="ru-RU" sz="4400" spc="-1" strike="noStrike">
                <a:solidFill>
                  <a:srgbClr val="0063c6"/>
                </a:solidFill>
                <a:latin typeface="Arial"/>
              </a:rPr>
              <a:t> слово у словосполученні</a:t>
            </a:r>
            <a:r>
              <a:rPr b="0" lang="uk-UA" sz="4400" spc="-1" strike="noStrike">
                <a:solidFill>
                  <a:srgbClr val="0063c6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керм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6" descr="5579273aa4039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хайло Кутуз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Taras_Shevchenko_painting_0105.jpg"/>
          <p:cNvPicPr/>
          <p:nvPr/>
        </p:nvPicPr>
        <p:blipFill>
          <a:blip r:embed="rId1"/>
          <a:stretch/>
        </p:blipFill>
        <p:spPr>
          <a:xfrm>
            <a:off x="2357280" y="1785960"/>
            <a:ext cx="4500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ван Нечуй-Левиц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5" descr="Нечуй-Левицький_І2.jpg"/>
          <p:cNvPicPr/>
          <p:nvPr/>
        </p:nvPicPr>
        <p:blipFill>
          <a:blip r:embed="rId1"/>
          <a:stretch/>
        </p:blipFill>
        <p:spPr>
          <a:xfrm>
            <a:off x="2571840" y="1428840"/>
            <a:ext cx="4286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игорій Федорович Довгал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5" descr="05726.jpg"/>
          <p:cNvPicPr/>
          <p:nvPr/>
        </p:nvPicPr>
        <p:blipFill>
          <a:blip r:embed="rId1"/>
          <a:stretch/>
        </p:blipFill>
        <p:spPr>
          <a:xfrm>
            <a:off x="2786040" y="2071800"/>
            <a:ext cx="35719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иль Ломачен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5" descr="Lomachenko_media_day_140.jpeg"/>
          <p:cNvPicPr/>
          <p:nvPr/>
        </p:nvPicPr>
        <p:blipFill>
          <a:blip r:embed="rId1"/>
          <a:stretch/>
        </p:blipFill>
        <p:spPr>
          <a:xfrm>
            <a:off x="1401840" y="1600200"/>
            <a:ext cx="63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гор Іван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4" descr="268c4a7345bca68da9433abc2e7e1563.jpg"/>
          <p:cNvPicPr/>
          <p:nvPr/>
        </p:nvPicPr>
        <p:blipFill>
          <a:blip r:embed="rId1"/>
          <a:stretch/>
        </p:blipFill>
        <p:spPr>
          <a:xfrm>
            <a:off x="1571760" y="1714680"/>
            <a:ext cx="620208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8:43:53Z</dcterms:created>
  <dc:creator>Admin</dc:creator>
  <dc:description/>
  <dc:language>en-US</dc:language>
  <cp:lastModifiedBy>User</cp:lastModifiedBy>
  <dcterms:modified xsi:type="dcterms:W3CDTF">2017-11-13T18:13:37Z</dcterms:modified>
  <cp:revision>76</cp:revision>
  <dc:subject/>
  <dc:title>Слайд 1</dc:title>
</cp:coreProperties>
</file>