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583-BA8C-44E2-AFD7-9AFC9FE4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960-4BBF-43F9-AD48-30CE0C0B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C8D-D3E4-44B2-8186-36D95AB5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030-8BD0-4B24-90AD-45F333E0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C52-8ED5-42C1-A6B3-70BA5928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D4A-021B-4E4D-85B3-53FEA3A5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149-04E9-41EA-B0A1-B8C43725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2C3-5D3A-4407-80D3-D6B7B5E4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0C7-ADAC-4104-B23A-D501EF7C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193-CCD4-42FA-93EF-CA7203C9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AAF-ADF0-4C31-9123-2E4E5FB4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9D1-F525-47DE-B9F3-B694DB13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A74A-A232-4743-B27F-CF21CC01202B}" type="datetime">
              <a:rPr b="0" lang="en-US" sz="1200" spc="-1" strike="noStrike">
                <a:solidFill>
                  <a:srgbClr val="a7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42B7-0BD5-4872-A3A9-1EB472725855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60000"/>
                </a:solidFill>
                <a:latin typeface="Arial Black"/>
              </a:rPr>
              <a:t>Правила пожежної </a:t>
            </a:r>
            <a:br>
              <a:rPr sz="5400"/>
            </a:br>
            <a:r>
              <a:rPr b="1" lang="uk-UA" sz="5400" spc="-1" strike="noStrike">
                <a:solidFill>
                  <a:srgbClr val="760000"/>
                </a:solidFill>
                <a:latin typeface="Arial Black"/>
              </a:rPr>
              <a:t>безпеки!</a:t>
            </a:r>
            <a:endParaRPr b="0" lang="en-US" sz="5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5232240" cy="4000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446544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60000"/>
                </a:solidFill>
                <a:latin typeface="Calibri"/>
              </a:rPr>
              <a:t>Засоби гасіння пожежі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4753-95D6-4CF9-8EE0-DD22F3242BE5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60000"/>
                </a:solidFill>
                <a:latin typeface="Arial"/>
              </a:rPr>
              <a:t>Технічні засоби гасіння.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19560" cy="2665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103640" cy="255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00720" y="4076640"/>
            <a:ext cx="4174920" cy="2521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0920" y="4149720"/>
            <a:ext cx="4033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60000"/>
                </a:solidFill>
                <a:latin typeface="Calibri"/>
              </a:rPr>
              <a:t>Вивчення правил протипожежної безпеки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А як вже сталася біда, себе рятуйте, дітвора.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Пощади злий вогонь не знає, вас ліжко й шафа не сховає.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Як ще слабкий вогонь і дим, залий водою, ковдру кинь.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Коли не впораєшся з ним, телефонуй на </a:t>
            </a:r>
            <a:r>
              <a:rPr b="1" lang="uk-UA" sz="2000" spc="-1" strike="noStrike">
                <a:solidFill>
                  <a:srgbClr val="760000"/>
                </a:solidFill>
                <a:latin typeface="Calibri"/>
              </a:rPr>
              <a:t>«101».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А сам швиденько утікай і ще таке запам'ятай: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Коли хтось менший є в кімнаті, його з собою забирай.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Якщо багато диму у кімнаті і важко дихати тобі,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Хустину швидко намочи і рот, і ніс собі ти зав'яжи.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Ляж на підлогу - дим завжди вгорі.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Згадай, вхідні де двері, І туди мерщій повзи.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Як загорівся одяг на тобі, то з переляку ти не побіжи,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Його зніми або облий водою,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до стін, чи до підлоги притулись спиною.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0000"/>
                </a:solidFill>
                <a:latin typeface="Calibri"/>
              </a:rPr>
              <a:t>Правила вивчайте, дітлахи, і не беріть ніколи сірники.</a:t>
            </a:r>
            <a:endParaRPr b="0" lang="en-US" sz="20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2827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6551640" cy="4349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760000"/>
                </a:solidFill>
                <a:latin typeface="Calibri"/>
              </a:rPr>
              <a:t>Фізкультхвилинка</a:t>
            </a:r>
            <a:endParaRPr b="0" lang="en-US" sz="5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524720" y="105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956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60000"/>
                </a:solidFill>
                <a:latin typeface="Calibri"/>
              </a:rPr>
              <a:t>Перегляд мультфільм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6" name="Текст 2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8280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9162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Хай добре знає донька й син</a:t>
            </a: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 пожежний номер 101.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1AE3-3FCC-4F15-B0C9-4911A6F0F3A7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428760" y="157176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848360" cy="468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268360" y="3860640"/>
            <a:ext cx="22831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9D7B-E7A0-4FE1-A51E-B5FFB61C589B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714240" y="593640"/>
            <a:ext cx="30006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760000"/>
                </a:solidFill>
                <a:latin typeface="Calibri"/>
                <a:ea typeface="Times New Roman"/>
              </a:rPr>
              <a:t>   </a:t>
            </a:r>
            <a:endParaRPr b="0" lang="en-US" sz="1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0000"/>
                </a:solidFill>
                <a:latin typeface="Calibri"/>
                <a:ea typeface="Times New Roman"/>
              </a:rPr>
              <a:t>           </a:t>
            </a:r>
            <a:r>
              <a:rPr b="0" lang="uk-UA" sz="2400" spc="-1" strike="noStrike">
                <a:solidFill>
                  <a:srgbClr val="760000"/>
                </a:solidFill>
                <a:latin typeface="Calibri"/>
                <a:ea typeface="Times New Roman"/>
              </a:rPr>
              <a:t>Загадка 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0000"/>
                </a:solidFill>
                <a:latin typeface="Calibri"/>
                <a:ea typeface="Times New Roman"/>
              </a:rPr>
              <a:t>Живуть в тісній темниці 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0000"/>
                </a:solidFill>
                <a:latin typeface="Calibri"/>
                <a:ea typeface="Times New Roman"/>
              </a:rPr>
              <a:t>Без страху темноти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0000"/>
                </a:solidFill>
                <a:latin typeface="Calibri"/>
                <a:ea typeface="Times New Roman"/>
              </a:rPr>
              <a:t>Хлоп’ята яснолиці –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0000"/>
                </a:solidFill>
                <a:latin typeface="Calibri"/>
                <a:ea typeface="Times New Roman"/>
              </a:rPr>
              <a:t>Вогню малі брати .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0000"/>
                </a:solidFill>
                <a:latin typeface="Calibri"/>
                <a:ea typeface="Times New Roman"/>
              </a:rPr>
              <a:t>І мають душу щедру ,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0000"/>
                </a:solidFill>
                <a:latin typeface="Calibri"/>
                <a:ea typeface="Times New Roman"/>
              </a:rPr>
              <a:t>Хоч дерева сини ,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0000"/>
                </a:solidFill>
                <a:latin typeface="Calibri"/>
                <a:ea typeface="Times New Roman"/>
              </a:rPr>
              <a:t>Згоряючи до щенту ,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0000"/>
                </a:solidFill>
                <a:latin typeface="Calibri"/>
                <a:ea typeface="Times New Roman"/>
              </a:rPr>
              <a:t>Вогонь дають вони .                              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4465440" cy="343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372360" y="3860640"/>
            <a:ext cx="22827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8F4E-5708-4E2C-8C50-B7407FD9F3F2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714240" y="500040"/>
            <a:ext cx="62866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Погляньте - но, діти,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на цей сірничок :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Червона голівка ,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жовтенький бочок 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На вигляд звичайний :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тонкий і малий,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Буває він добрий,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буває і злий 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Він може зігріти,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зварити обід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Він плавить метал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і розтоплює лід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А може і ліс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велетенський спалити ,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Майно, і будинок,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760000"/>
                </a:solidFill>
                <a:latin typeface="Arial"/>
              </a:rPr>
              <a:t>і все спопелити 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60000"/>
                </a:solidFill>
                <a:latin typeface="Arial"/>
              </a:rPr>
              <a:t>Діти , </a:t>
            </a:r>
            <a:r>
              <a:rPr b="1" lang="uk-UA" sz="2800" spc="-1" strike="noStrike">
                <a:solidFill>
                  <a:srgbClr val="760000"/>
                </a:solidFill>
                <a:latin typeface="Arial"/>
              </a:rPr>
              <a:t>ви будьте з вогнем обережні</a:t>
            </a:r>
            <a:r>
              <a:rPr b="0" lang="uk-UA" sz="2800" spc="-1" strike="noStrike">
                <a:solidFill>
                  <a:srgbClr val="76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60000"/>
                </a:solidFill>
                <a:latin typeface="Arial"/>
              </a:rPr>
              <a:t>І вивчіть всі правила протипожежні .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03640" y="620640"/>
            <a:ext cx="5508720" cy="350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61240" y="3500280"/>
            <a:ext cx="22827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60000"/>
                </a:solidFill>
                <a:latin typeface="Calibri"/>
              </a:rPr>
              <a:t>Вогонь добрий, вогонь злий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60000"/>
                </a:solidFill>
                <a:latin typeface="Calibri"/>
              </a:rPr>
              <a:t>Дуже люблять сірники розпалить вогонь в печі,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60000"/>
                </a:solidFill>
                <a:latin typeface="Calibri"/>
              </a:rPr>
              <a:t>Всіх в кімнаті обігріти і смачний обід зварити.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60000"/>
                </a:solidFill>
                <a:latin typeface="Calibri"/>
              </a:rPr>
              <a:t>Та не люблять сірники, як беруть їх малюки,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60000"/>
                </a:solidFill>
                <a:latin typeface="Calibri"/>
              </a:rPr>
              <a:t>В небезпечні ігри грають, на дорослих не зважають.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60000"/>
                </a:solidFill>
                <a:latin typeface="Calibri"/>
              </a:rPr>
              <a:t>І тоді страшна біда може статись, дітвора.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60000"/>
                </a:solidFill>
                <a:latin typeface="Calibri"/>
              </a:rPr>
              <a:t>Вогонь добрий - стане злим, ви не впораєтесь з ним.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C4A5-BB41-4C58-94B8-5210D4212409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72360" y="3860640"/>
            <a:ext cx="22827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D6FE-BED6-432F-B4F1-20140DE571FF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2"/>
          <a:srcRect l="0" t="0" r="35" b="65"/>
          <a:stretch/>
        </p:blipFill>
        <p:spPr>
          <a:xfrm>
            <a:off x="611280" y="1628640"/>
            <a:ext cx="6715080" cy="4643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4356000" y="1773360"/>
            <a:ext cx="292896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Не грайтесь сірниками вдома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659640" y="3645000"/>
            <a:ext cx="2282760" cy="26366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9"/>
          <p:cNvSpPr/>
          <p:nvPr/>
        </p:nvSpPr>
        <p:spPr>
          <a:xfrm>
            <a:off x="1000080" y="5000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0000"/>
                </a:solidFill>
                <a:latin typeface="Arial"/>
              </a:rPr>
              <a:t>Причини виникнення пожежі.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0000"/>
                </a:solidFill>
                <a:latin typeface="Arial"/>
              </a:rPr>
              <a:t>Щоб не трапилось біди, правил пожежних дотримуйсь завжди!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E627-1405-4D16-ABA2-C599AAA2E324}" type="datetime">
              <a:rPr b="0" lang="en-US" sz="1200" spc="-1" strike="noStrike">
                <a:solidFill>
                  <a:srgbClr val="a7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7D49-87E0-4E71-AD9D-559D664618D4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2"/>
          <a:srcRect l="0" t="0" r="-18" b="-75"/>
          <a:stretch/>
        </p:blipFill>
        <p:spPr>
          <a:xfrm>
            <a:off x="642960" y="642960"/>
            <a:ext cx="6929280" cy="5072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1143000" y="928800"/>
            <a:ext cx="38577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Не залишайте без нагляду включені електроприлади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659640" y="3645000"/>
            <a:ext cx="22827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0631-1C8A-4A0C-A2C2-2E1DC8066386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67" name="Picture 2" descr="C:\Documents and Settings\Admin\Рабочий стол\картинки про пожежу\газ.jpg"/>
          <p:cNvPicPr/>
          <p:nvPr/>
        </p:nvPicPr>
        <p:blipFill>
          <a:blip r:embed="rId2"/>
          <a:stretch/>
        </p:blipFill>
        <p:spPr>
          <a:xfrm>
            <a:off x="714240" y="714240"/>
            <a:ext cx="3038760" cy="20718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571680" y="2857680"/>
            <a:ext cx="32144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Забули виключити газ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69" name="Picture 3" descr="C:\Documents and Settings\Admin\Рабочий стол\картинки про пожежу\дом горить.jpg"/>
          <p:cNvPicPr/>
          <p:nvPr/>
        </p:nvPicPr>
        <p:blipFill>
          <a:blip r:embed="rId3"/>
          <a:stretch/>
        </p:blipFill>
        <p:spPr>
          <a:xfrm>
            <a:off x="3929040" y="2714760"/>
            <a:ext cx="4832280" cy="3214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2282760" cy="263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588000" y="0"/>
            <a:ext cx="22831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BCBB-8407-49C6-86D6-6AC8E5441433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73" name="Рисунок 5" descr=""/>
          <p:cNvPicPr/>
          <p:nvPr/>
        </p:nvPicPr>
        <p:blipFill>
          <a:blip r:embed="rId2"/>
          <a:srcRect l="0" t="0" r="-38" b="22"/>
          <a:stretch/>
        </p:blipFill>
        <p:spPr>
          <a:xfrm>
            <a:off x="539640" y="1165320"/>
            <a:ext cx="6747120" cy="49068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6"/>
          <p:cNvSpPr/>
          <p:nvPr/>
        </p:nvSpPr>
        <p:spPr>
          <a:xfrm>
            <a:off x="1187280" y="1989000"/>
            <a:ext cx="2714760" cy="1000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Не залишайте  розпалених вогнищ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659640" y="3645000"/>
            <a:ext cx="22827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390B-E33E-4428-B060-6CF90874C171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77" name="Рисунок 5" descr=""/>
          <p:cNvPicPr/>
          <p:nvPr/>
        </p:nvPicPr>
        <p:blipFill>
          <a:blip r:embed="rId2"/>
          <a:srcRect l="0" t="0" r="-16" b="-8"/>
          <a:stretch/>
        </p:blipFill>
        <p:spPr>
          <a:xfrm>
            <a:off x="571680" y="1143000"/>
            <a:ext cx="6215040" cy="47862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7"/>
          <p:cNvSpPr/>
          <p:nvPr/>
        </p:nvSpPr>
        <p:spPr>
          <a:xfrm>
            <a:off x="6143760" y="500040"/>
            <a:ext cx="257148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Не сушіть білизну над відкритим вогнем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659640" y="3645000"/>
            <a:ext cx="22827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8:15:13Z</dcterms:created>
  <dc:creator>Admin</dc:creator>
  <dc:description>http://aida.ucoz.ru</dc:description>
  <dc:language>en-US</dc:language>
  <cp:lastModifiedBy>User</cp:lastModifiedBy>
  <dcterms:modified xsi:type="dcterms:W3CDTF">2015-11-22T17:11:09Z</dcterms:modified>
  <cp:revision>46</cp:revision>
  <dc:subject/>
  <dc:title>Правил пожежних дотримуйсь завжди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f000000000001024140</vt:lpwstr>
  </property>
</Properties>
</file>