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28.wmf" ContentType="image/x-wmf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A29-823F-4A4D-A619-22F67582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1D6-0164-4050-B2EF-28EF074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5E1-B496-4532-83A1-F7F1C48A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6DC-A335-4AD6-957C-D838F15A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B42D-F4F3-403E-87DB-3700B446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2545-6BBF-4B96-BEA8-A2302E3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600B-38F1-4283-A4BA-204FF7E3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D93-5C7A-4691-A750-53879FE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188-DE64-44D6-82D7-C56A4ACC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6D5-E326-41A1-893C-E57B5DD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4385-708B-4996-BDC3-883BB79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A38-B058-45E9-A715-F43A17B0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392A-EDB4-40A6-904E-842CBAB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B4D2-F157-40FB-B217-F634904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98C0-B93F-40BD-8187-DAD11963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3C4-3E92-4F49-A1EB-621A00E6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896-E323-4FDA-B5BD-C4D0DC9C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425-D532-4A82-8251-D619EF2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1B2-B01E-4F74-92F7-A8106E8F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014-8DEC-4529-BCBA-D4ED41EA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EE3-767D-4EA2-843D-3B55348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EC1-89C2-4AA1-94AB-6800F4DF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2B0-0CBE-49B3-921D-52CAD27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DF8-2446-486D-9311-6B57ED2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Freeform 3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Freeform 6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BB00-5175-43ED-8A40-BFC3B0BB3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Freeform 3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Freeform 5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3B6-24D8-4518-967A-20E9699FD0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7"/>
          <p:cNvSpPr/>
          <p:nvPr/>
        </p:nvSpPr>
        <p:spPr>
          <a:xfrm>
            <a:off x="2627280" y="2924280"/>
            <a:ext cx="5545080" cy="2736720"/>
          </a:xfrm>
          <a:prstGeom prst="hexagon">
            <a:avLst>
              <a:gd name="adj" fmla="val 50654"/>
              <a:gd name="vf" fmla="val 11547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4640" y="404640"/>
            <a:ext cx="6399360" cy="2438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льєф і корисні копалини Афр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651280" y="6377040"/>
            <a:ext cx="3198600" cy="4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Урок географії в 7 класі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6" descr="kilimandgaro_2img"/>
          <p:cNvPicPr/>
          <p:nvPr/>
        </p:nvPicPr>
        <p:blipFill>
          <a:blip r:embed="rId1"/>
          <a:stretch/>
        </p:blipFill>
        <p:spPr>
          <a:xfrm>
            <a:off x="3348000" y="2924280"/>
            <a:ext cx="4175280" cy="279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3743280" cy="2387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5219640" y="378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уніський Атла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2301840" cy="32065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3708360" y="765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Північ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Picture 9" descr="Ливия"/>
          <p:cNvPicPr/>
          <p:nvPr/>
        </p:nvPicPr>
        <p:blipFill>
          <a:blip r:embed="rId3"/>
          <a:stretch/>
        </p:blipFill>
        <p:spPr>
          <a:xfrm>
            <a:off x="1258920" y="4508640"/>
            <a:ext cx="3168720" cy="2062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10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3024360" cy="2001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5" name="Text Box 11"/>
          <p:cNvSpPr/>
          <p:nvPr/>
        </p:nvSpPr>
        <p:spPr>
          <a:xfrm>
            <a:off x="4643280" y="5084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аха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371600" y="189000"/>
            <a:ext cx="777240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572000" cy="33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8" name="Text Box 5"/>
          <p:cNvSpPr/>
          <p:nvPr/>
        </p:nvSpPr>
        <p:spPr>
          <a:xfrm>
            <a:off x="5003640" y="4941720"/>
            <a:ext cx="338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Ефіопські нагір'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айвища точка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– 4 620 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025800" cy="327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0" name="Text Box 7"/>
          <p:cNvSpPr/>
          <p:nvPr/>
        </p:nvSpPr>
        <p:spPr>
          <a:xfrm>
            <a:off x="140328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Північно-Схід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9"/>
          <p:cNvSpPr/>
          <p:nvPr/>
        </p:nvSpPr>
        <p:spPr>
          <a:xfrm>
            <a:off x="4859280" y="98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хід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Picture 10" descr="Килиманджа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1052640"/>
            <a:ext cx="2700360" cy="3330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1403280" y="4365720"/>
            <a:ext cx="352764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КІЛІМАНДЖАРО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(від афр. "Кілімангаро" - сяюча гора), найвища точка материка, вулкан заввишки 5 895 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5" name="Picture 12" descr="Ущелье 120 м - для вдп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651640" y="1557360"/>
            <a:ext cx="2736720" cy="2373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3"/>
          <p:cNvSpPr/>
          <p:nvPr/>
        </p:nvSpPr>
        <p:spPr>
          <a:xfrm>
            <a:off x="5435640" y="400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щелина водоспаду Вікторі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Picture 14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651640" y="4581360"/>
            <a:ext cx="3168360" cy="20196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1619280" y="623736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ічні пагорби, Руан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5796000" y="630396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и  в Кенії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449440" cy="228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2" name="Text Box 10"/>
          <p:cNvSpPr/>
          <p:nvPr/>
        </p:nvSpPr>
        <p:spPr>
          <a:xfrm>
            <a:off x="1908000" y="3357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енія, висота 5 199 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4932360" y="105264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хід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4152960" cy="263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Text Box 14"/>
          <p:cNvSpPr/>
          <p:nvPr/>
        </p:nvSpPr>
        <p:spPr>
          <a:xfrm>
            <a:off x="5940360" y="4653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хили Східно--африканського плоскогір'я в Мозамбік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" name="Picture 15" descr="Кения  гор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1052640"/>
            <a:ext cx="252108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7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3311280" cy="2192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Text Box 5"/>
          <p:cNvSpPr/>
          <p:nvPr/>
        </p:nvSpPr>
        <p:spPr>
          <a:xfrm>
            <a:off x="2124000" y="3213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збережжя Ган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292720" y="981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Захід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240000" cy="2201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2" name="Text Box 10"/>
          <p:cNvSpPr/>
          <p:nvPr/>
        </p:nvSpPr>
        <p:spPr>
          <a:xfrm>
            <a:off x="5292720" y="49417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амерун, висота 4 100 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3"/>
          <a:stretch/>
        </p:blipFill>
        <p:spPr>
          <a:xfrm>
            <a:off x="1763640" y="4005360"/>
            <a:ext cx="3311640" cy="210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4" name="Text Box 12"/>
          <p:cNvSpPr/>
          <p:nvPr/>
        </p:nvSpPr>
        <p:spPr>
          <a:xfrm>
            <a:off x="37958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1763640" y="62928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івнини Ліберії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2421000"/>
            <a:ext cx="2637000" cy="3531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8" name="Text Box 10"/>
          <p:cNvSpPr/>
          <p:nvPr/>
        </p:nvSpPr>
        <p:spPr>
          <a:xfrm>
            <a:off x="5148360" y="3789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раконові гор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1619280" y="5877000"/>
            <a:ext cx="32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0" name="Picture 12" descr="Драконовы горы-6"/>
          <p:cNvPicPr/>
          <p:nvPr/>
        </p:nvPicPr>
        <p:blipFill>
          <a:blip r:embed="rId2"/>
          <a:stretch/>
        </p:blipFill>
        <p:spPr>
          <a:xfrm>
            <a:off x="4500720" y="907920"/>
            <a:ext cx="4300560" cy="2770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3"/>
          <p:cNvSpPr/>
          <p:nvPr/>
        </p:nvSpPr>
        <p:spPr>
          <a:xfrm>
            <a:off x="1692360" y="119700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Південн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716360" y="4292640"/>
            <a:ext cx="3780000" cy="234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3" name="Text Box 15"/>
          <p:cNvSpPr/>
          <p:nvPr/>
        </p:nvSpPr>
        <p:spPr>
          <a:xfrm>
            <a:off x="1835280" y="609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1332000" y="609300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Капські гор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7"/>
          <p:cNvSpPr/>
          <p:nvPr/>
        </p:nvSpPr>
        <p:spPr>
          <a:xfrm>
            <a:off x="6624720" y="1341360"/>
            <a:ext cx="251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Південн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3924360" y="4076640"/>
            <a:ext cx="4895640" cy="248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8" name="Text Box 11"/>
          <p:cNvSpPr/>
          <p:nvPr/>
        </p:nvSpPr>
        <p:spPr>
          <a:xfrm>
            <a:off x="5219640" y="5877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258920" y="5084640"/>
            <a:ext cx="273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юн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мібії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4680000" cy="2679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1" name="Text Box 14"/>
          <p:cNvSpPr/>
          <p:nvPr/>
        </p:nvSpPr>
        <p:spPr>
          <a:xfrm>
            <a:off x="6551640" y="278136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Рівнин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ахарі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371600" y="18900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Корисні копалини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4368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Таблиця: «Взаємозалежність між рельєфом, корисними копалинами та будовою земної кор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6" name="Rectangle 13"/>
          <p:cNvGraphicFramePr/>
          <p:nvPr/>
        </p:nvGraphicFramePr>
        <p:xfrm>
          <a:off x="1547640" y="1916280"/>
          <a:ext cx="7234560" cy="45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72345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9"/>
          <p:cNvSpPr/>
          <p:nvPr/>
        </p:nvSpPr>
        <p:spPr>
          <a:xfrm>
            <a:off x="2124000" y="2421000"/>
            <a:ext cx="5112000" cy="273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692360" y="119700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Згадаєм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763640" y="76500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Що називаеться рельєфом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92360" y="119700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Verdana"/>
              </a:rPr>
              <a:t>Рельєф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93939"/>
                </a:solidFill>
                <a:latin typeface="Verdana"/>
              </a:rPr>
              <a:t>– </a:t>
            </a:r>
            <a:r>
              <a:rPr b="1" lang="en-US" sz="1600" spc="-1" strike="noStrike">
                <a:solidFill>
                  <a:srgbClr val="393939"/>
                </a:solidFill>
                <a:latin typeface="Verdana"/>
              </a:rPr>
              <a:t>сукупність нерівностей земної поверхні, що розрізняються по розмірах, походженню і віці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3280" y="1844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звіть основні форми поверхні суші і їх ділення  за висотою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692360" y="5157720"/>
            <a:ext cx="71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Як на карті зображаються форми рельєфу суходолу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332000" y="5661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148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751120" y="589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47640" y="5589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Як змінюються гори і рівнини в часі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619280" y="602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. Що називається платформою і яка її будов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2843280" y="2492280"/>
            <a:ext cx="792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5724360" y="2492280"/>
            <a:ext cx="115272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843280" y="2492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Гор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580000" y="2492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Рівнин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399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543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4067280" y="306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0-2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5508720" y="306864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овин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4356000" y="3573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924360" y="34290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-5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5435640" y="342900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исочин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3924360" y="3789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500-10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5508720" y="3789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оскогіря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2700360" y="3789360"/>
            <a:ext cx="12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ькі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3924360" y="414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1000-20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050920" y="4149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ередньовисокі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3924360" y="45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0-50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248436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исокі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392436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ільше 5000 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3924360" y="2421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Висота над рвнем моря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195640" y="4797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айвищі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3203640" y="2852640"/>
            <a:ext cx="71280" cy="1008000"/>
          </a:xfrm>
          <a:prstGeom prst="downArrow">
            <a:avLst>
              <a:gd name="adj1" fmla="val 50000"/>
              <a:gd name="adj2" fmla="val 353535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AutoShape 43"/>
          <p:cNvSpPr/>
          <p:nvPr/>
        </p:nvSpPr>
        <p:spPr>
          <a:xfrm>
            <a:off x="6227640" y="285264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419640" y="1125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Зміст урок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1844640"/>
            <a:ext cx="7199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42800" indent="-44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ктуалізація знань про рельєф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жерела інформації про рельєф і корисні копалини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тапи розвитку земної кори (аналіз карти будови земної кори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4149720"/>
            <a:ext cx="3888000" cy="2505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403280" y="3500280"/>
            <a:ext cx="36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 Загальні особливості рельєфу Африки (аналіз фізичної карти Африки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 Рельєф окремих частин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 Закономірності розміщення корисних копали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0800" y="138240"/>
            <a:ext cx="587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ТЕМА УРОКУ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Рельєф і корисні копалини Афри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Джерела інформації про рельєф і корисні копалини матер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03280" y="1628640"/>
            <a:ext cx="75232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Verdana"/>
              </a:rPr>
              <a:t>Карта будови земної кори (тектонічна карта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Розглянете умовні знаки карти в атласі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Визначите, які характеристики рельєфу ви можете отримати з їх допомогою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Verdana"/>
              </a:rPr>
              <a:t>Ф</a:t>
            </a:r>
            <a:r>
              <a:rPr b="1" lang="uk-UA" sz="1600" spc="-1" strike="noStrike" u="sng">
                <a:solidFill>
                  <a:srgbClr val="ffff00"/>
                </a:solidFill>
                <a:uFillTx/>
                <a:latin typeface="Verdana"/>
              </a:rPr>
              <a:t>ізична карта світу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Для чого може знадобитися ця карта при описі рельєфу Африки?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Verdana"/>
              </a:rPr>
              <a:t>3 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Verdana"/>
              </a:rPr>
              <a:t>Фізична карта Африк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Якою з карт (фізичною картою світу або фізичною картою Африки)  зручніше користуватися при описі рельєфу материка? Чому?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4. 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Verdana"/>
              </a:rPr>
              <a:t>Текст параграфа підручник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5. Плани опису рельєфу території і окремої форми рельєф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9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Етапи розвитку земної ко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80000" y="19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Завдання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692360" y="148428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63640" y="836640"/>
            <a:ext cx="7129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Згідно теорії літосферних плит,  Африка як частина суші сформувалася  більше 1 600 млн. років тому. Виділення Африки з південного континенту Гондваны почалося близько 135 млн. років том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371600" y="2335320"/>
            <a:ext cx="77407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За картою будови земної кори визначте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межах якої літосферної плити лежить Африк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Яка її тектонічна будов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Який вік  гірських порід платформ і областей складчастості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403280" y="47037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332000" y="5013360"/>
            <a:ext cx="7632720" cy="1152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332000" y="5084640"/>
            <a:ext cx="7416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сно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ю Африканської літосферної плити є давні плптформи, які мають фундамент віком більше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6 млрд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оків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,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і області найдавнішої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кладчатост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1200 - 500 млн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років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).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16000" y="43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Пер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ша особливість тектонічної будови</a:t>
            </a: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 Афр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Етапи розвитку земної ко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547640" y="765000"/>
            <a:ext cx="727416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До якої тектонічної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бласті відноситься північно-західна частина материк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Який напрямок та швидкість руху Африканської плит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яких частинах материка розташовані зони землетрусів і сучасного горотворення, відбуваються великі розлом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2000" y="3284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Друга особливість тектонічної будови Афр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332000" y="3860640"/>
            <a:ext cx="7632720" cy="17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3933720"/>
            <a:ext cx="748980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івнічно-західна частина материка розташована в області нової складчастості (вік від 160 до 70 млн. років), схід Африки - зона землетрусів і сучасного утворення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Африканська плита рухається на північний схід із швидкістю 1, 9 см/рік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184560" y="690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Загальні особливості рельєфу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635280" y="1557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692360" y="1413000"/>
            <a:ext cx="7200720" cy="39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Завдання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Прочитайте текст підручника 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Розглянете карту будови земної кор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. Відповідайте на питання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Які дві  великі форми рельєфу присутніна материку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Які займають велику площу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Які процеси сформували сучасний рельєф Африк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Які дві частини включає Африка по переважаючих висотах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Яка частина материка була довгий час зайнята морем? Якими за походженням гірськими породами вона покрита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У чому особливість рельєфу східної частини Африк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0"/>
          <p:cNvSpPr/>
          <p:nvPr/>
        </p:nvSpPr>
        <p:spPr>
          <a:xfrm>
            <a:off x="3203640" y="2565360"/>
            <a:ext cx="1008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2700360" y="3860640"/>
            <a:ext cx="122400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4356000" y="3284640"/>
            <a:ext cx="2232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5580000" y="4365720"/>
            <a:ext cx="2016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4643280" y="2349360"/>
            <a:ext cx="194328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2411280" y="1268280"/>
            <a:ext cx="0" cy="504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2411280" y="6308640"/>
            <a:ext cx="5689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2340000" y="558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2340000" y="486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340000" y="414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2340000" y="342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340000" y="270828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835280" y="6165720"/>
            <a:ext cx="4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476360" y="544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476360" y="47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1476360" y="400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76360" y="3284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476360" y="2565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5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2340000" y="198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547640" y="1844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6 00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 flipV="1">
            <a:off x="2411280" y="1052280"/>
            <a:ext cx="0" cy="511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692360" y="1052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1908000" y="115920"/>
            <a:ext cx="6767640" cy="792000"/>
          </a:xfrm>
          <a:prstGeom prst="rect">
            <a:avLst/>
          </a:prstGeom>
          <a:solidFill>
            <a:srgbClr val="cbcbc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11592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орівняльні висоти гір Афри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Freeform 30"/>
          <p:cNvSpPr/>
          <p:nvPr/>
        </p:nvSpPr>
        <p:spPr>
          <a:xfrm>
            <a:off x="2419200" y="3666960"/>
            <a:ext cx="5519880" cy="2644920"/>
          </a:xfrm>
          <a:custGeom>
            <a:avLst/>
            <a:gdLst/>
            <a:ahLst/>
            <a:rect l="l" t="t" r="r" b="b"/>
            <a:pathLst>
              <a:path w="3477" h="1666">
                <a:moveTo>
                  <a:pt x="0" y="1399"/>
                </a:moveTo>
                <a:cubicBezTo>
                  <a:pt x="27" y="1372"/>
                  <a:pt x="62" y="1354"/>
                  <a:pt x="92" y="1329"/>
                </a:cubicBezTo>
                <a:cubicBezTo>
                  <a:pt x="110" y="1314"/>
                  <a:pt x="155" y="1301"/>
                  <a:pt x="155" y="1301"/>
                </a:cubicBezTo>
                <a:cubicBezTo>
                  <a:pt x="167" y="1250"/>
                  <a:pt x="210" y="1232"/>
                  <a:pt x="232" y="1188"/>
                </a:cubicBezTo>
                <a:cubicBezTo>
                  <a:pt x="245" y="1162"/>
                  <a:pt x="247" y="1127"/>
                  <a:pt x="267" y="1104"/>
                </a:cubicBezTo>
                <a:cubicBezTo>
                  <a:pt x="275" y="1095"/>
                  <a:pt x="287" y="1092"/>
                  <a:pt x="295" y="1083"/>
                </a:cubicBezTo>
                <a:cubicBezTo>
                  <a:pt x="325" y="1050"/>
                  <a:pt x="338" y="1006"/>
                  <a:pt x="373" y="977"/>
                </a:cubicBezTo>
                <a:cubicBezTo>
                  <a:pt x="400" y="954"/>
                  <a:pt x="428" y="940"/>
                  <a:pt x="457" y="921"/>
                </a:cubicBezTo>
                <a:cubicBezTo>
                  <a:pt x="502" y="929"/>
                  <a:pt x="538" y="945"/>
                  <a:pt x="576" y="970"/>
                </a:cubicBezTo>
                <a:cubicBezTo>
                  <a:pt x="609" y="1020"/>
                  <a:pt x="590" y="1004"/>
                  <a:pt x="625" y="1027"/>
                </a:cubicBezTo>
                <a:cubicBezTo>
                  <a:pt x="663" y="1025"/>
                  <a:pt x="702" y="1032"/>
                  <a:pt x="738" y="1020"/>
                </a:cubicBezTo>
                <a:cubicBezTo>
                  <a:pt x="765" y="1011"/>
                  <a:pt x="777" y="979"/>
                  <a:pt x="801" y="963"/>
                </a:cubicBezTo>
                <a:cubicBezTo>
                  <a:pt x="815" y="929"/>
                  <a:pt x="824" y="912"/>
                  <a:pt x="850" y="886"/>
                </a:cubicBezTo>
                <a:cubicBezTo>
                  <a:pt x="870" y="825"/>
                  <a:pt x="937" y="844"/>
                  <a:pt x="998" y="837"/>
                </a:cubicBezTo>
                <a:cubicBezTo>
                  <a:pt x="1036" y="824"/>
                  <a:pt x="1068" y="806"/>
                  <a:pt x="1103" y="788"/>
                </a:cubicBezTo>
                <a:cubicBezTo>
                  <a:pt x="1130" y="774"/>
                  <a:pt x="1120" y="790"/>
                  <a:pt x="1145" y="767"/>
                </a:cubicBezTo>
                <a:cubicBezTo>
                  <a:pt x="1177" y="738"/>
                  <a:pt x="1202" y="696"/>
                  <a:pt x="1244" y="682"/>
                </a:cubicBezTo>
                <a:cubicBezTo>
                  <a:pt x="1268" y="658"/>
                  <a:pt x="1281" y="648"/>
                  <a:pt x="1314" y="640"/>
                </a:cubicBezTo>
                <a:cubicBezTo>
                  <a:pt x="1385" y="648"/>
                  <a:pt x="1438" y="655"/>
                  <a:pt x="1504" y="668"/>
                </a:cubicBezTo>
                <a:cubicBezTo>
                  <a:pt x="1518" y="675"/>
                  <a:pt x="1533" y="681"/>
                  <a:pt x="1546" y="689"/>
                </a:cubicBezTo>
                <a:cubicBezTo>
                  <a:pt x="1563" y="700"/>
                  <a:pt x="1595" y="725"/>
                  <a:pt x="1595" y="725"/>
                </a:cubicBezTo>
                <a:cubicBezTo>
                  <a:pt x="1644" y="715"/>
                  <a:pt x="1637" y="710"/>
                  <a:pt x="1679" y="689"/>
                </a:cubicBezTo>
                <a:cubicBezTo>
                  <a:pt x="1692" y="682"/>
                  <a:pt x="1721" y="675"/>
                  <a:pt x="1721" y="675"/>
                </a:cubicBezTo>
                <a:cubicBezTo>
                  <a:pt x="1762" y="634"/>
                  <a:pt x="1793" y="602"/>
                  <a:pt x="1827" y="556"/>
                </a:cubicBezTo>
                <a:cubicBezTo>
                  <a:pt x="1850" y="420"/>
                  <a:pt x="1814" y="583"/>
                  <a:pt x="1855" y="493"/>
                </a:cubicBezTo>
                <a:cubicBezTo>
                  <a:pt x="1863" y="475"/>
                  <a:pt x="1853" y="448"/>
                  <a:pt x="1869" y="437"/>
                </a:cubicBezTo>
                <a:cubicBezTo>
                  <a:pt x="1892" y="420"/>
                  <a:pt x="1925" y="427"/>
                  <a:pt x="1953" y="422"/>
                </a:cubicBezTo>
                <a:cubicBezTo>
                  <a:pt x="1989" y="404"/>
                  <a:pt x="2020" y="379"/>
                  <a:pt x="2058" y="366"/>
                </a:cubicBezTo>
                <a:cubicBezTo>
                  <a:pt x="2063" y="359"/>
                  <a:pt x="2065" y="350"/>
                  <a:pt x="2072" y="345"/>
                </a:cubicBezTo>
                <a:cubicBezTo>
                  <a:pt x="2078" y="340"/>
                  <a:pt x="2088" y="343"/>
                  <a:pt x="2094" y="338"/>
                </a:cubicBezTo>
                <a:cubicBezTo>
                  <a:pt x="2099" y="333"/>
                  <a:pt x="2098" y="324"/>
                  <a:pt x="2101" y="317"/>
                </a:cubicBezTo>
                <a:cubicBezTo>
                  <a:pt x="2114" y="291"/>
                  <a:pt x="2129" y="270"/>
                  <a:pt x="2157" y="261"/>
                </a:cubicBezTo>
                <a:cubicBezTo>
                  <a:pt x="2180" y="238"/>
                  <a:pt x="2198" y="226"/>
                  <a:pt x="2227" y="212"/>
                </a:cubicBezTo>
                <a:cubicBezTo>
                  <a:pt x="2253" y="173"/>
                  <a:pt x="2226" y="204"/>
                  <a:pt x="2262" y="184"/>
                </a:cubicBezTo>
                <a:cubicBezTo>
                  <a:pt x="2277" y="176"/>
                  <a:pt x="2304" y="156"/>
                  <a:pt x="2304" y="156"/>
                </a:cubicBezTo>
                <a:cubicBezTo>
                  <a:pt x="2316" y="158"/>
                  <a:pt x="2328" y="160"/>
                  <a:pt x="2339" y="163"/>
                </a:cubicBezTo>
                <a:cubicBezTo>
                  <a:pt x="2354" y="167"/>
                  <a:pt x="2382" y="177"/>
                  <a:pt x="2382" y="177"/>
                </a:cubicBezTo>
                <a:cubicBezTo>
                  <a:pt x="2408" y="175"/>
                  <a:pt x="2434" y="175"/>
                  <a:pt x="2459" y="170"/>
                </a:cubicBezTo>
                <a:cubicBezTo>
                  <a:pt x="2490" y="164"/>
                  <a:pt x="2514" y="133"/>
                  <a:pt x="2543" y="120"/>
                </a:cubicBezTo>
                <a:cubicBezTo>
                  <a:pt x="2574" y="107"/>
                  <a:pt x="2610" y="105"/>
                  <a:pt x="2641" y="92"/>
                </a:cubicBezTo>
                <a:cubicBezTo>
                  <a:pt x="2777" y="34"/>
                  <a:pt x="2671" y="71"/>
                  <a:pt x="2733" y="50"/>
                </a:cubicBezTo>
                <a:cubicBezTo>
                  <a:pt x="2779" y="16"/>
                  <a:pt x="2755" y="0"/>
                  <a:pt x="2810" y="22"/>
                </a:cubicBezTo>
                <a:cubicBezTo>
                  <a:pt x="2877" y="89"/>
                  <a:pt x="2791" y="9"/>
                  <a:pt x="2852" y="50"/>
                </a:cubicBezTo>
                <a:cubicBezTo>
                  <a:pt x="2883" y="70"/>
                  <a:pt x="2887" y="101"/>
                  <a:pt x="2922" y="120"/>
                </a:cubicBezTo>
                <a:cubicBezTo>
                  <a:pt x="2980" y="151"/>
                  <a:pt x="3070" y="146"/>
                  <a:pt x="3126" y="149"/>
                </a:cubicBezTo>
                <a:cubicBezTo>
                  <a:pt x="3128" y="175"/>
                  <a:pt x="3125" y="201"/>
                  <a:pt x="3133" y="226"/>
                </a:cubicBezTo>
                <a:cubicBezTo>
                  <a:pt x="3135" y="234"/>
                  <a:pt x="3148" y="234"/>
                  <a:pt x="3154" y="240"/>
                </a:cubicBezTo>
                <a:cubicBezTo>
                  <a:pt x="3200" y="281"/>
                  <a:pt x="3194" y="275"/>
                  <a:pt x="3217" y="310"/>
                </a:cubicBezTo>
                <a:cubicBezTo>
                  <a:pt x="3233" y="373"/>
                  <a:pt x="3302" y="405"/>
                  <a:pt x="3337" y="458"/>
                </a:cubicBezTo>
                <a:cubicBezTo>
                  <a:pt x="3341" y="483"/>
                  <a:pt x="3342" y="532"/>
                  <a:pt x="3358" y="556"/>
                </a:cubicBezTo>
                <a:cubicBezTo>
                  <a:pt x="3368" y="571"/>
                  <a:pt x="3383" y="583"/>
                  <a:pt x="3393" y="598"/>
                </a:cubicBezTo>
                <a:cubicBezTo>
                  <a:pt x="3400" y="626"/>
                  <a:pt x="3408" y="654"/>
                  <a:pt x="3414" y="682"/>
                </a:cubicBezTo>
                <a:cubicBezTo>
                  <a:pt x="3418" y="701"/>
                  <a:pt x="3428" y="739"/>
                  <a:pt x="3428" y="739"/>
                </a:cubicBezTo>
                <a:cubicBezTo>
                  <a:pt x="3435" y="803"/>
                  <a:pt x="3443" y="865"/>
                  <a:pt x="3456" y="928"/>
                </a:cubicBezTo>
                <a:cubicBezTo>
                  <a:pt x="3458" y="956"/>
                  <a:pt x="3461" y="985"/>
                  <a:pt x="3463" y="1013"/>
                </a:cubicBezTo>
                <a:cubicBezTo>
                  <a:pt x="3468" y="1081"/>
                  <a:pt x="3477" y="1216"/>
                  <a:pt x="3477" y="1216"/>
                </a:cubicBezTo>
                <a:cubicBezTo>
                  <a:pt x="3475" y="1366"/>
                  <a:pt x="3470" y="1666"/>
                  <a:pt x="3470" y="1666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Freeform 31"/>
          <p:cNvSpPr/>
          <p:nvPr/>
        </p:nvSpPr>
        <p:spPr>
          <a:xfrm>
            <a:off x="2411280" y="3068640"/>
            <a:ext cx="2810160" cy="1593720"/>
          </a:xfrm>
          <a:custGeom>
            <a:avLst/>
            <a:gdLst/>
            <a:ahLst/>
            <a:rect l="l" t="t" r="r" b="b"/>
            <a:pathLst>
              <a:path w="1770" h="1004">
                <a:moveTo>
                  <a:pt x="1770" y="1004"/>
                </a:moveTo>
                <a:cubicBezTo>
                  <a:pt x="1761" y="1002"/>
                  <a:pt x="1751" y="1000"/>
                  <a:pt x="1742" y="997"/>
                </a:cubicBezTo>
                <a:cubicBezTo>
                  <a:pt x="1728" y="993"/>
                  <a:pt x="1700" y="983"/>
                  <a:pt x="1700" y="983"/>
                </a:cubicBezTo>
                <a:cubicBezTo>
                  <a:pt x="1688" y="971"/>
                  <a:pt x="1678" y="958"/>
                  <a:pt x="1665" y="948"/>
                </a:cubicBezTo>
                <a:cubicBezTo>
                  <a:pt x="1657" y="942"/>
                  <a:pt x="1645" y="940"/>
                  <a:pt x="1637" y="934"/>
                </a:cubicBezTo>
                <a:cubicBezTo>
                  <a:pt x="1607" y="911"/>
                  <a:pt x="1601" y="882"/>
                  <a:pt x="1567" y="871"/>
                </a:cubicBezTo>
                <a:cubicBezTo>
                  <a:pt x="1542" y="833"/>
                  <a:pt x="1510" y="807"/>
                  <a:pt x="1482" y="772"/>
                </a:cubicBezTo>
                <a:cubicBezTo>
                  <a:pt x="1477" y="765"/>
                  <a:pt x="1475" y="755"/>
                  <a:pt x="1468" y="751"/>
                </a:cubicBezTo>
                <a:cubicBezTo>
                  <a:pt x="1442" y="737"/>
                  <a:pt x="1409" y="739"/>
                  <a:pt x="1384" y="723"/>
                </a:cubicBezTo>
                <a:cubicBezTo>
                  <a:pt x="1369" y="713"/>
                  <a:pt x="1358" y="696"/>
                  <a:pt x="1342" y="688"/>
                </a:cubicBezTo>
                <a:cubicBezTo>
                  <a:pt x="1321" y="678"/>
                  <a:pt x="1274" y="672"/>
                  <a:pt x="1251" y="667"/>
                </a:cubicBezTo>
                <a:cubicBezTo>
                  <a:pt x="1192" y="628"/>
                  <a:pt x="1120" y="628"/>
                  <a:pt x="1054" y="604"/>
                </a:cubicBezTo>
                <a:cubicBezTo>
                  <a:pt x="1040" y="599"/>
                  <a:pt x="1025" y="597"/>
                  <a:pt x="1012" y="590"/>
                </a:cubicBezTo>
                <a:cubicBezTo>
                  <a:pt x="997" y="582"/>
                  <a:pt x="970" y="562"/>
                  <a:pt x="970" y="562"/>
                </a:cubicBezTo>
                <a:cubicBezTo>
                  <a:pt x="952" y="535"/>
                  <a:pt x="942" y="470"/>
                  <a:pt x="942" y="470"/>
                </a:cubicBezTo>
                <a:cubicBezTo>
                  <a:pt x="924" y="195"/>
                  <a:pt x="942" y="312"/>
                  <a:pt x="892" y="161"/>
                </a:cubicBezTo>
                <a:cubicBezTo>
                  <a:pt x="878" y="120"/>
                  <a:pt x="861" y="84"/>
                  <a:pt x="850" y="42"/>
                </a:cubicBezTo>
                <a:cubicBezTo>
                  <a:pt x="846" y="28"/>
                  <a:pt x="836" y="0"/>
                  <a:pt x="836" y="0"/>
                </a:cubicBezTo>
                <a:cubicBezTo>
                  <a:pt x="826" y="29"/>
                  <a:pt x="827" y="82"/>
                  <a:pt x="808" y="105"/>
                </a:cubicBezTo>
                <a:cubicBezTo>
                  <a:pt x="796" y="120"/>
                  <a:pt x="776" y="122"/>
                  <a:pt x="759" y="126"/>
                </a:cubicBezTo>
                <a:cubicBezTo>
                  <a:pt x="714" y="121"/>
                  <a:pt x="670" y="112"/>
                  <a:pt x="625" y="112"/>
                </a:cubicBezTo>
                <a:cubicBezTo>
                  <a:pt x="617" y="112"/>
                  <a:pt x="612" y="125"/>
                  <a:pt x="604" y="126"/>
                </a:cubicBezTo>
                <a:cubicBezTo>
                  <a:pt x="581" y="128"/>
                  <a:pt x="557" y="121"/>
                  <a:pt x="534" y="119"/>
                </a:cubicBezTo>
                <a:cubicBezTo>
                  <a:pt x="504" y="99"/>
                  <a:pt x="493" y="75"/>
                  <a:pt x="457" y="63"/>
                </a:cubicBezTo>
                <a:cubicBezTo>
                  <a:pt x="430" y="72"/>
                  <a:pt x="424" y="89"/>
                  <a:pt x="401" y="105"/>
                </a:cubicBezTo>
                <a:cubicBezTo>
                  <a:pt x="374" y="146"/>
                  <a:pt x="398" y="143"/>
                  <a:pt x="344" y="154"/>
                </a:cubicBezTo>
                <a:cubicBezTo>
                  <a:pt x="295" y="187"/>
                  <a:pt x="315" y="249"/>
                  <a:pt x="302" y="302"/>
                </a:cubicBezTo>
                <a:cubicBezTo>
                  <a:pt x="292" y="344"/>
                  <a:pt x="263" y="350"/>
                  <a:pt x="239" y="386"/>
                </a:cubicBezTo>
                <a:cubicBezTo>
                  <a:pt x="230" y="400"/>
                  <a:pt x="223" y="416"/>
                  <a:pt x="204" y="421"/>
                </a:cubicBezTo>
                <a:cubicBezTo>
                  <a:pt x="184" y="426"/>
                  <a:pt x="162" y="426"/>
                  <a:pt x="141" y="428"/>
                </a:cubicBezTo>
                <a:cubicBezTo>
                  <a:pt x="127" y="433"/>
                  <a:pt x="113" y="437"/>
                  <a:pt x="99" y="442"/>
                </a:cubicBezTo>
                <a:cubicBezTo>
                  <a:pt x="92" y="444"/>
                  <a:pt x="78" y="449"/>
                  <a:pt x="78" y="449"/>
                </a:cubicBezTo>
                <a:cubicBezTo>
                  <a:pt x="52" y="473"/>
                  <a:pt x="33" y="504"/>
                  <a:pt x="0" y="5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4643280" y="2421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Кіліманджар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5292720" y="1989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276720" y="2349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6804000" y="36450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059280" y="3141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40"/>
          <p:cNvSpPr/>
          <p:nvPr/>
        </p:nvSpPr>
        <p:spPr>
          <a:xfrm>
            <a:off x="644364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5580000" y="429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Драконові горі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4284720" y="3213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Ефіопське нагір'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46"/>
          <p:cNvSpPr/>
          <p:nvPr/>
        </p:nvSpPr>
        <p:spPr>
          <a:xfrm>
            <a:off x="2627280" y="3860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г.ТубкальАтла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2700360" y="436572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313200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г.Кені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3059280" y="1989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199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4716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89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6948360" y="3500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3 66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2930400" y="327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55"/>
          <p:cNvSpPr/>
          <p:nvPr/>
        </p:nvSpPr>
        <p:spPr>
          <a:xfrm>
            <a:off x="2411280" y="28526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16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Freeform 57"/>
          <p:cNvSpPr/>
          <p:nvPr/>
        </p:nvSpPr>
        <p:spPr>
          <a:xfrm>
            <a:off x="2411280" y="2421000"/>
            <a:ext cx="2448000" cy="720720"/>
          </a:xfrm>
          <a:custGeom>
            <a:avLst/>
            <a:gdLst/>
            <a:ahLst/>
            <a:rect l="l" t="t" r="r" b="b"/>
            <a:pathLst>
              <a:path w="1602" h="459">
                <a:moveTo>
                  <a:pt x="0" y="260"/>
                </a:moveTo>
                <a:cubicBezTo>
                  <a:pt x="56" y="251"/>
                  <a:pt x="110" y="248"/>
                  <a:pt x="162" y="225"/>
                </a:cubicBezTo>
                <a:cubicBezTo>
                  <a:pt x="200" y="208"/>
                  <a:pt x="218" y="179"/>
                  <a:pt x="260" y="169"/>
                </a:cubicBezTo>
                <a:cubicBezTo>
                  <a:pt x="267" y="164"/>
                  <a:pt x="273" y="159"/>
                  <a:pt x="281" y="155"/>
                </a:cubicBezTo>
                <a:cubicBezTo>
                  <a:pt x="288" y="152"/>
                  <a:pt x="297" y="153"/>
                  <a:pt x="302" y="148"/>
                </a:cubicBezTo>
                <a:cubicBezTo>
                  <a:pt x="307" y="143"/>
                  <a:pt x="303" y="131"/>
                  <a:pt x="309" y="127"/>
                </a:cubicBezTo>
                <a:cubicBezTo>
                  <a:pt x="321" y="118"/>
                  <a:pt x="351" y="113"/>
                  <a:pt x="351" y="113"/>
                </a:cubicBezTo>
                <a:cubicBezTo>
                  <a:pt x="377" y="89"/>
                  <a:pt x="360" y="101"/>
                  <a:pt x="408" y="85"/>
                </a:cubicBezTo>
                <a:cubicBezTo>
                  <a:pt x="415" y="83"/>
                  <a:pt x="429" y="78"/>
                  <a:pt x="429" y="78"/>
                </a:cubicBezTo>
                <a:cubicBezTo>
                  <a:pt x="467" y="38"/>
                  <a:pt x="524" y="30"/>
                  <a:pt x="569" y="0"/>
                </a:cubicBezTo>
                <a:cubicBezTo>
                  <a:pt x="590" y="2"/>
                  <a:pt x="611" y="3"/>
                  <a:pt x="632" y="7"/>
                </a:cubicBezTo>
                <a:cubicBezTo>
                  <a:pt x="647" y="10"/>
                  <a:pt x="675" y="21"/>
                  <a:pt x="675" y="21"/>
                </a:cubicBezTo>
                <a:cubicBezTo>
                  <a:pt x="864" y="12"/>
                  <a:pt x="868" y="8"/>
                  <a:pt x="1096" y="14"/>
                </a:cubicBezTo>
                <a:cubicBezTo>
                  <a:pt x="1131" y="37"/>
                  <a:pt x="1121" y="63"/>
                  <a:pt x="1145" y="92"/>
                </a:cubicBezTo>
                <a:cubicBezTo>
                  <a:pt x="1167" y="119"/>
                  <a:pt x="1204" y="133"/>
                  <a:pt x="1237" y="141"/>
                </a:cubicBezTo>
                <a:cubicBezTo>
                  <a:pt x="1246" y="155"/>
                  <a:pt x="1264" y="166"/>
                  <a:pt x="1265" y="183"/>
                </a:cubicBezTo>
                <a:cubicBezTo>
                  <a:pt x="1272" y="270"/>
                  <a:pt x="1260" y="295"/>
                  <a:pt x="1342" y="316"/>
                </a:cubicBezTo>
                <a:cubicBezTo>
                  <a:pt x="1379" y="341"/>
                  <a:pt x="1356" y="359"/>
                  <a:pt x="1377" y="380"/>
                </a:cubicBezTo>
                <a:cubicBezTo>
                  <a:pt x="1391" y="394"/>
                  <a:pt x="1508" y="401"/>
                  <a:pt x="1510" y="401"/>
                </a:cubicBezTo>
                <a:cubicBezTo>
                  <a:pt x="1522" y="403"/>
                  <a:pt x="1535" y="403"/>
                  <a:pt x="1546" y="408"/>
                </a:cubicBezTo>
                <a:cubicBezTo>
                  <a:pt x="1561" y="415"/>
                  <a:pt x="1588" y="436"/>
                  <a:pt x="1588" y="436"/>
                </a:cubicBezTo>
                <a:cubicBezTo>
                  <a:pt x="1596" y="459"/>
                  <a:pt x="1588" y="457"/>
                  <a:pt x="1602" y="45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Freeform 58"/>
          <p:cNvSpPr/>
          <p:nvPr/>
        </p:nvSpPr>
        <p:spPr>
          <a:xfrm>
            <a:off x="3835440" y="3056040"/>
            <a:ext cx="3848040" cy="1326960"/>
          </a:xfrm>
          <a:custGeom>
            <a:avLst/>
            <a:gdLst/>
            <a:ahLst/>
            <a:rect l="l" t="t" r="r" b="b"/>
            <a:pathLst>
              <a:path w="2424" h="836">
                <a:moveTo>
                  <a:pt x="0" y="161"/>
                </a:moveTo>
                <a:cubicBezTo>
                  <a:pt x="29" y="151"/>
                  <a:pt x="57" y="134"/>
                  <a:pt x="85" y="126"/>
                </a:cubicBezTo>
                <a:cubicBezTo>
                  <a:pt x="112" y="119"/>
                  <a:pt x="141" y="119"/>
                  <a:pt x="169" y="112"/>
                </a:cubicBezTo>
                <a:cubicBezTo>
                  <a:pt x="214" y="101"/>
                  <a:pt x="252" y="84"/>
                  <a:pt x="295" y="70"/>
                </a:cubicBezTo>
                <a:cubicBezTo>
                  <a:pt x="356" y="26"/>
                  <a:pt x="429" y="49"/>
                  <a:pt x="499" y="63"/>
                </a:cubicBezTo>
                <a:cubicBezTo>
                  <a:pt x="551" y="61"/>
                  <a:pt x="603" y="65"/>
                  <a:pt x="654" y="56"/>
                </a:cubicBezTo>
                <a:cubicBezTo>
                  <a:pt x="661" y="55"/>
                  <a:pt x="656" y="41"/>
                  <a:pt x="661" y="35"/>
                </a:cubicBezTo>
                <a:cubicBezTo>
                  <a:pt x="671" y="23"/>
                  <a:pt x="706" y="11"/>
                  <a:pt x="717" y="7"/>
                </a:cubicBezTo>
                <a:cubicBezTo>
                  <a:pt x="808" y="12"/>
                  <a:pt x="901" y="13"/>
                  <a:pt x="991" y="28"/>
                </a:cubicBezTo>
                <a:cubicBezTo>
                  <a:pt x="1085" y="7"/>
                  <a:pt x="1123" y="8"/>
                  <a:pt x="1230" y="14"/>
                </a:cubicBezTo>
                <a:cubicBezTo>
                  <a:pt x="1363" y="31"/>
                  <a:pt x="1305" y="24"/>
                  <a:pt x="1405" y="35"/>
                </a:cubicBezTo>
                <a:cubicBezTo>
                  <a:pt x="1512" y="21"/>
                  <a:pt x="1541" y="6"/>
                  <a:pt x="1651" y="0"/>
                </a:cubicBezTo>
                <a:cubicBezTo>
                  <a:pt x="1665" y="2"/>
                  <a:pt x="1680" y="1"/>
                  <a:pt x="1693" y="7"/>
                </a:cubicBezTo>
                <a:cubicBezTo>
                  <a:pt x="1705" y="13"/>
                  <a:pt x="1710" y="27"/>
                  <a:pt x="1721" y="35"/>
                </a:cubicBezTo>
                <a:cubicBezTo>
                  <a:pt x="1727" y="39"/>
                  <a:pt x="1735" y="40"/>
                  <a:pt x="1742" y="42"/>
                </a:cubicBezTo>
                <a:cubicBezTo>
                  <a:pt x="1816" y="26"/>
                  <a:pt x="1840" y="37"/>
                  <a:pt x="1911" y="49"/>
                </a:cubicBezTo>
                <a:cubicBezTo>
                  <a:pt x="1958" y="80"/>
                  <a:pt x="2018" y="90"/>
                  <a:pt x="2073" y="98"/>
                </a:cubicBezTo>
                <a:cubicBezTo>
                  <a:pt x="2100" y="111"/>
                  <a:pt x="2128" y="118"/>
                  <a:pt x="2150" y="140"/>
                </a:cubicBezTo>
                <a:cubicBezTo>
                  <a:pt x="2173" y="163"/>
                  <a:pt x="2152" y="161"/>
                  <a:pt x="2185" y="175"/>
                </a:cubicBezTo>
                <a:cubicBezTo>
                  <a:pt x="2201" y="182"/>
                  <a:pt x="2218" y="184"/>
                  <a:pt x="2234" y="189"/>
                </a:cubicBezTo>
                <a:cubicBezTo>
                  <a:pt x="2243" y="196"/>
                  <a:pt x="2251" y="205"/>
                  <a:pt x="2262" y="210"/>
                </a:cubicBezTo>
                <a:cubicBezTo>
                  <a:pt x="2273" y="215"/>
                  <a:pt x="2287" y="211"/>
                  <a:pt x="2297" y="217"/>
                </a:cubicBezTo>
                <a:cubicBezTo>
                  <a:pt x="2317" y="229"/>
                  <a:pt x="2325" y="281"/>
                  <a:pt x="2325" y="281"/>
                </a:cubicBezTo>
                <a:cubicBezTo>
                  <a:pt x="2334" y="385"/>
                  <a:pt x="2335" y="336"/>
                  <a:pt x="2361" y="414"/>
                </a:cubicBezTo>
                <a:cubicBezTo>
                  <a:pt x="2366" y="428"/>
                  <a:pt x="2365" y="446"/>
                  <a:pt x="2375" y="456"/>
                </a:cubicBezTo>
                <a:cubicBezTo>
                  <a:pt x="2396" y="477"/>
                  <a:pt x="2408" y="491"/>
                  <a:pt x="2417" y="519"/>
                </a:cubicBezTo>
                <a:cubicBezTo>
                  <a:pt x="2419" y="625"/>
                  <a:pt x="2424" y="836"/>
                  <a:pt x="2424" y="8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372360" y="278136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62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Freeform 62"/>
          <p:cNvSpPr/>
          <p:nvPr/>
        </p:nvSpPr>
        <p:spPr>
          <a:xfrm>
            <a:off x="4211640" y="2060640"/>
            <a:ext cx="3130560" cy="1263600"/>
          </a:xfrm>
          <a:custGeom>
            <a:avLst/>
            <a:gdLst/>
            <a:ahLst/>
            <a:rect l="l" t="t" r="r" b="b"/>
            <a:pathLst>
              <a:path w="1972" h="796">
                <a:moveTo>
                  <a:pt x="0" y="333"/>
                </a:moveTo>
                <a:cubicBezTo>
                  <a:pt x="18" y="321"/>
                  <a:pt x="36" y="315"/>
                  <a:pt x="54" y="303"/>
                </a:cubicBezTo>
                <a:cubicBezTo>
                  <a:pt x="68" y="279"/>
                  <a:pt x="121" y="217"/>
                  <a:pt x="149" y="208"/>
                </a:cubicBezTo>
                <a:cubicBezTo>
                  <a:pt x="159" y="178"/>
                  <a:pt x="148" y="199"/>
                  <a:pt x="172" y="178"/>
                </a:cubicBezTo>
                <a:cubicBezTo>
                  <a:pt x="224" y="132"/>
                  <a:pt x="204" y="136"/>
                  <a:pt x="279" y="119"/>
                </a:cubicBezTo>
                <a:cubicBezTo>
                  <a:pt x="315" y="101"/>
                  <a:pt x="346" y="97"/>
                  <a:pt x="386" y="89"/>
                </a:cubicBezTo>
                <a:cubicBezTo>
                  <a:pt x="446" y="77"/>
                  <a:pt x="505" y="63"/>
                  <a:pt x="564" y="48"/>
                </a:cubicBezTo>
                <a:cubicBezTo>
                  <a:pt x="594" y="41"/>
                  <a:pt x="625" y="38"/>
                  <a:pt x="653" y="24"/>
                </a:cubicBezTo>
                <a:cubicBezTo>
                  <a:pt x="669" y="16"/>
                  <a:pt x="701" y="0"/>
                  <a:pt x="701" y="0"/>
                </a:cubicBezTo>
                <a:cubicBezTo>
                  <a:pt x="804" y="3"/>
                  <a:pt x="870" y="5"/>
                  <a:pt x="962" y="18"/>
                </a:cubicBezTo>
                <a:cubicBezTo>
                  <a:pt x="1024" y="39"/>
                  <a:pt x="1087" y="38"/>
                  <a:pt x="1152" y="42"/>
                </a:cubicBezTo>
                <a:cubicBezTo>
                  <a:pt x="1211" y="52"/>
                  <a:pt x="1271" y="50"/>
                  <a:pt x="1330" y="60"/>
                </a:cubicBezTo>
                <a:cubicBezTo>
                  <a:pt x="1349" y="63"/>
                  <a:pt x="1377" y="67"/>
                  <a:pt x="1396" y="72"/>
                </a:cubicBezTo>
                <a:cubicBezTo>
                  <a:pt x="1410" y="75"/>
                  <a:pt x="1437" y="83"/>
                  <a:pt x="1437" y="83"/>
                </a:cubicBezTo>
                <a:cubicBezTo>
                  <a:pt x="1441" y="89"/>
                  <a:pt x="1444" y="96"/>
                  <a:pt x="1449" y="101"/>
                </a:cubicBezTo>
                <a:cubicBezTo>
                  <a:pt x="1460" y="110"/>
                  <a:pt x="1485" y="125"/>
                  <a:pt x="1485" y="125"/>
                </a:cubicBezTo>
                <a:cubicBezTo>
                  <a:pt x="1500" y="170"/>
                  <a:pt x="1542" y="181"/>
                  <a:pt x="1586" y="196"/>
                </a:cubicBezTo>
                <a:cubicBezTo>
                  <a:pt x="1600" y="217"/>
                  <a:pt x="1602" y="231"/>
                  <a:pt x="1621" y="250"/>
                </a:cubicBezTo>
                <a:cubicBezTo>
                  <a:pt x="1632" y="283"/>
                  <a:pt x="1634" y="314"/>
                  <a:pt x="1663" y="333"/>
                </a:cubicBezTo>
                <a:cubicBezTo>
                  <a:pt x="1674" y="365"/>
                  <a:pt x="1699" y="373"/>
                  <a:pt x="1728" y="380"/>
                </a:cubicBezTo>
                <a:cubicBezTo>
                  <a:pt x="1771" y="409"/>
                  <a:pt x="1754" y="394"/>
                  <a:pt x="1782" y="422"/>
                </a:cubicBezTo>
                <a:cubicBezTo>
                  <a:pt x="1794" y="458"/>
                  <a:pt x="1821" y="503"/>
                  <a:pt x="1847" y="529"/>
                </a:cubicBezTo>
                <a:cubicBezTo>
                  <a:pt x="1867" y="589"/>
                  <a:pt x="1833" y="497"/>
                  <a:pt x="1871" y="564"/>
                </a:cubicBezTo>
                <a:cubicBezTo>
                  <a:pt x="1894" y="604"/>
                  <a:pt x="1878" y="663"/>
                  <a:pt x="1918" y="689"/>
                </a:cubicBezTo>
                <a:cubicBezTo>
                  <a:pt x="1943" y="726"/>
                  <a:pt x="1925" y="737"/>
                  <a:pt x="1942" y="784"/>
                </a:cubicBezTo>
                <a:cubicBezTo>
                  <a:pt x="1946" y="794"/>
                  <a:pt x="1962" y="791"/>
                  <a:pt x="1972" y="796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єф окремих частин матер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340000" y="981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Північна Афри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5440" cy="26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345600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6" name="Text Box 9"/>
          <p:cNvSpPr/>
          <p:nvPr/>
        </p:nvSpPr>
        <p:spPr>
          <a:xfrm>
            <a:off x="3059280" y="2276640"/>
            <a:ext cx="2665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исокий Атла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айвища точк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г. Тубкаль, 4 165 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348000" y="6237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изький Атла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240000" cy="218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7:32:32Z</dcterms:created>
  <dc:creator/>
  <dc:description/>
  <dc:language>en-US</dc:language>
  <cp:lastModifiedBy>Admin</cp:lastModifiedBy>
  <dcterms:modified xsi:type="dcterms:W3CDTF">2017-11-11T11:19:24Z</dcterms:modified>
  <cp:revision>21</cp:revision>
  <dc:subject/>
  <dc:title>Рельеф Африки</dc:title>
</cp:coreProperties>
</file>