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A8E-FE4D-496A-A38F-00FF25FE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D06-E03E-4AAF-AD11-A06A68E5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C5A5-5A68-47E8-A4EC-7608B971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0FD27-228F-4E01-8A84-793B367A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33080-1445-4740-8519-6BFD573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4386-955A-4878-A69D-281808F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7D28-AB68-4A60-9984-C06F918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223A3-7CFB-4C20-B827-2EA47F2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0F86-B9F1-412F-BFA0-E3E1E0F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907D3-7A62-4BD3-8594-A6C75BD2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5FEC-F2DE-4F60-A300-8AE8E8CB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0CC04-24E9-4F24-B1FC-2EBACC56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AA5-7EF1-418F-8FC5-4AD3A310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B1B3D-96B4-43F1-9FC7-91EBDF3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45504-4DBE-4082-B518-8E24945B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D5D3-14B7-4716-84E1-C14FBE6D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014C-AA86-4347-BEEA-CBF5076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551B1-45E9-4F13-B29E-7EEFB5A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EB056-0F25-4C24-BC8C-5ECF001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577F8-00E4-42AC-8489-DABDECA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15B18-986E-4883-9AC3-A4A6229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FB1D0-DD17-4707-B42A-B8CFE15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F21C4-3E2E-4C00-83D5-8AAF9F8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B2F-83F6-47EE-BB06-AAE9B9AC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1A3FA-665F-457F-9844-079FB9D8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382FF-38D6-43A4-9CB4-188BA0A8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4629-F001-47BD-BAA8-01667BE7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0B33-A8C0-4817-8D7F-AADAF6B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75FB-D7B3-4000-BD11-696C323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1A28-AEF7-42B8-ACC0-21331A08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89D0C-2FB2-44FA-9155-3F5C8BB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32535-F226-476B-B15A-4DB4FF1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C8BB8-EECA-43FE-881A-C1D87A4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8EECE-AD7C-4A58-A7B9-64C4172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38FC-E4D1-4EAB-AB93-CB2E1A3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5B9D1-110C-454D-83B8-33A42C0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69064-B4EA-42B0-8448-A168A952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F022C-CA49-42A6-B229-E437FBE3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3BC25-579B-48ED-890D-C5ACDF0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9C86-DA50-4EF0-ACF8-6F65095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8E482-1BF0-4508-AFFB-904729BE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AD7C5-C959-428F-8118-3D1E6EA5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E19AF-38AB-41FA-AFAA-BDB89FE4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9A9A4-B7BD-421E-A247-1692AA42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A1DBF-D9C7-49A6-8B08-09C8A5B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71A06-93E9-4596-9771-AACBDC6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18F5A-D97B-4D6C-9FDE-A3E2532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F790F-08F1-4BD3-A248-6986902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25AB8-D815-4C5A-B6E3-46600CD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58EB5-14D3-4664-82E5-DFF61407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2BE50-802A-4557-B9A8-DDEFF974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C434-B17D-45F8-BC32-0828F86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98C10-E44B-46D5-AA2E-DBA8B110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C3AB-2921-4CFC-9D50-AD4EE2A8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6E184-1974-4892-97AA-8D84DA59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9671-3D28-4CA8-8075-C9DFECB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840-1BC2-4D30-87DA-93AF71E1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34F3-3022-4228-B7DF-D42BBF4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C0033-DE9D-4561-814B-32529C7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65B7D-86AE-4FC1-802A-7F5E351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867C-0EAB-4725-ACA8-4480E03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2645-3455-4231-B82F-B91AC27A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8102-1A53-4944-AFB6-0F51273D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1282-5D81-4516-8BA0-F9E6101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B570-EF44-4B5B-A0E7-C814139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5F50-F409-48B1-8811-2DEDDAE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9278-AB14-4E12-8D6A-2BF2070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19B-E4DA-4EB6-9F76-BBF5E2C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B7C0-F1A4-4F19-8DA6-D645C76B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AC77-FB29-4662-ACE2-C9253C6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8EED-9DA7-4385-B5D3-FD72408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78CB-EAEE-4D71-9134-6DAB3BC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DF1C-6851-42CB-A3CA-CB9B97A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C376-0356-4808-9E8A-396A81CF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2578-233F-4853-A5C1-EDBC9D5D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C12F-6BD0-4475-A150-2BBAD531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9BA8-91DB-4BA4-BAF4-3B919C9A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863C-32AA-4182-8367-CE56120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E5F-FFB7-4827-8702-66A2D097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D570-E5C7-4C6B-80B6-2A45A8E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4230-CD35-4147-972C-CBFEF3F9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B36C-098C-4C23-B792-97739C6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0A5F-E157-47F7-80B8-1520E49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09AA-7334-4197-B504-77B3CED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022B-90BB-44C0-AF41-D1FB2CC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F0DD-5BF6-4018-B4CB-ACD3235D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01E1-CA8A-4058-B931-40AD757E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07AC-F18D-431C-A728-CFF442E0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159A-1F66-4FDF-80B5-9AFAA9A1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138-7D82-448A-82F7-8A5896EC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61697-2E91-434E-B19C-AACFAAE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48B5-62C1-4AF7-9B3A-6CCB11C6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2E5E-E2EA-41BF-B8FA-B6467F0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C605-7329-4574-BABD-8F4D29C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5A22-530C-4230-ACC0-7FF0FFD8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D1F3-86D7-4D62-9660-139650E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5FBDE-8D84-455B-A488-E17C33FA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6AEE-2C0D-458F-843A-B0B73CB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6BCA-1915-4C30-9DA6-619A774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B909-56C7-4053-AD42-BD3948EA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C11-E6AB-4195-98F4-13D526E2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3FF9-9DFB-4573-AFED-EC37C566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F1FB-342E-42AD-9140-EAF192D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C9E1-6243-4246-8975-F3DDC30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90B5-8C85-42A1-82C8-587E72F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8003-1852-4FE6-B8E4-2433B20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A54A-1A6F-4BFA-9130-7242D5C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7912-EC26-40DA-8CFD-A1BEA569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25B5-6917-41D2-9B56-133132A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719C-4C5B-45AE-8CC7-8B0B40AB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E77F-EC94-435D-A995-A64F073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0A2-22CB-4D08-BD06-15B526E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67AB-BB1F-4B28-8601-5877490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17A1-93BF-4B80-9B4D-E0A80116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84E2-051C-4632-9855-C2887674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64BB-49A6-4990-95D4-BCAE1538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1DEF7-152A-4C6D-9C13-3E74994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3A8B7-790C-4442-8713-D79C0CE2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7D62-6CBE-4316-86A3-57E58FA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7FBD-0657-4F26-BB4F-FB79AE64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A2A5-B8D1-4C83-A887-0B3CE29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BE28-22F8-4991-8DA0-27AB822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A02-1FF3-48C3-BD8F-DBEFF03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AB070-41CF-42B1-A5A6-79C66821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BF66-F829-44E7-BEEB-640C9C1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BEDD-63B0-44C2-9CF5-D5989C9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1CF5-0247-44C0-9D7F-222BC5BF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EBBB-BE3D-427F-93B3-C7F9A752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0CC3-C011-4CB7-B4CE-E55793B6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08D3-CDDE-4E63-B305-BFAE8CF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91B3-9AE9-433B-9CE8-00039BD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C5BD-761E-4AA7-B30B-9ACFB05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6310-86D3-4114-BD94-F8DD5F8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BB6-F61C-47F3-8E99-446F38B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7A90-7914-48F3-9E66-F72E20B4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9E59E-4A1A-4939-A3EC-1B9ED20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FC68-04E7-41F3-A835-2939665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DD48-02CA-4D67-9AE3-04D7216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C3F0-8F73-4671-BB5B-19856E17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6F2C-F12D-471E-9F44-075F07C7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8877-8BCD-4EF2-9DB8-023D362E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817CC-3B3F-4DAE-9C9B-8B82E9CD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5240-69F9-45B8-985E-7FA5BE6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C21A1-7FEA-4111-B36B-F6DE261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8858-FE05-4668-86BF-A4C80C6DE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A073-0CDD-401D-A065-543C03E18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614-20F3-4DE9-A8FF-24DC22965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6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EBA2-8544-445C-B84C-73FFEBFAB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D74A-24B1-4570-B7F0-1663ACC78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FFB-4D48-4487-8A5E-8E85327A72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900-95D7-4CD2-BE75-DA533D655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9DD0-D13F-4DDF-AAEA-C40F4B47E4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E302-107A-4AA0-8C35-C03331974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D76-A310-48FC-9498-85733F014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60F-69D5-4300-8767-4C4A68FEF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FF3-1DA0-4ED9-ACAC-205C80AE83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343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ирода має лиш один секрет —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Чи тут, чи там, у Космосу глибинах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е: від малих піщинок до планет —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Із елементів складене єдиних.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» </a:t>
            </a:r>
            <a:br>
              <a:rPr sz="4000"/>
            </a:b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. Щипач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42920" y="5495760"/>
            <a:ext cx="5972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СФОР – ЦЕ ІМ’Я МОЄ!</a:t>
            </a:r>
            <a:br>
              <a:rPr sz="32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71320" y="1267920"/>
            <a:ext cx="8243640" cy="40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Про який елемент йде мо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рослин я необхідни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І для грунту завжди рідний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ольоровий у природі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ілий в чорний переходить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и червоний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ен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стрів 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 коробці сірників!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твоєму мозку є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5" descr="Результат пошуку зображень за запитом &quot;картинки фосфора&quot;"/>
          <p:cNvPicPr/>
          <p:nvPr/>
        </p:nvPicPr>
        <p:blipFill>
          <a:blip r:embed="rId1"/>
          <a:stretch/>
        </p:blipFill>
        <p:spPr>
          <a:xfrm>
            <a:off x="-7920" y="4724280"/>
            <a:ext cx="32130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Результат пошуку зображень за запитом &quot;картинки фосфор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THE SERIAL NUMBER OF PHOSPHORUS IS 16,THE NUMBER OF PROTONS IS 16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2.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S CHEMICAL SYMBOL IS F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HAS 5 ENERGY LEVELS FILLED WITH ELECTRON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EXTERNAL ENERGY LEVEL THERE ARE 2 ELECTRONS.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GHER OXIDE FORMULA IS P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. THE COMPOUND WITH HYDROGEN DOES NOT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99640" y="189000"/>
            <a:ext cx="78440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Вправа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«Знайди помилку»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900000" y="620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2" descr="Результат пошуку зображень за запитом &quot;картинки желейного ведмедя&quot;"/>
          <p:cNvPicPr/>
          <p:nvPr/>
        </p:nvPicPr>
        <p:blipFill>
          <a:blip r:embed="rId1"/>
          <a:stretch/>
        </p:blipFill>
        <p:spPr>
          <a:xfrm>
            <a:off x="4067280" y="393372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0" y="-22320"/>
            <a:ext cx="923148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СРІБЛЯСТИЙ, Я КРИЛАТИ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ОКО ЛЮБЛЮ ЛІТА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КОРОЗІЇ НЕ ЗНА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ІВКОЮ СЕБЕ ВКРИВА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ОПОРАХ ЧЕРЕЗ ЛІ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ДРОТАМИ Я ПОВИ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У ДВЕРІ ЗМАЙСТРУВАТ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УДОМ НА КУХНІ СТА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РОДЖУЮСЬ ІЗ ГЛИН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 МЕНЕ НАЗВЕШ ТИ НИНІ?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МУ ДОБРИЙ ПРОВІДНИК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СВІТІ ТРЕТІЙ МАНДРІВНИК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 БУКВИ “А” Я ПОЧИНАЮС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ІБНО-БІЛИЙ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ГИНАЮСЬ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55640" y="549360"/>
            <a:ext cx="777240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2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Дати характеристику елемента за план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4875120" y="1522440"/>
            <a:ext cx="42688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8508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PHYSICAL PROPERTIES OF ALUMINIUM.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2.WHO DISCOVERED IT AND WHEN?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3. SOURSES( DISTRIBUTION IN NATURE)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4.USES.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HAZARDS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Let’s read them and translat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389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ОЗНАЙОМИТИСЬ З РОЗДАНИМ ТЕКСТОМ, ПРОЧИТАТИ ТА ДАТИ ВІДПОВІДІ НА ПИТАННЯ: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1 .ФІЗИЧНІ ВЛАСТИВОСТІ АЛЮМІНІЮ.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2.  ХТО І КОЛИ ВІДКРИВ?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3.  ПОШИРЕННЯ В ПРИРОДІ.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4.  ЗАСТОСУВАННЯ 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5.  ВПЛИВ НА ОРГАНІЗ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160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обота з тексто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1.ЯКЕ НУКЛОННЕ ЧИСЛО МАЄ АТОМ З ПРОТОННИМ ЧИСЛОМ 11?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WHAT IS THE PROTON NUMBER OF HALOGEN OF THE III PERIOD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? 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3. ЕЛЕМЕНТ ЗНАХОДИТЬСЯ В ІІІ ПЕРІОДІ І МАЄ ФОРМУЛУ ВИЩОГО ОКСИДУ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. ЯКИЙ ЦЕ ЕЛЕМЕНТ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Дати відповіді на питанн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0124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What element has an atom, with 2 energy levels and 4 electrons at the external energy level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? </a:t>
            </a:r>
            <a:br>
              <a:rPr sz="3600"/>
            </a:b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5. Елемент утворює летку сполуку з Гідрогеном, формула якої -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R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, а електрони в атомі рухаються по 4 енергетич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них рівнях. Який це елемент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3600"/>
            </a:b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6.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Which element has 12 electrons , 12 protons and 12 neutrons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?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755640" y="2565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Домашнє завдання: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ати характеристику хімічному елементу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С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за планом і знайти цікаву інформацію про цей  елемент. ; параграф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Your hometask for the next lesson is to read the text about chlorine and to find     informatio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on 6 items as you did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the text about alumi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Результат пошуку зображень за запитом &quot;картинки періодична&quot;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тосування алюміні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2"/>
          <p:cNvSpPr/>
          <p:nvPr/>
        </p:nvSpPr>
        <p:spPr>
          <a:xfrm>
            <a:off x="142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Результат пошуку зображень за запитом &quot;картинки застосування алюмінію&quot;"/>
          <p:cNvPicPr/>
          <p:nvPr/>
        </p:nvPicPr>
        <p:blipFill>
          <a:blip r:embed="rId1"/>
          <a:srcRect l="-247" t="19327" r="250" b="0"/>
          <a:stretch/>
        </p:blipFill>
        <p:spPr>
          <a:xfrm>
            <a:off x="23760" y="1012680"/>
            <a:ext cx="8913960" cy="5845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2" descr="Результат пошуку зображень за запитом &quot;картинки застосування силіцію&quot;"/>
          <p:cNvPicPr/>
          <p:nvPr/>
        </p:nvPicPr>
        <p:blipFill>
          <a:blip r:embed="rId1"/>
          <a:stretch/>
        </p:blipFill>
        <p:spPr>
          <a:xfrm>
            <a:off x="-252360" y="-100080"/>
            <a:ext cx="9659880" cy="724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2" descr="Результат пошуку зображень за запитом &quot;картинки застосування титану&quot;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2" descr="Результат пошуку зображень за запитом &quot;картинки застосування заліза&quot;"/>
          <p:cNvPicPr/>
          <p:nvPr/>
        </p:nvPicPr>
        <p:blipFill>
          <a:blip r:embed="rId1"/>
          <a:srcRect l="0" t="4254" r="0" b="7345"/>
          <a:stretch/>
        </p:blipFill>
        <p:spPr>
          <a:xfrm>
            <a:off x="-3240" y="-100080"/>
            <a:ext cx="910584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000" y="1712880"/>
            <a:ext cx="817236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99"/>
                </a:solidFill>
                <a:latin typeface="Franklin Gothic Medium Cond"/>
              </a:rPr>
              <a:t>Тема уроку: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Характеристика хімічних елементів за їх місцем у</a:t>
            </a: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іодичній системі і будовою атома.</a:t>
            </a:r>
            <a:br>
              <a:rPr sz="4400"/>
            </a:b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5" descr="Результат пошуку зображень за запитом &quot;картинки періодична система&quot;"/>
          <p:cNvPicPr/>
          <p:nvPr/>
        </p:nvPicPr>
        <p:blipFill>
          <a:blip r:embed="rId1"/>
          <a:stretch/>
        </p:blipFill>
        <p:spPr>
          <a:xfrm>
            <a:off x="5364000" y="3908520"/>
            <a:ext cx="374832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5976720" cy="30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Бліц – </a:t>
            </a:r>
            <a:br>
              <a:rPr sz="4800"/>
            </a:b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опитування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-181080" y="1844640"/>
            <a:ext cx="745344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1.Скільки є періодів у ПС?  Як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2.Що означає номер період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3.Скільки є груп у ПС? Як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4.Що означає номер груп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5.Що таке порядковий номер елемен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6.Яку будову має ато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4724280" y="53341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7093080" y="-6480"/>
            <a:ext cx="202392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97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So your top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ic is</a:t>
            </a: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68160" y="12682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eature elements by place in the Periodic System and by atomic   structure”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rcRect l="0" t="0" r="0" b="18279"/>
          <a:stretch/>
        </p:blipFill>
        <p:spPr>
          <a:xfrm>
            <a:off x="1187280" y="3602160"/>
            <a:ext cx="7026480" cy="3268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0:01Z</dcterms:created>
  <dc:creator>user</dc:creator>
  <dc:description/>
  <dc:language>en-US</dc:language>
  <cp:lastModifiedBy>user</cp:lastModifiedBy>
  <dcterms:modified xsi:type="dcterms:W3CDTF">2017-11-28T17:43:53Z</dcterms:modified>
  <cp:revision>271</cp:revision>
  <dc:subject/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