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B9C-08D6-4EE8-92E8-56851322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B97-5DA5-4702-BA8A-8B5D494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F74-8FDC-414D-8A13-DFAB0CB4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24E-A064-4561-8537-29FDF3EB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760C-3DA4-4C88-9A3D-046897B5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8C7B-B6DE-4880-B972-F5157C8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955-7708-4501-BA05-3F13BE0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50DA-B7B3-4356-9CF5-9326C73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1AC-6C1B-46B9-A9A6-8775D85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657-D06B-4A1F-81BA-FFEF37E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29F1-ACEF-45A3-8F9C-73B94B5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C8E-CDCB-45F0-98D4-B5F11AB0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6850-FF63-4708-A8C2-FDE0DF5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BE73-5F33-4634-819E-EE8E87F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935-133D-45F2-9DBA-85EF8249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EC7F-39AF-4C4F-AA25-30DDA90F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00D9-A1D0-41AA-B27C-E2F581BD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E68-95C1-4525-AF9A-CE7FB473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E15-D727-4D05-9FF4-465DA287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CB8-2BA2-4D22-8943-0740DE4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397-2DCA-4E43-8E6C-37BA429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55C-39A4-4445-8625-93BD718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7CF-7B35-4E45-8E5E-686CF16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70D-0226-4054-A155-B5B44BC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803-8920-4F52-8AAA-2E871E1737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C758-176F-43F9-86EF-99B4808B0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660066"/>
                </a:solidFill>
                <a:latin typeface="Times New Roman"/>
              </a:rPr>
              <a:t>Міжнародні відносини в 30-ті роки </a:t>
            </a:r>
            <a:r>
              <a:rPr b="1" i="1" lang="en-US" sz="4800" spc="-1" strike="noStrike">
                <a:solidFill>
                  <a:srgbClr val="660066"/>
                </a:solidFill>
                <a:latin typeface="Iskoola Pota"/>
                <a:ea typeface="Iskoola Pota"/>
              </a:rPr>
              <a:t>XX</a:t>
            </a:r>
            <a:r>
              <a:rPr b="1" i="1" lang="uk-UA" sz="4800" spc="-1" strike="noStrike">
                <a:solidFill>
                  <a:srgbClr val="660066"/>
                </a:solidFill>
                <a:latin typeface="Times New Roman"/>
                <a:ea typeface="Iskoola Pota"/>
              </a:rPr>
              <a:t> століття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Зовнішньополітичні пріоріт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провідних країн сві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663300"/>
                </a:solidFill>
                <a:latin typeface="Times New Roman"/>
              </a:rPr>
              <a:t>Виснов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Радянське керівниц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мало далекосяж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лани: територіа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ретензії до Румун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ольщі,Фінлянд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Угорщини. Латві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Литву, Естонію хоті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оглинути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Таким чи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Зовнішньополітичні пріоритети провідних країн 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базувалися на егоїзм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національн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державн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Ідеологічно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СШ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Франклін Рузве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Америка намагалась проводтити багатополюсну політику, активно діючи в усьому сві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1933 рік–встанов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дипломатичних відносин з СР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Проголошння політики “доброго сусіда” по відношення до Латинської Аме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99"/>
                </a:solidFill>
                <a:latin typeface="Times New Roman"/>
              </a:rPr>
              <a:t>Противники СШ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На Сході набирала сили Японія, я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погрожувала американській військовій монополії в Тихому океа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* В США почали гучніше лунати голоси “втручальників” - тих,хто вважав,що Америці не вдасться перечекати війну в Європі і необхідно до неї готуват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660033"/>
                </a:solidFill>
                <a:latin typeface="Times New Roman"/>
              </a:rPr>
              <a:t>Політика “нейтралітету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Проте у серпні 1935 року було прийнято закон про нейтралітет,який означав перемогу “ізоляціоністів” над втручальниками. Політику США називали “політикою нейтралітет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419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Times New Roman"/>
              </a:rPr>
              <a:t>Великобританія. Зміна позиції до Німеччин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го були налаштовані доброзичливо, щоб стримати претензії Франції на лідерство. Змагання у військовій сфері спричинило загострення англо-німецьких відносин. У1934 році рішення про збільшення сил авіації на 41 ескадрилью (800 бойових літаків).та було піз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ілл Чембер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9720" y="2057400"/>
            <a:ext cx="3551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3300"/>
                </a:solidFill>
                <a:latin typeface="Times New Roman"/>
              </a:rPr>
              <a:t>Франці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990033"/>
                </a:solidFill>
                <a:latin typeface="Arial"/>
              </a:rPr>
              <a:t>Едуард Даладьє. прем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`</a:t>
            </a:r>
            <a:r>
              <a:rPr b="0" lang="uk-UA" sz="2000" spc="-1" strike="noStrike">
                <a:solidFill>
                  <a:srgbClr val="990033"/>
                </a:solidFill>
                <a:latin typeface="Arial"/>
              </a:rPr>
              <a:t>єр-міністр з квітня 1938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8000"/>
                </a:solidFill>
                <a:latin typeface="Arial"/>
              </a:rPr>
              <a:t>Створення військово-політичних,так званих “тилових союзів” у Східній та Центральній Європі: з Польщею у 1921 та у 1934 роках, Мала Антанта (Чехословаччина, Югославія, Румунія). У 1932році пакт про ненапад з СРСР.</a:t>
            </a:r>
            <a:r>
              <a:rPr b="0" lang="uk-UA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311280" cy="391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СРС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Сталін (Джугашвілі) Йосип Віссаріо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У міжнародних відносинах переважають класові інтереси над загальнолюдсь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Тому СРСР повинен нарощувати військову міць та шукати нагоду зіткнути між собою капіталістичні 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1904760" cy="236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1752840" cy="184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660033"/>
                </a:solidFill>
                <a:latin typeface="Times New Roman"/>
              </a:rPr>
              <a:t>Вибір союзникі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660033"/>
                </a:solidFill>
                <a:latin typeface="Arial"/>
              </a:rPr>
              <a:t>Відповідно до вказівок Сталіна Радянський Союз нагнітав дух протистояння у міжнародних справах, що заважало визначитись, де його вороги,де потенційні союзники. Сталін не довіряв Англії і Франції і хоча з приходом до влади Гітлера, активізував переговори з ними, мав на меті скористатися “міжперіалістичними суперечностями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imes New Roman"/>
              </a:rPr>
              <a:t>Спроба створити систему колективної безпек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Р так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ж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шу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оюзник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на За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х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 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и под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имц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Франц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ї 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ен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1934 г. вступи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в д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Лиг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Нац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й. Б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а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обл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 заключен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Схі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го пакт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 п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 вза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н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 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п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гу на випадо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агре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ї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Й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о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в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н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б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 п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писат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ряд прибалт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й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их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хі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ропейских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ї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.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Та ц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не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ало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 зроби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`яз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ку 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тид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єю Н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ечч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и 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ль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щ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кі б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 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оста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нн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и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ву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Р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 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роп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. У моральному і політичному плані сталін був більше схильний до союзу з Гітлер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9:30:37Z</dcterms:created>
  <dc:creator>Олег</dc:creator>
  <dc:description/>
  <dc:language>en-US</dc:language>
  <cp:lastModifiedBy>Олег</cp:lastModifiedBy>
  <dcterms:modified xsi:type="dcterms:W3CDTF">2012-04-23T03:21:5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