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3195-5991-4A24-AF52-E24F67B78F3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62A4-76EF-4582-B13D-E087F074DA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A5E8-D5DA-4143-879F-55D207B7129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76C9-E770-4E85-8C6C-6718C12E686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1C63-2C58-46C3-B790-BB4F3FADFA9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EF80-A7C8-4109-AD10-53FCED2C24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1E9A-4D25-4B28-AB6C-4B56B08B23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1BBA-4531-4FC2-8350-D678AD9324E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69D0-869F-4CDE-9216-FD317AF093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D50C-B87D-4702-993F-CED0298573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0D50-167F-4C04-8150-03249C4F2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6DCB-E0B0-43A0-9FE9-F1E471E6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18A4-4D3B-420F-B619-E40A4C093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A288-83C8-4C4E-B109-DA9C1AAA0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E5D5-FA5A-4E10-BF97-1091F241A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94B7-FE04-4BEC-95EB-A9B44FD0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84C8-609A-42C1-ABEC-56831056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0EE5-D983-45C7-82E9-D011E0EE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2A729-9C1E-418B-A386-88DAB139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E917-EAA7-46F1-928D-05F6EFCF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5B6F-66A5-4DBC-93D4-FFFF93CE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1321-F9AA-42D1-941B-B9964BCA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E22A-095A-4232-A252-E035B3E5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1D93-7989-439C-8DBC-BA759A2A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8C73-0818-43E5-AC5D-87071BDB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BE91-3230-498A-8D80-83CFDF6B5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84A8-A6B3-4B3F-A50B-9413E0F06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4A9F-68AA-4CEB-8B12-3A21E484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CB81-D28F-4D22-9212-96633F86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6FB0-1BF4-4F03-9102-C97ADCDB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8851-53D2-48E0-8575-BE5D5E87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FD0F-056B-40ED-890F-E1EE71F8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91DD-AE24-4228-B0C0-5DB4F4BC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8CAD-153E-49AC-9DCD-5CD105DD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53B1-1A3E-495E-B0AE-A9B8A981DE9A}" type="datetime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0242-45D3-4932-BF3C-6611D8D4C49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6cb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6cb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6cb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F2AD-073C-46CC-8E68-8513552552CC}" type="datetime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112BE-7605-499A-8E3E-43C49661F73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Frans_Hals_-_Portret_van_Ren&#233;_Descartes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893E-F250-4882-8190-7D73B33B761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8610480" cy="16635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Тема: Декарто</a:t>
            </a:r>
            <a:r>
              <a:rPr b="0" lang="uk-UA" sz="5400" spc="-1" strike="noStrike">
                <a:solidFill>
                  <a:srgbClr val="000000"/>
                </a:solidFill>
                <a:latin typeface="Comic Sans MS"/>
              </a:rPr>
              <a:t>ві координати на площині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599840" y="58543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атюшенко В.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Номер слайда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8335-0664-437E-AAC6-AAC73B84F1C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39960" y="297000"/>
            <a:ext cx="573696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0000"/>
                </a:solidFill>
                <a:latin typeface="Comic Sans MS"/>
              </a:rPr>
              <a:t>Рене Декар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419360" y="1523520"/>
            <a:ext cx="4267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Декартову систему координат</a:t>
            </a:r>
            <a:r>
              <a:rPr b="0" i="1" lang="uk-UA" sz="2000" spc="-1" strike="noStrike">
                <a:solidFill>
                  <a:srgbClr val="000000"/>
                </a:solidFill>
                <a:latin typeface="Comic Sans MS"/>
              </a:rPr>
              <a:t> вперше запропонував відомий французький математик Рене Декарт близько 1637р. у працях «Геометрія» та «Міркування про метод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omic Sans MS"/>
              </a:rPr>
              <a:t>Рене́ Дека́рт  народився 31 березня 1596 — помер 11 лютого 1650 — французький філософ, фізик, фізіолог, математик, основоположник аналітичної геометрії.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5" descr="Портрет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371600"/>
            <a:ext cx="3546360" cy="45720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1676520" y="6095880"/>
            <a:ext cx="617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«Мислю, – отже, існую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омер слайда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8312-62A8-4982-9212-9F5A7535F7A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3200400" cy="26668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4495320"/>
            <a:ext cx="352728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Рис. 1.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Прямокутна система   координат на площині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10" descr=""/>
          <p:cNvPicPr/>
          <p:nvPr/>
        </p:nvPicPr>
        <p:blipFill>
          <a:blip r:embed="rId2"/>
          <a:stretch/>
        </p:blipFill>
        <p:spPr>
          <a:xfrm>
            <a:off x="457200" y="914400"/>
            <a:ext cx="3886200" cy="340056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3"/>
          <p:cNvSpPr/>
          <p:nvPr/>
        </p:nvSpPr>
        <p:spPr>
          <a:xfrm>
            <a:off x="4038480" y="838080"/>
            <a:ext cx="464832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О – початок координа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ОХ і ОУ – вісі координа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ОХ – вісь абсци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ОУ – вісь ордина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А(х;у) – координати точки 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х – абсциса, у – ордин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 u="sng">
                <a:solidFill>
                  <a:srgbClr val="009999"/>
                </a:solidFill>
                <a:uFillTx/>
                <a:latin typeface="Times New Roman"/>
              </a:rPr>
              <a:t>Абсциса</a:t>
            </a:r>
            <a:r>
              <a:rPr b="1" i="1" lang="uk-UA" sz="2000" spc="-1" strike="noStrike">
                <a:solidFill>
                  <a:srgbClr val="009999"/>
                </a:solidFill>
                <a:latin typeface="Times New Roman"/>
              </a:rPr>
              <a:t> – від лат.“абсцисум”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9999"/>
                </a:solidFill>
                <a:latin typeface="Times New Roman"/>
              </a:rPr>
              <a:t>відрізаний, відсіч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 u="sng">
                <a:solidFill>
                  <a:srgbClr val="009999"/>
                </a:solidFill>
                <a:uFillTx/>
                <a:latin typeface="Times New Roman"/>
              </a:rPr>
              <a:t>Ордината</a:t>
            </a:r>
            <a:r>
              <a:rPr b="1" i="1" lang="uk-UA" sz="2000" spc="-1" strike="noStrike">
                <a:solidFill>
                  <a:srgbClr val="009999"/>
                </a:solidFill>
                <a:latin typeface="Times New Roman"/>
              </a:rPr>
              <a:t> – від лат. ординатус”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9999"/>
                </a:solidFill>
                <a:latin typeface="Times New Roman"/>
              </a:rPr>
              <a:t>впорядкований. Від цього корен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9999"/>
                </a:solidFill>
                <a:latin typeface="Times New Roman"/>
              </a:rPr>
              <a:t>походить і слово “координата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Номер слайда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2155-7130-46E5-9A91-912D3AECB90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839520"/>
            <a:ext cx="6870600" cy="91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изначити координати жука і метелика на координатній площині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4495680" y="2057400"/>
            <a:ext cx="3772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4800600" y="1905120"/>
            <a:ext cx="3772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8" descr="СК 2D 8 5 жук"/>
          <p:cNvPicPr/>
          <p:nvPr/>
        </p:nvPicPr>
        <p:blipFill>
          <a:blip r:embed="rId1"/>
          <a:stretch/>
        </p:blipFill>
        <p:spPr>
          <a:xfrm>
            <a:off x="304920" y="2057400"/>
            <a:ext cx="4190760" cy="3186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СК 2D -5 7 бабочка"/>
          <p:cNvPicPr/>
          <p:nvPr/>
        </p:nvPicPr>
        <p:blipFill>
          <a:blip r:embed="rId2"/>
          <a:stretch/>
        </p:blipFill>
        <p:spPr>
          <a:xfrm>
            <a:off x="4648320" y="2057400"/>
            <a:ext cx="3504960" cy="320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3226-C94D-4CAE-9BBB-99C9EA91767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3" descr=""/>
          <p:cNvPicPr/>
          <p:nvPr/>
        </p:nvPicPr>
        <p:blipFill>
          <a:blip r:embed="rId1"/>
          <a:stretch/>
        </p:blipFill>
        <p:spPr>
          <a:xfrm>
            <a:off x="1752480" y="228600"/>
            <a:ext cx="54295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Номер слайда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0E21-C13E-4FAA-B50B-22181B657E9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2133720" y="380880"/>
            <a:ext cx="514188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Номер слайда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34B1-2195-42F9-9FA9-133BC325E85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1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248520" cy="37386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3" descr=""/>
          <p:cNvPicPr/>
          <p:nvPr/>
        </p:nvPicPr>
        <p:blipFill>
          <a:blip r:embed="rId2"/>
          <a:stretch/>
        </p:blipFill>
        <p:spPr>
          <a:xfrm>
            <a:off x="1371600" y="3962520"/>
            <a:ext cx="6172200" cy="221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3697-3627-489A-95B0-4F72C7324E5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5272200" cy="60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2E7C-C3C3-4A8D-ADAC-DFA69A61496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2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467840" cy="5500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ом</dc:creator>
  <dc:description/>
  <dc:language>en-US</dc:language>
  <cp:lastModifiedBy>дом</cp:lastModifiedBy>
  <dcterms:modified xsi:type="dcterms:W3CDTF">2017-12-14T18:36:46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