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15C-9A82-4759-8776-C1F3977F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695-6A94-4C94-98B4-319DBCA1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429-353D-4CC0-BD1F-BE4C02C5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038-8D2E-4888-B79C-1247391B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692-7521-4297-A3E1-0835ACB8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793-F944-48F2-AEE0-71D01119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F55-8FAE-444C-A5A3-12A150CF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2A6-679C-4C67-8C56-50386162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AE1-2734-459A-BF12-925C1B0C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AC3-8B81-42E8-9458-B8B0A16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6AD-5DE2-4EBA-8248-DEBB3A5E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3AE-33CA-4359-9DD2-A805FE51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590A-FC3B-4D29-9A20-729F34819E2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3284280"/>
            <a:ext cx="410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КВЕСТ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 інформат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08000" y="4869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Країна Інтерне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5" descr="2.png"/>
          <p:cNvPicPr/>
          <p:nvPr/>
        </p:nvPicPr>
        <p:blipFill>
          <a:blip r:embed="rId2"/>
          <a:stretch/>
        </p:blipFill>
        <p:spPr>
          <a:xfrm>
            <a:off x="4140360" y="3068640"/>
            <a:ext cx="4762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Квест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(від англ. quest — пошук)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— жанр інтелектуально-логічних іго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Гра полягає в розгадуванні різноманітних загадок, пошуку відповідей на запитання, виконанні завда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равила квест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искваліфікація за передавання відповіді іншій команді  обох коман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оманди самі слідкують за часом відведеним для виконання одного завд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оординатор  слідкує за дотриманням прави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вдання для переходу на наступне завдання дається тільки після розв’язання відповідного завдання автоматич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зволяється членам команди для пошуку інформації використовувати Інтер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оординатор  не має  права давати підказки і надавати допомогу команд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 шум штрафні 5 хвилин на завдан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9200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Завдання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Завдання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Завдання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Завдання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Без названия (3).jpg"/>
          <p:cNvPicPr/>
          <p:nvPr/>
        </p:nvPicPr>
        <p:blipFill>
          <a:blip r:embed="rId1"/>
          <a:stretch/>
        </p:blipFill>
        <p:spPr>
          <a:xfrm>
            <a:off x="6242040" y="3365640"/>
            <a:ext cx="2298600" cy="2773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403280" y="242100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люч до 1-го завдання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аціональний домен Украї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трелка вниз 5"/>
          <p:cNvSpPr/>
          <p:nvPr/>
        </p:nvSpPr>
        <p:spPr>
          <a:xfrm>
            <a:off x="3780000" y="4221000"/>
            <a:ext cx="287280" cy="432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3322800" y="47242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Завдання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5:30:15Z</dcterms:created>
  <dc:creator>Викладач</dc:creator>
  <dc:description/>
  <dc:language>en-US</dc:language>
  <cp:lastModifiedBy>Татьяна</cp:lastModifiedBy>
  <dcterms:modified xsi:type="dcterms:W3CDTF">2017-10-25T18:56:33Z</dcterms:modified>
  <cp:revision>15</cp:revision>
  <dc:subject/>
  <dc:title>Презентация PowerPoint</dc:title>
</cp:coreProperties>
</file>