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A2C-B485-4B59-BB77-A8A8EDAA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20E2-E81B-4260-AE80-CAD52129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8C25-2EC8-4F71-B350-D457453D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164-2275-4FC4-9708-1B15C9D4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D387-E1A5-40F2-977B-5994FBF7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E3A-79CC-466E-99B0-3B31C7CA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A917-F0D4-41B8-B1EC-68266D43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39B6-586C-4AA2-973D-E429B75E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F78A-08C2-4731-A200-36694457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65C3-269A-4720-AF5A-C26B708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F9EE-515D-4995-BD13-13C4B586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92B-68C6-4D7D-A4C3-765ACF12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0A5F-7E7F-4385-83EA-ECD5F58C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3969-8CC5-4326-AA6E-4431A1F4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969E-08B7-4F0A-8EDA-B1359C1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D84A-D7DE-418B-98FA-8747AE4C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C7AC-4F6D-414F-9F61-785992AD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66C0-4724-4C40-B168-CA57410C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9BF-359B-4247-98CC-97D06816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7C9-D86C-4CCA-AE3A-4D626A32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C48-0583-4A61-96F9-6D0E50E6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F10-1776-4FCA-AB02-EB02B3A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FDFD-AEE0-4D80-8D1B-4EDC3E5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277-A788-4D31-AB6A-E6B872D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E15F-5DBD-4AF2-AECE-D65A3A1A5F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2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4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6e6c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a7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007270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767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006664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006b68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9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00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27f"/>
                    </a:gs>
                    <a:gs pos="100000">
                      <a:srgbClr val="005b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6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00646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9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005b59"/>
                    </a:gs>
                    <a:gs pos="100000">
                      <a:srgbClr val="0082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005b59"/>
                  </a:gs>
                  <a:gs pos="100000">
                    <a:srgbClr val="0082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0064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05BE-38A1-4303-9DF7-BFB320D631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3"/>
          <p:cNvSpPr txBox="1"/>
          <p:nvPr/>
        </p:nvSpPr>
        <p:spPr>
          <a:xfrm>
            <a:off x="826920" y="189000"/>
            <a:ext cx="7705800" cy="52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іл клітин. Клітинний цикл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ітоз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7920000" cy="1698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1652400" cy="1728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9" descr=""/>
          <p:cNvPicPr/>
          <p:nvPr/>
        </p:nvPicPr>
        <p:blipFill>
          <a:blip r:embed="rId3"/>
          <a:stretch/>
        </p:blipFill>
        <p:spPr>
          <a:xfrm>
            <a:off x="2700360" y="4292640"/>
            <a:ext cx="3672000" cy="17398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12"/>
          <p:cNvSpPr/>
          <p:nvPr/>
        </p:nvSpPr>
        <p:spPr>
          <a:xfrm>
            <a:off x="324000" y="1727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Інтерфаза(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</a:t>
            </a: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2)   Профаза                 Метаф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"/>
          <p:cNvSpPr/>
          <p:nvPr/>
        </p:nvSpPr>
        <p:spPr>
          <a:xfrm>
            <a:off x="395280" y="6047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Анафаза         Телофаза         Інтерфаза(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</a:t>
            </a: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WordArt 16"/>
          <p:cNvSpPr txBox="1"/>
          <p:nvPr/>
        </p:nvSpPr>
        <p:spPr>
          <a:xfrm>
            <a:off x="1332000" y="189000"/>
            <a:ext cx="62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Фази мітоз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Хромосома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Х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головою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Р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підборіддям»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носом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правим плечем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 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лівим плечем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правим ліктем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лівим ліктем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правим коліном,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1" lang="uk-UA" sz="4000" spc="-1" strike="noStrike">
                <a:solidFill>
                  <a:srgbClr val="ffffcc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» - пишемо лівим коліном».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45080" y="1598760"/>
            <a:ext cx="40370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5080" y="3922200"/>
            <a:ext cx="40370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250560" y="3284280"/>
            <a:ext cx="8281800" cy="23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523880" indent="-152388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00"/>
                </a:solidFill>
                <a:latin typeface="Arial"/>
              </a:rPr>
              <a:t>Мета: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 навчитися досліджувати різні фази мітозу, робити аргументовані виснов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WordArt 3"/>
          <p:cNvSpPr txBox="1"/>
          <p:nvPr/>
        </p:nvSpPr>
        <p:spPr>
          <a:xfrm>
            <a:off x="900000" y="476280"/>
            <a:ext cx="727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абораторне дослідженн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468360" y="1916280"/>
            <a:ext cx="8207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зи мітозу (на прикладі клітин кореня цибулі)"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140360" y="5157720"/>
            <a:ext cx="446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Зона поділу корінц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>
            <a:lum bright="-12000"/>
          </a:blip>
          <a:srcRect l="1130" t="0" r="51053" b="73519"/>
          <a:stretch/>
        </p:blipFill>
        <p:spPr>
          <a:xfrm>
            <a:off x="380880" y="2492280"/>
            <a:ext cx="3264120" cy="4176720"/>
          </a:xfrm>
          <a:prstGeom prst="rect">
            <a:avLst/>
          </a:prstGeom>
          <a:ln w="0">
            <a:noFill/>
          </a:ln>
        </p:spPr>
      </p:pic>
      <p:sp>
        <p:nvSpPr>
          <p:cNvPr id="325" name="WordArt 4"/>
          <p:cNvSpPr txBox="1"/>
          <p:nvPr/>
        </p:nvSpPr>
        <p:spPr>
          <a:xfrm>
            <a:off x="755640" y="907920"/>
            <a:ext cx="7920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ітоз в клітина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рінця цибулі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1547640" y="115920"/>
            <a:ext cx="7496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Інструктивно-ілюстаційна кар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Інтерфа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3" descr=""/>
          <p:cNvPicPr/>
          <p:nvPr/>
        </p:nvPicPr>
        <p:blipFill>
          <a:blip r:embed="rId1">
            <a:lum bright="-12000"/>
          </a:blip>
          <a:srcRect l="864" t="88322" r="609" b="168"/>
          <a:stretch/>
        </p:blipFill>
        <p:spPr>
          <a:xfrm>
            <a:off x="468360" y="692280"/>
            <a:ext cx="8280360" cy="223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uk-UA" sz="3600" spc="-1" strike="noStrike">
                <a:solidFill>
                  <a:srgbClr val="00ff00"/>
                </a:solidFill>
                <a:latin typeface="Arial"/>
              </a:rPr>
              <a:t>Гра “Знайди помилку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k-UA" sz="2800" spc="-1" strike="noStrike">
                <a:solidFill>
                  <a:srgbClr val="ff00ff"/>
                </a:solidFill>
                <a:latin typeface="Arial"/>
              </a:rPr>
              <a:t>У вірші про мітоз знайти помилку. Прочитати твір у виправленому варіан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У мітозі все в поряд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Фази вистроїлись в ря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Телофаза поперед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етафаза йде за не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А профаза й анафаза – перед не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ff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WordArt 3"/>
          <p:cNvSpPr txBox="1"/>
          <p:nvPr/>
        </p:nvSpPr>
        <p:spPr>
          <a:xfrm>
            <a:off x="1332000" y="189000"/>
            <a:ext cx="6769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флексі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79280" y="620640"/>
            <a:ext cx="8640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У мітозі все в поряд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Фази вистроїлись в ря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рофаза поперед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етафаза йде за не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Анафаза й телофаза – після не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ff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1001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Інтерактивна гра “Продовжити фразу”</a:t>
            </a: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 ( метод “мікрофон”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-  Я зрозумів, що мітоз – це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-  Під час лабораторної роботи я дослідив..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ff00ff"/>
                </a:solidFill>
                <a:latin typeface="Arial"/>
              </a:rPr>
              <a:t>-  Мені найбільше сподобалось на уроці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WordArt 3"/>
          <p:cNvSpPr txBox="1"/>
          <p:nvPr/>
        </p:nvSpPr>
        <p:spPr>
          <a:xfrm>
            <a:off x="1332000" y="189000"/>
            <a:ext cx="6769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флексі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6913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5680" indent="-3556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Вивчити п. 28 (стор. 118 - 121), повторити п. 2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Проблемне запитання “Як ви гадаєте, чи можна застосувати поняття “клітинний цикл” для клітин прокаріот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755640" y="476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Домашнє завдан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ff"/>
                </a:solidFill>
                <a:latin typeface="Arial"/>
              </a:rPr>
              <a:t>Презентацію підготувала учитель біології</a:t>
            </a:r>
            <a:br>
              <a:rPr sz="4000"/>
            </a:br>
            <a:r>
              <a:rPr b="1" lang="uk-UA" sz="4000" spc="-1" strike="noStrike">
                <a:solidFill>
                  <a:srgbClr val="00ffff"/>
                </a:solidFill>
                <a:latin typeface="Arial"/>
              </a:rPr>
              <a:t> Кибинської загальноосвітньої школи  </a:t>
            </a:r>
            <a:br>
              <a:rPr sz="4000"/>
            </a:br>
            <a:r>
              <a:rPr b="1" lang="uk-UA" sz="4000" spc="-1" strike="noStrike">
                <a:solidFill>
                  <a:srgbClr val="00ffff"/>
                </a:solidFill>
                <a:latin typeface="Arial"/>
              </a:rPr>
              <a:t>І – ІІІ ступенів </a:t>
            </a:r>
            <a:br>
              <a:rPr sz="4000"/>
            </a:br>
            <a:r>
              <a:rPr b="1" lang="uk-UA" sz="5100" spc="-1" strike="noStrike">
                <a:solidFill>
                  <a:srgbClr val="00ffff"/>
                </a:solidFill>
                <a:latin typeface="Arial"/>
              </a:rPr>
              <a:t>Яременко Ніна Василівн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99760" y="1457280"/>
            <a:ext cx="69454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468360" y="260280"/>
            <a:ext cx="8105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заємоперевірка тестових завдань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57120" y="1571760"/>
          <a:ext cx="8786880" cy="23889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733320"/>
                <a:gridCol w="731880"/>
                <a:gridCol w="731880"/>
                <a:gridCol w="731880"/>
                <a:gridCol w="733320"/>
                <a:gridCol w="446040"/>
                <a:gridCol w="571680"/>
                <a:gridCol w="857160"/>
                <a:gridCol w="785880"/>
                <a:gridCol w="1000080"/>
              </a:tblGrid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d6fc7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-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400" spc="-1" strike="noStrike">
                          <a:solidFill>
                            <a:srgbClr val="00827f"/>
                          </a:solidFill>
                          <a:latin typeface="Arial"/>
                        </a:rPr>
                        <a:t>+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5eb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78920" y="1915920"/>
            <a:ext cx="8713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357120">
              <a:spcBef>
                <a:spcPts val="901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ffff"/>
                </a:solidFill>
                <a:latin typeface="Arial"/>
              </a:rPr>
              <a:t>Науковець-біолог оголосив, що він створив у лабораторії живий організм з неживих речов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901"/>
              </a:spcBef>
              <a:buClr>
                <a:srgbClr val="f3f5b1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ff"/>
                </a:solidFill>
                <a:latin typeface="Arial"/>
              </a:rPr>
              <a:t>Якими критеріями буде характеризуватися цей “організм”, щоб ви його визнали дійсно живим?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WordArt 3"/>
          <p:cNvSpPr txBox="1"/>
          <p:nvPr/>
        </p:nvSpPr>
        <p:spPr>
          <a:xfrm>
            <a:off x="611280" y="620640"/>
            <a:ext cx="7777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уково-фантастична сенсаці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3"/>
          <p:cNvSpPr/>
          <p:nvPr/>
        </p:nvSpPr>
        <p:spPr>
          <a:xfrm>
            <a:off x="2771640" y="2421000"/>
            <a:ext cx="3384720" cy="136836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cc"/>
                </a:solidFill>
                <a:latin typeface="Arial"/>
              </a:rPr>
              <a:t>Ознаки жи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ne 4"/>
          <p:cNvSpPr/>
          <p:nvPr/>
        </p:nvSpPr>
        <p:spPr>
          <a:xfrm flipH="1" flipV="1">
            <a:off x="1835280" y="1916280"/>
            <a:ext cx="129672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3635280" y="1413000"/>
            <a:ext cx="432000" cy="100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6"/>
          <p:cNvSpPr/>
          <p:nvPr/>
        </p:nvSpPr>
        <p:spPr>
          <a:xfrm flipV="1">
            <a:off x="5292720" y="1557000"/>
            <a:ext cx="431640" cy="93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 flipV="1">
            <a:off x="6084720" y="2492280"/>
            <a:ext cx="1008360" cy="43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Line 8"/>
          <p:cNvSpPr/>
          <p:nvPr/>
        </p:nvSpPr>
        <p:spPr>
          <a:xfrm>
            <a:off x="5435640" y="3645000"/>
            <a:ext cx="1081080" cy="93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"/>
          <p:cNvSpPr/>
          <p:nvPr/>
        </p:nvSpPr>
        <p:spPr>
          <a:xfrm flipH="1">
            <a:off x="4140000" y="3789360"/>
            <a:ext cx="144360" cy="1440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 flipH="1">
            <a:off x="2268000" y="3500280"/>
            <a:ext cx="86364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11"/>
          <p:cNvSpPr/>
          <p:nvPr/>
        </p:nvSpPr>
        <p:spPr>
          <a:xfrm>
            <a:off x="611280" y="1268280"/>
            <a:ext cx="1295280" cy="79056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Рі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12"/>
          <p:cNvSpPr/>
          <p:nvPr/>
        </p:nvSpPr>
        <p:spPr>
          <a:xfrm>
            <a:off x="2771640" y="620640"/>
            <a:ext cx="1295640" cy="79056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Р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13"/>
          <p:cNvSpPr/>
          <p:nvPr/>
        </p:nvSpPr>
        <p:spPr>
          <a:xfrm>
            <a:off x="4859280" y="692280"/>
            <a:ext cx="2233800" cy="86508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Гомеост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14"/>
          <p:cNvSpPr/>
          <p:nvPr/>
        </p:nvSpPr>
        <p:spPr>
          <a:xfrm>
            <a:off x="6948360" y="1844640"/>
            <a:ext cx="1871640" cy="79056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иха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15"/>
          <p:cNvSpPr/>
          <p:nvPr/>
        </p:nvSpPr>
        <p:spPr>
          <a:xfrm>
            <a:off x="179280" y="4292640"/>
            <a:ext cx="3097440" cy="79056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бмін речов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6"/>
          <p:cNvSpPr/>
          <p:nvPr/>
        </p:nvSpPr>
        <p:spPr>
          <a:xfrm>
            <a:off x="2771640" y="5229360"/>
            <a:ext cx="2952720" cy="79056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оділ кліт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7"/>
          <p:cNvSpPr/>
          <p:nvPr/>
        </p:nvSpPr>
        <p:spPr>
          <a:xfrm>
            <a:off x="5867280" y="4581360"/>
            <a:ext cx="2376720" cy="790920"/>
          </a:xfrm>
          <a:prstGeom prst="ellipse">
            <a:avLst/>
          </a:prstGeom>
          <a:solidFill>
            <a:srgbClr val="808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Живленн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6000" spc="-1" strike="noStrike">
                <a:solidFill>
                  <a:srgbClr val="ff00ff"/>
                </a:solidFill>
                <a:latin typeface="Arial"/>
              </a:rPr>
              <a:t>Завдання уроку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989000"/>
            <a:ext cx="82263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Arial"/>
              </a:rPr>
              <a:t>Сформувати уявлення про життєвий цикл клітини, мітоз, його біологічне значенн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Arial"/>
              </a:rPr>
              <a:t>Навчитися розпізнавати різні форми мітоз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"/>
          <p:cNvSpPr/>
          <p:nvPr/>
        </p:nvSpPr>
        <p:spPr>
          <a:xfrm>
            <a:off x="250920" y="2060640"/>
            <a:ext cx="864216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66ff33"/>
                </a:solidFill>
                <a:latin typeface="Arial"/>
              </a:rPr>
              <a:t>учень повинен</a:t>
            </a:r>
            <a:r>
              <a:rPr b="1" i="1" lang="uk-UA" sz="3000" spc="-1" strike="noStrike">
                <a:solidFill>
                  <a:srgbClr val="eaeaea"/>
                </a:solidFill>
                <a:latin typeface="Arial"/>
              </a:rPr>
              <a:t> розпізнавати різні фази клітинного циклу, мітозу;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eaeaea"/>
                </a:solidFill>
                <a:latin typeface="Arial"/>
              </a:rPr>
              <a:t>встановлювати причинно-наслідкові зв</a:t>
            </a:r>
            <a:r>
              <a:rPr b="1" i="1" lang="en-US" sz="3000" spc="-1" strike="noStrike">
                <a:solidFill>
                  <a:srgbClr val="eaeaea"/>
                </a:solidFill>
                <a:latin typeface="Arial"/>
              </a:rPr>
              <a:t>'</a:t>
            </a:r>
            <a:r>
              <a:rPr b="1" i="1" lang="uk-UA" sz="3000" spc="-1" strike="noStrike">
                <a:solidFill>
                  <a:srgbClr val="eaeaea"/>
                </a:solidFill>
                <a:latin typeface="Arial"/>
              </a:rPr>
              <a:t>язки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eaeaea"/>
                </a:solidFill>
                <a:latin typeface="Arial"/>
              </a:rPr>
              <a:t>досліджувати поведінку хромосом під час мітозу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eaeaea"/>
                </a:solidFill>
                <a:latin typeface="Arial"/>
              </a:rPr>
              <a:t>визначати біологічне значення мітозу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468360" y="404640"/>
            <a:ext cx="82296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uk-UA" sz="4800" spc="-1" strike="noStrike">
                <a:solidFill>
                  <a:srgbClr val="00ffff"/>
                </a:solidFill>
                <a:latin typeface="Arial"/>
              </a:rPr>
              <a:t>Очікувані результати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8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826920" y="18900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ловникова робот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986400"/>
            <a:ext cx="9144000" cy="59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00"/>
                </a:solidFill>
                <a:latin typeface="Arial"/>
              </a:rPr>
              <a:t>Клітинний цикл</a:t>
            </a:r>
            <a:r>
              <a:rPr b="1" lang="uk-UA" sz="3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– період існування клітини від кінця одного поділу до кінця наступ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00"/>
                </a:solidFill>
                <a:latin typeface="Arial"/>
              </a:rPr>
              <a:t>Інтерфаза</a:t>
            </a:r>
            <a:r>
              <a:rPr b="1" lang="uk-UA" sz="3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– період між двома поділами клітин, стан її спок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00"/>
                </a:solidFill>
                <a:latin typeface="Arial"/>
              </a:rPr>
              <a:t>Мітоз</a:t>
            </a: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– непрямий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спосіб  поділу клітин, коли спадковий матеріал рівномірно розподіляється між дочірними клітин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00"/>
                </a:solidFill>
                <a:latin typeface="Arial"/>
              </a:rPr>
              <a:t>Апоптоз</a:t>
            </a:r>
            <a:r>
              <a:rPr b="1" i="1" lang="uk-UA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eaeaea"/>
                </a:solidFill>
                <a:latin typeface="Arial"/>
              </a:rPr>
              <a:t>– це запрограмована загибель кліт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3"/>
          <p:cNvSpPr/>
          <p:nvPr/>
        </p:nvSpPr>
        <p:spPr>
          <a:xfrm>
            <a:off x="0" y="3606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34960" indent="-1434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642160" cy="2566800"/>
          </a:xfrm>
          <a:prstGeom prst="rect">
            <a:avLst/>
          </a:prstGeom>
          <a:ln w="0">
            <a:noFill/>
          </a:ln>
        </p:spPr>
      </p:pic>
      <p:sp>
        <p:nvSpPr>
          <p:cNvPr id="306" name="WordArt 6"/>
          <p:cNvSpPr txBox="1"/>
          <p:nvPr/>
        </p:nvSpPr>
        <p:spPr>
          <a:xfrm>
            <a:off x="1403280" y="765000"/>
            <a:ext cx="6121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попто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79280" y="50986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3914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aeaea"/>
                </a:solidFill>
                <a:latin typeface="Arial"/>
              </a:rPr>
              <a:t>Деякі етапи формування кисті у зародка людини. Його необхідний етап – апоптоз клітин, які знаходяться між зачатками пальц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179280" y="2060640"/>
            <a:ext cx="896472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03440" indent="-3403440"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І.    </a:t>
            </a: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Профаза</a:t>
            </a: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 – найдовша стаді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03440" indent="-3403440"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ІІ.   </a:t>
            </a: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Метафаза</a:t>
            </a:r>
            <a:r>
              <a:rPr b="1" lang="uk-UA" sz="3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– стадія підготовки до поді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03440" indent="-3403440"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ІІІ.   </a:t>
            </a: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Анафаза</a:t>
            </a: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 – найкоротша стаді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03440" indent="-3403440"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І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V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.  </a:t>
            </a:r>
            <a:r>
              <a:rPr b="1" lang="uk-UA" sz="4000" spc="-1" strike="noStrike">
                <a:solidFill>
                  <a:srgbClr val="eaeaea"/>
                </a:solidFill>
                <a:latin typeface="Arial"/>
              </a:rPr>
              <a:t>Телофаза</a:t>
            </a:r>
            <a:r>
              <a:rPr b="1" lang="uk-UA" sz="4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66ff33"/>
                </a:solidFill>
                <a:latin typeface="Arial"/>
              </a:rPr>
              <a:t>– остання стадія мітоз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WordArt 4"/>
          <p:cNvSpPr txBox="1"/>
          <p:nvPr/>
        </p:nvSpPr>
        <p:spPr>
          <a:xfrm>
            <a:off x="1332000" y="189000"/>
            <a:ext cx="62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зи мітоз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8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0:46:22Z</dcterms:created>
  <dc:creator>Lyuda</dc:creator>
  <dc:description/>
  <dc:language>en-US</dc:language>
  <cp:lastModifiedBy>1</cp:lastModifiedBy>
  <dcterms:modified xsi:type="dcterms:W3CDTF">2017-11-30T20:57:31Z</dcterms:modified>
  <cp:revision>25</cp:revision>
  <dc:subject/>
  <dc:title>Слайд 1</dc:title>
</cp:coreProperties>
</file>