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615-C8B1-4DF9-83E1-8BAB0B72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1CE-8466-4244-8C9D-8EF2EB4C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D7B-FEFD-4AB7-9046-156DC4D1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423-AD1C-4847-B528-B6E4C3C5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F50-6521-45DD-A22D-F20BE751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209-BB6F-4603-9E41-2E03347A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E4B-3352-4256-AD47-9A7B221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0BE-5EDE-440E-8F76-4A69E6F6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440-D91E-4D5E-93B0-253743E2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D2F-5B82-45BB-836F-FD142AB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FA0-A1DB-4064-B53B-9C35DE62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127-2854-42BB-8A19-A907454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8D83-976E-44DB-88A0-FF66B3598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Четыре друга"/>
          <p:cNvPicPr/>
          <p:nvPr/>
        </p:nvPicPr>
        <p:blipFill>
          <a:blip r:embed="rId1"/>
          <a:stretch/>
        </p:blipFill>
        <p:spPr>
          <a:xfrm>
            <a:off x="4714920" y="1785960"/>
            <a:ext cx="4286160" cy="407196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sp>
        <p:nvSpPr>
          <p:cNvPr id="42" name="Прямоугольник 4"/>
          <p:cNvSpPr/>
          <p:nvPr/>
        </p:nvSpPr>
        <p:spPr>
          <a:xfrm>
            <a:off x="2428920" y="4287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6142"/>
                </a:solidFill>
                <a:latin typeface="Georgia"/>
              </a:rPr>
              <a:t>The Beat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42920" y="1714680"/>
            <a:ext cx="392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Arial"/>
              </a:rPr>
              <a:t>John Len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Arial"/>
              </a:rPr>
              <a:t>Paul McCart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558ff"/>
                </a:solidFill>
                <a:latin typeface="Arial"/>
              </a:rPr>
              <a:t>George Harris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41c41"/>
                </a:solidFill>
                <a:latin typeface="Arial"/>
              </a:rPr>
              <a:t>Ringo Sta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6-Дорожка 06.mp3" descr=""/>
          <p:cNvPicPr/>
          <p:nvPr/>
        </p:nvPicPr>
        <p:blipFill>
          <a:blip r:embed="rId2"/>
          <a:stretch/>
        </p:blipFill>
        <p:spPr>
          <a:xfrm>
            <a:off x="642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4" descr=""/>
          <p:cNvPicPr/>
          <p:nvPr/>
        </p:nvPicPr>
        <p:blipFill>
          <a:blip r:embed="rId1"/>
          <a:stretch/>
        </p:blipFill>
        <p:spPr>
          <a:xfrm>
            <a:off x="42840" y="3139920"/>
            <a:ext cx="3790800" cy="2462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4000680" y="0"/>
            <a:ext cx="5143320" cy="9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hese are words that go together well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y Mich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love you, I love you, I love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hat's all I want to say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find a way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will say the only words I know you'll understand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need to, I need to, I need to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need to make you se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Oh, what you mean to m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do I'm hoping you will know what I mean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love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want you, I want you, I want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think you know by now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'll get to you some how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do I'm telling you so you'll understand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And I will say the only words I know that you'll under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y Mechelle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21-Дорожка 21.mp3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http://upload.wikimedia.org/wikipedia/ru/thumb/e/e9/Beatleslogo.jpg/200px-Beatleslogo.jpg"/>
          <p:cNvPicPr/>
          <p:nvPr/>
        </p:nvPicPr>
        <p:blipFill>
          <a:blip r:embed="rId3"/>
          <a:stretch/>
        </p:blipFill>
        <p:spPr>
          <a:xfrm>
            <a:off x="0" y="0"/>
            <a:ext cx="3857760" cy="1071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Фотографии битлов с внутренней обложки «Белого альбома»"/>
          <p:cNvPicPr/>
          <p:nvPr/>
        </p:nvPicPr>
        <p:blipFill>
          <a:blip r:embed="rId4"/>
          <a:stretch/>
        </p:blipFill>
        <p:spPr>
          <a:xfrm>
            <a:off x="0" y="1143000"/>
            <a:ext cx="3786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1639800" y="-122400"/>
            <a:ext cx="5085000" cy="847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1143000" y="714240"/>
            <a:ext cx="685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горчений и тревог не зн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вчера еще не поним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 жизнь нелегкая иг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 т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Жизнь моя трудней день ото д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 сегодня понимаю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 том, что потерял вч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т, нам не най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то же прав, кого ви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т к тебе пу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м вчера не возвр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 т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не буду счастлив ни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 не раз печально вспомню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 том, что потерял вч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13-Дорожка 13.mp3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2706840" y="-152280"/>
            <a:ext cx="3163680" cy="1000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357120" y="857160"/>
            <a:ext cx="6500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ще вчера мои проблемы, казалось, очень дале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еперь же я не представляю ни дня бе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верив во вчерашний д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стал уже не тем, кем был вч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 тень нависла надо м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черашний день настал внезап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о почему же ты ушла?- Она ответила: «Не зна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 может, я не то сказал…? Я все хочу вернуть об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чера любовь была простой иг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еперь же вынужден скрыва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черашний день – он так мне дор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все хочу вернуть обрат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6715080" y="628668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ипян Ар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4-конечная звезда 7"/>
          <p:cNvSpPr/>
          <p:nvPr/>
        </p:nvSpPr>
        <p:spPr>
          <a:xfrm>
            <a:off x="714240" y="142920"/>
            <a:ext cx="714600" cy="642960"/>
          </a:xfrm>
          <a:custGeom>
            <a:avLst/>
            <a:gdLst>
              <a:gd name="textAreaLeft" fmla="*/ 294480 w 714600"/>
              <a:gd name="textAreaRight" fmla="*/ 420120 w 71460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-конечная звезда 8"/>
          <p:cNvSpPr/>
          <p:nvPr/>
        </p:nvSpPr>
        <p:spPr>
          <a:xfrm>
            <a:off x="5929200" y="142920"/>
            <a:ext cx="714600" cy="642960"/>
          </a:xfrm>
          <a:custGeom>
            <a:avLst/>
            <a:gdLst>
              <a:gd name="textAreaLeft" fmla="*/ 294480 w 714600"/>
              <a:gd name="textAreaRight" fmla="*/ 420120 w 71460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-конечная звезда 10"/>
          <p:cNvSpPr/>
          <p:nvPr/>
        </p:nvSpPr>
        <p:spPr>
          <a:xfrm>
            <a:off x="8001000" y="571680"/>
            <a:ext cx="714240" cy="642600"/>
          </a:xfrm>
          <a:custGeom>
            <a:avLst/>
            <a:gdLst>
              <a:gd name="textAreaLeft" fmla="*/ 294120 w 714240"/>
              <a:gd name="textAreaRight" fmla="*/ 420120 w 714240"/>
              <a:gd name="textAreaTop" fmla="*/ 264600 h 642600"/>
              <a:gd name="textAreaBottom" fmla="*/ 378000 h 64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-конечная звезда 11"/>
          <p:cNvSpPr/>
          <p:nvPr/>
        </p:nvSpPr>
        <p:spPr>
          <a:xfrm>
            <a:off x="6357960" y="5214960"/>
            <a:ext cx="714240" cy="642960"/>
          </a:xfrm>
          <a:custGeom>
            <a:avLst/>
            <a:gdLst>
              <a:gd name="textAreaLeft" fmla="*/ 294120 w 714240"/>
              <a:gd name="textAreaRight" fmla="*/ 420120 w 71424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-конечная звезда 12"/>
          <p:cNvSpPr/>
          <p:nvPr/>
        </p:nvSpPr>
        <p:spPr>
          <a:xfrm>
            <a:off x="6643800" y="2500200"/>
            <a:ext cx="714240" cy="642960"/>
          </a:xfrm>
          <a:custGeom>
            <a:avLst/>
            <a:gdLst>
              <a:gd name="textAreaLeft" fmla="*/ 294120 w 714240"/>
              <a:gd name="textAreaRight" fmla="*/ 420120 w 71424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-конечная звезда 13"/>
          <p:cNvSpPr/>
          <p:nvPr/>
        </p:nvSpPr>
        <p:spPr>
          <a:xfrm>
            <a:off x="8143920" y="4429080"/>
            <a:ext cx="714240" cy="642960"/>
          </a:xfrm>
          <a:custGeom>
            <a:avLst/>
            <a:gdLst>
              <a:gd name="textAreaLeft" fmla="*/ 294120 w 714240"/>
              <a:gd name="textAreaRight" fmla="*/ 420120 w 71424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1352520" y="-122400"/>
            <a:ext cx="5011920" cy="1305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571680" y="1214280"/>
            <a:ext cx="6286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Казалось все беды ушли от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И только счастье ждет сейч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Но это был лишь наш мираж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А сей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Наверно пробил этот ч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Когда сойти с пути п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Быть может это навсег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Так почему ж она уш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Ответа не нашел п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Наверно, все из-за ме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Вернуть б тот д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Что был вче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ердце 5"/>
          <p:cNvGrpSpPr/>
          <p:nvPr/>
        </p:nvGrpSpPr>
        <p:grpSpPr>
          <a:xfrm>
            <a:off x="689040" y="274680"/>
            <a:ext cx="1195200" cy="743040"/>
            <a:chOff x="689040" y="274680"/>
            <a:chExt cx="1195200" cy="743040"/>
          </a:xfrm>
        </p:grpSpPr>
        <p:pic>
          <p:nvPicPr>
            <p:cNvPr id="85" name="Сердце 5" descr=""/>
            <p:cNvPicPr/>
            <p:nvPr/>
          </p:nvPicPr>
          <p:blipFill>
            <a:blip r:embed="rId2"/>
            <a:stretch/>
          </p:blipFill>
          <p:spPr>
            <a:xfrm>
              <a:off x="689040" y="274680"/>
              <a:ext cx="11952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905040" y="463680"/>
              <a:ext cx="7617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Сердце 6"/>
          <p:cNvSpPr/>
          <p:nvPr/>
        </p:nvSpPr>
        <p:spPr>
          <a:xfrm>
            <a:off x="6858000" y="500040"/>
            <a:ext cx="1143000" cy="928800"/>
          </a:xfrm>
          <a:custGeom>
            <a:avLst/>
            <a:gdLst>
              <a:gd name="textAreaLeft" fmla="*/ 190440 w 1143000"/>
              <a:gd name="textAreaRight" fmla="*/ 952560 w 1143000"/>
              <a:gd name="textAreaTop" fmla="*/ 232200 h 928800"/>
              <a:gd name="textAreaBottom" fmla="*/ 619200 h 928800"/>
            </a:gdLst>
            <a:ahLst/>
            <a:rect l="textAreaLeft" t="textAreaTop" r="textAreaRight" b="textAreaBottom"/>
            <a:pathLst>
              <a:path w="1143000" h="928687">
                <a:moveTo>
                  <a:pt x="571500" y="232172"/>
                </a:moveTo>
                <a:cubicBezTo>
                  <a:pt x="809625" y="-309562"/>
                  <a:pt x="1738312" y="232172"/>
                  <a:pt x="571500" y="928687"/>
                </a:cubicBezTo>
                <a:cubicBezTo>
                  <a:pt x="-595312" y="232172"/>
                  <a:pt x="333375" y="-309562"/>
                  <a:pt x="571500" y="232172"/>
                </a:cubicBezTo>
                <a:close/>
              </a:path>
            </a:pathLst>
          </a:custGeom>
          <a:solidFill>
            <a:srgbClr val="ff0066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ердце 7"/>
          <p:cNvSpPr/>
          <p:nvPr/>
        </p:nvSpPr>
        <p:spPr>
          <a:xfrm>
            <a:off x="6572160" y="3071880"/>
            <a:ext cx="785880" cy="571320"/>
          </a:xfrm>
          <a:custGeom>
            <a:avLst/>
            <a:gdLst>
              <a:gd name="textAreaLeft" fmla="*/ 131040 w 785880"/>
              <a:gd name="textAreaRight" fmla="*/ 654840 w 785880"/>
              <a:gd name="textAreaTop" fmla="*/ 142920 h 571320"/>
              <a:gd name="textAreaBottom" fmla="*/ 380880 h 571320"/>
            </a:gdLst>
            <a:ahLst/>
            <a:rect l="textAreaLeft" t="textAreaTop" r="textAreaRight" b="textAreaBottom"/>
            <a:pathLst>
              <a:path w="785813" h="571500">
                <a:moveTo>
                  <a:pt x="392907" y="142875"/>
                </a:moveTo>
                <a:cubicBezTo>
                  <a:pt x="556618" y="-190500"/>
                  <a:pt x="1195091" y="142875"/>
                  <a:pt x="392907" y="571500"/>
                </a:cubicBezTo>
                <a:cubicBezTo>
                  <a:pt x="-409278" y="142875"/>
                  <a:pt x="229195" y="-190500"/>
                  <a:pt x="392907" y="142875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ердце 8"/>
          <p:cNvSpPr/>
          <p:nvPr/>
        </p:nvSpPr>
        <p:spPr>
          <a:xfrm>
            <a:off x="7358040" y="4286160"/>
            <a:ext cx="1285920" cy="1071720"/>
          </a:xfrm>
          <a:custGeom>
            <a:avLst/>
            <a:gdLst>
              <a:gd name="textAreaLeft" fmla="*/ 214200 w 1285920"/>
              <a:gd name="textAreaRight" fmla="*/ 1071720 w 1285920"/>
              <a:gd name="textAreaTop" fmla="*/ 267840 h 1071720"/>
              <a:gd name="textAreaBottom" fmla="*/ 714600 h 1071720"/>
            </a:gdLst>
            <a:ahLst/>
            <a:rect l="textAreaLeft" t="textAreaTop" r="textAreaRight" b="textAreaBottom"/>
            <a:pathLst>
              <a:path w="1285875" h="1071563">
                <a:moveTo>
                  <a:pt x="642938" y="267891"/>
                </a:moveTo>
                <a:cubicBezTo>
                  <a:pt x="910828" y="-357188"/>
                  <a:pt x="1955602" y="267891"/>
                  <a:pt x="642938" y="1071563"/>
                </a:cubicBezTo>
                <a:cubicBezTo>
                  <a:pt x="-669727" y="267891"/>
                  <a:pt x="375047" y="-357188"/>
                  <a:pt x="642938" y="267891"/>
                </a:cubicBezTo>
                <a:close/>
              </a:path>
            </a:pathLst>
          </a:custGeom>
          <a:solidFill>
            <a:srgbClr val="ff33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ердце 9"/>
          <p:cNvSpPr/>
          <p:nvPr/>
        </p:nvSpPr>
        <p:spPr>
          <a:xfrm>
            <a:off x="4714920" y="5857920"/>
            <a:ext cx="714240" cy="500040"/>
          </a:xfrm>
          <a:custGeom>
            <a:avLst/>
            <a:gdLst>
              <a:gd name="textAreaLeft" fmla="*/ 118800 w 714240"/>
              <a:gd name="textAreaRight" fmla="*/ 595440 w 714240"/>
              <a:gd name="textAreaTop" fmla="*/ 124920 h 500040"/>
              <a:gd name="textAreaBottom" fmla="*/ 333360 h 500040"/>
            </a:gdLst>
            <a:ahLst/>
            <a:rect l="textAreaLeft" t="textAreaTop" r="textAreaRight" b="textAreaBottom"/>
            <a:pathLst>
              <a:path w="714375" h="500063">
                <a:moveTo>
                  <a:pt x="357188" y="125016"/>
                </a:moveTo>
                <a:cubicBezTo>
                  <a:pt x="506016" y="-166688"/>
                  <a:pt x="1086445" y="125016"/>
                  <a:pt x="357188" y="500063"/>
                </a:cubicBezTo>
                <a:cubicBezTo>
                  <a:pt x="-372070" y="125016"/>
                  <a:pt x="208359" y="-166688"/>
                  <a:pt x="357188" y="125016"/>
                </a:cubicBezTo>
                <a:close/>
              </a:path>
            </a:pathLst>
          </a:custGeom>
          <a:solidFill>
            <a:srgbClr val="ff0066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6527520" y="579744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Жарков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5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09" dur="5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5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642960" y="0"/>
            <a:ext cx="72867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hese are words that go together well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y Mich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love you, I love you, I love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hat's all I want to say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find a way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will say the only words I know you'll understand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need to, I need to, I need to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need to make you se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Oh, what you mean to m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do I'm hoping you will know what I mean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love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want you, I want you, I want you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 think you know by now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I'll get to you some how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Until I do I'm telling you so you'll understand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ichelle, ma bel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Sont des mots qui vont 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Tre's bien ensemble</a:t>
            </a:r>
            <a:br>
              <a:rPr sz="1600"/>
            </a:b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And I will say the only words I know that you'll under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030a0"/>
                </a:solidFill>
                <a:latin typeface="Baskerville Old Face"/>
                <a:ea typeface="Times New Roman"/>
              </a:rPr>
              <a:t>My Mechelle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ichelle.mp3" descr=""/>
          <p:cNvPicPr/>
          <p:nvPr/>
        </p:nvPicPr>
        <p:blipFill>
          <a:blip r:embed="rId1"/>
          <a:stretch/>
        </p:blipFill>
        <p:spPr>
          <a:xfrm>
            <a:off x="6429240" y="585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http://www.beatles-group.ru/Beatles_files/1.jpg"/>
          <p:cNvPicPr/>
          <p:nvPr/>
        </p:nvPicPr>
        <p:blipFill>
          <a:blip r:embed="rId2"/>
          <a:stretch/>
        </p:blipFill>
        <p:spPr>
          <a:xfrm>
            <a:off x="4857840" y="1581120"/>
            <a:ext cx="4143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Битлз. Желтая подводная лодка / The Beatles: Yellow Submarine (1968)"/>
          <p:cNvPicPr/>
          <p:nvPr/>
        </p:nvPicPr>
        <p:blipFill>
          <a:blip r:embed="rId1"/>
          <a:stretch/>
        </p:blipFill>
        <p:spPr>
          <a:xfrm>
            <a:off x="0" y="2428920"/>
            <a:ext cx="3809880" cy="3762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http://upload.wikimedia.org/wikipedia/ru/3/37/%D0%96%D0%B5%D0%BB%D1%82%D0%B0%D1%8F_%D0%BF%D0%BE%D0%B4%D0%B2%D0%BE%D0%B4%D0%BD%D0%B0%D1%8F_%D0%BB%D0%BE%D0%B4%D0%BA%D0%B0.jpg"/>
          <p:cNvPicPr/>
          <p:nvPr/>
        </p:nvPicPr>
        <p:blipFill>
          <a:blip r:embed="rId2"/>
          <a:stretch/>
        </p:blipFill>
        <p:spPr>
          <a:xfrm>
            <a:off x="142920" y="142920"/>
            <a:ext cx="1523880" cy="22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0" y="142920"/>
            <a:ext cx="6858000" cy="85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c354d"/>
              </a:buClr>
              <a:buFont typeface="Arno Pro Capt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In the town where I was born lived a man who sailed the s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And he told us of his life in the land of submar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So we sailed up to the sun till we found the sea of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And we lived beneath the waves in our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c354d"/>
              </a:buClr>
              <a:buFont typeface="Arno Pro Capt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And our friends are all on boar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Many more of them live next do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And the band begins to 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3.    And we live a life of eas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Everyone of us has all we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Sky of blue and sea of green in our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                  </a:t>
            </a:r>
            <a:r>
              <a:rPr b="1" lang="en-US" sz="1800" spc="-1" strike="noStrike">
                <a:solidFill>
                  <a:srgbClr val="7c354d"/>
                </a:solidFill>
                <a:latin typeface="Arno Pro Caption"/>
              </a:rPr>
              <a:t>We all live in a yellow submarine, yellow submarine, yellow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no Pro Captio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no Pro Caption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no Pro Caption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no Pro Caption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yellow_submarine.mp3" descr=""/>
          <p:cNvPicPr/>
          <p:nvPr/>
        </p:nvPicPr>
        <p:blipFill>
          <a:blip r:embed="rId3"/>
          <a:stretch/>
        </p:blipFill>
        <p:spPr>
          <a:xfrm>
            <a:off x="571500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10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10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10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1000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1000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1566720" y="-30240"/>
            <a:ext cx="4870440" cy="181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357120" y="1428840"/>
            <a:ext cx="864396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My Bonnie is over the ocean, my Bonnie is over the s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My Bonnie is over the ocean , oh bring back my Bonni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Bring back, bring back, bring back my Bonnie to me,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Last night as I lay on my pillow, last night as I lay on my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Last night as I lay on my pillow, I dreamed that my Bonnie was dea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Bring back, bring back, bring back my Bonnie to me,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3. Oh, winds, ye blow over the ocean, oh, winds, ye blow over the s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Oh, winds, ye blow over the ocean, oh, bring back my Bonni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Bring back, bring back, bring back my Bonnie to me, to 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4. The winds have blown over the ocean, the winds have blown over the se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The winds have blown over the ocean, and brought back my Bonni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c00000"/>
                </a:solidFill>
                <a:latin typeface="Ariac"/>
              </a:rPr>
              <a:t>Bring back, bring back, bring back my Bonnie to me,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428760" y="1000080"/>
            <a:ext cx="464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John Len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was born 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the 9</a:t>
            </a:r>
            <a:r>
              <a:rPr b="1" lang="en-US" sz="4000" spc="-1" strike="noStrike" baseline="30000">
                <a:solidFill>
                  <a:srgbClr val="0558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 of October in 19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SmallJohn"/>
          <p:cNvPicPr/>
          <p:nvPr/>
        </p:nvPicPr>
        <p:blipFill>
          <a:blip r:embed="rId1"/>
          <a:stretch/>
        </p:blipFill>
        <p:spPr>
          <a:xfrm>
            <a:off x="4929120" y="571680"/>
            <a:ext cx="4071960" cy="4572000"/>
          </a:xfrm>
          <a:prstGeom prst="rect">
            <a:avLst/>
          </a:prstGeom>
          <a:ln w="57240">
            <a:solidFill>
              <a:srgbClr val="0558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428760" y="1285920"/>
            <a:ext cx="407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Paul McCart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was born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the 18 th of June in 19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SmallPaul"/>
          <p:cNvPicPr/>
          <p:nvPr/>
        </p:nvPicPr>
        <p:blipFill>
          <a:blip r:embed="rId1"/>
          <a:stretch/>
        </p:blipFill>
        <p:spPr>
          <a:xfrm>
            <a:off x="4786200" y="785880"/>
            <a:ext cx="4071960" cy="4286160"/>
          </a:xfrm>
          <a:prstGeom prst="rect">
            <a:avLst/>
          </a:prstGeom>
          <a:ln w="57240">
            <a:solidFill>
              <a:srgbClr val="0558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14200" y="642960"/>
            <a:ext cx="3857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58ff"/>
                </a:solidFill>
                <a:latin typeface="Arial"/>
              </a:rPr>
              <a:t>George Harr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was born on the 25</a:t>
            </a:r>
            <a:r>
              <a:rPr b="1" lang="en-US" sz="4000" spc="-1" strike="noStrike" baseline="30000">
                <a:solidFill>
                  <a:srgbClr val="00206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of February in 19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SmallGeorge"/>
          <p:cNvPicPr/>
          <p:nvPr/>
        </p:nvPicPr>
        <p:blipFill>
          <a:blip r:embed="rId1"/>
          <a:stretch/>
        </p:blipFill>
        <p:spPr>
          <a:xfrm>
            <a:off x="4429080" y="214200"/>
            <a:ext cx="4500720" cy="4357800"/>
          </a:xfrm>
          <a:prstGeom prst="rect">
            <a:avLst/>
          </a:prstGeom>
          <a:ln w="57240">
            <a:solidFill>
              <a:srgbClr val="0558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SmallRingo"/>
          <p:cNvPicPr/>
          <p:nvPr/>
        </p:nvPicPr>
        <p:blipFill>
          <a:blip r:embed="rId1"/>
          <a:stretch/>
        </p:blipFill>
        <p:spPr>
          <a:xfrm>
            <a:off x="5000760" y="857160"/>
            <a:ext cx="3929040" cy="4714920"/>
          </a:xfrm>
          <a:prstGeom prst="rect">
            <a:avLst/>
          </a:prstGeom>
          <a:ln w="57240">
            <a:solidFill>
              <a:srgbClr val="0558ff"/>
            </a:solidFill>
            <a:miter/>
          </a:ln>
        </p:spPr>
      </p:pic>
      <p:sp>
        <p:nvSpPr>
          <p:cNvPr id="52" name="Прямоугольник 7"/>
          <p:cNvSpPr/>
          <p:nvPr/>
        </p:nvSpPr>
        <p:spPr>
          <a:xfrm>
            <a:off x="285840" y="1571760"/>
            <a:ext cx="378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4e6d"/>
                </a:solidFill>
                <a:latin typeface="Arial"/>
              </a:rPr>
              <a:t>Ringo Starr 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was born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the 7</a:t>
            </a:r>
            <a:r>
              <a:rPr b="1" lang="en-US" sz="4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July in 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42920" y="2214720"/>
            <a:ext cx="492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In Yuly 1957 John Lennon met Paul McCart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Quarrymen"/>
          <p:cNvPicPr/>
          <p:nvPr/>
        </p:nvPicPr>
        <p:blipFill>
          <a:blip r:embed="rId1"/>
          <a:stretch/>
        </p:blipFill>
        <p:spPr>
          <a:xfrm>
            <a:off x="5357880" y="428760"/>
            <a:ext cx="3429000" cy="271440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  <p:pic>
        <p:nvPicPr>
          <p:cNvPr id="55" name="Рисунок 5" descr="Paul"/>
          <p:cNvPicPr/>
          <p:nvPr/>
        </p:nvPicPr>
        <p:blipFill>
          <a:blip r:embed="rId2"/>
          <a:stretch/>
        </p:blipFill>
        <p:spPr>
          <a:xfrm>
            <a:off x="5357880" y="3714840"/>
            <a:ext cx="3500280" cy="264312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14200" y="714240"/>
            <a:ext cx="4857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n 1961 in Germany in the firm “Polydor”appeared the single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“My Bonni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but the group accompanied to the singer Toni Sheri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786200" y="35712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500040" y="1071720"/>
            <a:ext cx="4000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In 1962 on the 4</a:t>
            </a:r>
            <a:r>
              <a:rPr b="1" lang="en-US" sz="4000" spc="-1" strike="noStrike" baseline="30000">
                <a:solidFill>
                  <a:srgbClr val="00206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of January the newspaper 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“Mersey Beat”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named the  Beatles the best group of 19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MerseyBeat"/>
          <p:cNvPicPr/>
          <p:nvPr/>
        </p:nvPicPr>
        <p:blipFill>
          <a:blip r:embed="rId1"/>
          <a:stretch/>
        </p:blipFill>
        <p:spPr>
          <a:xfrm>
            <a:off x="4786200" y="142920"/>
            <a:ext cx="4357800" cy="33573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4714920" y="3571920"/>
            <a:ext cx="442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3786120" y="142920"/>
            <a:ext cx="53578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Yester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All my troubles seemed so far aw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Now it looks as though they’r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to st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Oh, I believe in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Sudden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I’m not half the man I us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There’s a shadow hanging over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Oh, yesterday came sudde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Why she had to go I don’t know, she wouldn’t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I said something wrong, now I long for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Yester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Love was such an easy game to pl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Now I need a place to hide aw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Baskerville Old Face"/>
              </a:rPr>
              <a:t>Oh, I believe in yesterd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6" descr=""/>
          <p:cNvPicPr/>
          <p:nvPr/>
        </p:nvPicPr>
        <p:blipFill>
          <a:blip r:embed="rId1"/>
          <a:stretch/>
        </p:blipFill>
        <p:spPr>
          <a:xfrm>
            <a:off x="165240" y="2901960"/>
            <a:ext cx="3558960" cy="2833560"/>
          </a:xfrm>
          <a:prstGeom prst="rect">
            <a:avLst/>
          </a:prstGeom>
          <a:ln w="0">
            <a:noFill/>
          </a:ln>
        </p:spPr>
      </p:pic>
      <p:pic>
        <p:nvPicPr>
          <p:cNvPr id="63" name="13-Дорожка 13.mp3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59040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144360" y="142920"/>
            <a:ext cx="3427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2:00:28Z</dcterms:created>
  <dc:creator>Валера</dc:creator>
  <dc:description/>
  <dc:language>en-US</dc:language>
  <cp:lastModifiedBy>Валерий</cp:lastModifiedBy>
  <dcterms:modified xsi:type="dcterms:W3CDTF">2009-05-04T12:44:24Z</dcterms:modified>
  <cp:revision>27</cp:revision>
  <dc:subject/>
  <dc:title>Слайд 1</dc:title>
</cp:coreProperties>
</file>