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6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5.gif" ContentType="image/gif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F27-9332-49D3-A83D-005718D6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A3C-0EFC-4C31-9A7B-4A812705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E52-AB9E-42BF-A3A1-D8B243AA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F70-2DD6-42E6-A4ED-5E9170D2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388-C014-4591-880B-679525A7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733-821F-45C4-AC8D-4A58BCD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9A0-EDC5-432B-8D57-EB430E57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F54-4737-493E-8F05-14880C4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09A-0617-40B9-BE32-C9AA17C8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518-72EA-4FC8-9B19-4948352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7A3-E9E6-43C3-925B-51478236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91A-A75F-42D3-BCF0-AB0BB09C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4EED-88F2-4B04-9610-6E89E26D4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zosh38.cv.ua/shko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cs617129.vk.me/v617129698/904a/fpVpWjbc13o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velyka_vedmedyt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5-конечная звезда 5"/>
          <p:cNvSpPr/>
          <p:nvPr/>
        </p:nvSpPr>
        <p:spPr>
          <a:xfrm>
            <a:off x="53352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-конечная звезда 6"/>
          <p:cNvSpPr/>
          <p:nvPr/>
        </p:nvSpPr>
        <p:spPr>
          <a:xfrm>
            <a:off x="243828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конечная звезда 7"/>
          <p:cNvSpPr/>
          <p:nvPr/>
        </p:nvSpPr>
        <p:spPr>
          <a:xfrm>
            <a:off x="3505320" y="19810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-конечная звезда 11"/>
          <p:cNvSpPr/>
          <p:nvPr/>
        </p:nvSpPr>
        <p:spPr>
          <a:xfrm>
            <a:off x="4800600" y="28954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2600" y="19080"/>
            <a:ext cx="9131400" cy="6838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ота в групах</a:t>
            </a:r>
            <a:br>
              <a:rPr sz="44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права з клю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априклад, тато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’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4 букви, 4 зв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априклад, лін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[л’і’н’ійа] – 5 букв, 6 зву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2"/>
          <a:stretch/>
        </p:blipFill>
        <p:spPr>
          <a:xfrm>
            <a:off x="-189000" y="3943440"/>
            <a:ext cx="9534600" cy="7509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" descr=""/>
          <p:cNvPicPr/>
          <p:nvPr/>
        </p:nvPicPr>
        <p:blipFill>
          <a:blip r:embed="rId3"/>
          <a:stretch/>
        </p:blipFill>
        <p:spPr>
          <a:xfrm>
            <a:off x="2103480" y="2687760"/>
            <a:ext cx="54864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velyka_vedmedyt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5-конечная звезда 5"/>
          <p:cNvSpPr/>
          <p:nvPr/>
        </p:nvSpPr>
        <p:spPr>
          <a:xfrm>
            <a:off x="53352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-конечная звезда 6"/>
          <p:cNvSpPr/>
          <p:nvPr/>
        </p:nvSpPr>
        <p:spPr>
          <a:xfrm>
            <a:off x="243828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-конечная звезда 7"/>
          <p:cNvSpPr/>
          <p:nvPr/>
        </p:nvSpPr>
        <p:spPr>
          <a:xfrm>
            <a:off x="3505320" y="19810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-конечная звезда 11"/>
          <p:cNvSpPr/>
          <p:nvPr/>
        </p:nvSpPr>
        <p:spPr>
          <a:xfrm>
            <a:off x="4952880" y="42670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-конечная звезда 8"/>
          <p:cNvSpPr/>
          <p:nvPr/>
        </p:nvSpPr>
        <p:spPr>
          <a:xfrm>
            <a:off x="4724280" y="28954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12600" y="19080"/>
            <a:ext cx="9131400" cy="683892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" descr=""/>
          <p:cNvPicPr/>
          <p:nvPr/>
        </p:nvPicPr>
        <p:blipFill>
          <a:blip r:embed="rId3"/>
          <a:stretch/>
        </p:blipFill>
        <p:spPr>
          <a:xfrm>
            <a:off x="-158760" y="1006560"/>
            <a:ext cx="92296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velyka_vedmedyt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5-конечная звезда 5"/>
          <p:cNvSpPr/>
          <p:nvPr/>
        </p:nvSpPr>
        <p:spPr>
          <a:xfrm>
            <a:off x="53352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-конечная звезда 6"/>
          <p:cNvSpPr/>
          <p:nvPr/>
        </p:nvSpPr>
        <p:spPr>
          <a:xfrm>
            <a:off x="243828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-конечная звезда 7"/>
          <p:cNvSpPr/>
          <p:nvPr/>
        </p:nvSpPr>
        <p:spPr>
          <a:xfrm>
            <a:off x="3505320" y="19810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-конечная звезда 11"/>
          <p:cNvSpPr/>
          <p:nvPr/>
        </p:nvSpPr>
        <p:spPr>
          <a:xfrm>
            <a:off x="7086600" y="47242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5-конечная звезда 8"/>
          <p:cNvSpPr/>
          <p:nvPr/>
        </p:nvSpPr>
        <p:spPr>
          <a:xfrm>
            <a:off x="4724280" y="28954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-конечная звезда 9"/>
          <p:cNvSpPr/>
          <p:nvPr/>
        </p:nvSpPr>
        <p:spPr>
          <a:xfrm>
            <a:off x="4876920" y="42670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5" descr="Nature_Seasons_Spring__006110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7"/>
          <p:cNvSpPr/>
          <p:nvPr/>
        </p:nvSpPr>
        <p:spPr>
          <a:xfrm>
            <a:off x="357120" y="5214960"/>
            <a:ext cx="64296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2"/>
          <p:cNvSpPr/>
          <p:nvPr/>
        </p:nvSpPr>
        <p:spPr>
          <a:xfrm>
            <a:off x="1357200" y="5786280"/>
            <a:ext cx="64296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3"/>
          <p:cNvSpPr/>
          <p:nvPr/>
        </p:nvSpPr>
        <p:spPr>
          <a:xfrm>
            <a:off x="2357280" y="5929200"/>
            <a:ext cx="64296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8"/>
          <p:cNvSpPr/>
          <p:nvPr/>
        </p:nvSpPr>
        <p:spPr>
          <a:xfrm>
            <a:off x="428760" y="4286160"/>
            <a:ext cx="64296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9"/>
          <p:cNvSpPr/>
          <p:nvPr/>
        </p:nvSpPr>
        <p:spPr>
          <a:xfrm>
            <a:off x="1357200" y="3776760"/>
            <a:ext cx="64296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0"/>
          <p:cNvSpPr/>
          <p:nvPr/>
        </p:nvSpPr>
        <p:spPr>
          <a:xfrm>
            <a:off x="2500200" y="3705120"/>
            <a:ext cx="71460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uk-UA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1"/>
          <p:cNvSpPr/>
          <p:nvPr/>
        </p:nvSpPr>
        <p:spPr>
          <a:xfrm>
            <a:off x="6929280" y="4429080"/>
            <a:ext cx="78588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uk-UA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2"/>
          <p:cNvSpPr/>
          <p:nvPr/>
        </p:nvSpPr>
        <p:spPr>
          <a:xfrm>
            <a:off x="7929720" y="4714920"/>
            <a:ext cx="78552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uk-UA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23"/>
          <p:cNvSpPr/>
          <p:nvPr/>
        </p:nvSpPr>
        <p:spPr>
          <a:xfrm>
            <a:off x="5715000" y="4143240"/>
            <a:ext cx="78588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24"/>
          <p:cNvSpPr/>
          <p:nvPr/>
        </p:nvSpPr>
        <p:spPr>
          <a:xfrm>
            <a:off x="4572000" y="4000680"/>
            <a:ext cx="857160" cy="5713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25"/>
          <p:cNvSpPr/>
          <p:nvPr/>
        </p:nvSpPr>
        <p:spPr>
          <a:xfrm>
            <a:off x="3643200" y="3848040"/>
            <a:ext cx="64296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uk-UA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j0349125"/>
          <p:cNvPicPr/>
          <p:nvPr/>
        </p:nvPicPr>
        <p:blipFill>
          <a:blip r:embed="rId2"/>
          <a:stretch/>
        </p:blipFill>
        <p:spPr>
          <a:xfrm>
            <a:off x="7786800" y="5373720"/>
            <a:ext cx="1209600" cy="1484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0"/>
          <p:cNvSpPr/>
          <p:nvPr/>
        </p:nvSpPr>
        <p:spPr>
          <a:xfrm>
            <a:off x="1200240" y="76320"/>
            <a:ext cx="78580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Найменша неподільна одиниця мови та мов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1"/>
          <p:cNvSpPr/>
          <p:nvPr/>
        </p:nvSpPr>
        <p:spPr>
          <a:xfrm>
            <a:off x="895320" y="76320"/>
            <a:ext cx="78580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науки про мову, який вивчає звуки мов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2"/>
          <p:cNvSpPr/>
          <p:nvPr/>
        </p:nvSpPr>
        <p:spPr>
          <a:xfrm>
            <a:off x="1209600" y="76320"/>
            <a:ext cx="78580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нак, який слугує для позначення звука на письм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3"/>
          <p:cNvSpPr/>
          <p:nvPr/>
        </p:nvSpPr>
        <p:spPr>
          <a:xfrm>
            <a:off x="1057320" y="95400"/>
            <a:ext cx="785808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вуки, які утворюються поєднанням шуму та голо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2" descr="j0349125"/>
          <p:cNvPicPr/>
          <p:nvPr/>
        </p:nvPicPr>
        <p:blipFill>
          <a:blip r:embed="rId3"/>
          <a:stretch/>
        </p:blipFill>
        <p:spPr>
          <a:xfrm flipH="1">
            <a:off x="178920" y="3789360"/>
            <a:ext cx="1209960" cy="14842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36"/>
          <p:cNvSpPr/>
          <p:nvPr/>
        </p:nvSpPr>
        <p:spPr>
          <a:xfrm>
            <a:off x="533520" y="76320"/>
            <a:ext cx="800100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вуки, які утворюються тільки за допомогою голо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523800" y="162000"/>
            <a:ext cx="8501040" cy="313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рерахуйте звуки, які можуть пом’якшува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219240" y="171360"/>
            <a:ext cx="8501040" cy="30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рерахуйте букви, які позначають два зву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523800" y="324000"/>
            <a:ext cx="8501040" cy="298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рерахуйте голосні звук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0"/>
          <p:cNvSpPr/>
          <p:nvPr/>
        </p:nvSpPr>
        <p:spPr>
          <a:xfrm>
            <a:off x="447840" y="171360"/>
            <a:ext cx="8501040" cy="298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вуків в українській мові всь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1"/>
          <p:cNvSpPr/>
          <p:nvPr/>
        </p:nvSpPr>
        <p:spPr>
          <a:xfrm>
            <a:off x="623880" y="219240"/>
            <a:ext cx="8358120" cy="30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сього в українському алфавіт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2"/>
          <p:cNvSpPr/>
          <p:nvPr/>
        </p:nvSpPr>
        <p:spPr>
          <a:xfrm>
            <a:off x="600120" y="247680"/>
            <a:ext cx="8358120" cy="30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Щоб передати, як звучить слово, використовую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842381ac5f14[1]"/>
          <p:cNvPicPr/>
          <p:nvPr/>
        </p:nvPicPr>
        <p:blipFill>
          <a:blip r:embed="rId4"/>
          <a:stretch/>
        </p:blipFill>
        <p:spPr>
          <a:xfrm>
            <a:off x="3657600" y="0"/>
            <a:ext cx="4273560" cy="349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1541477gygz0g17t9"/>
          <p:cNvPicPr/>
          <p:nvPr/>
        </p:nvPicPr>
        <p:blipFill>
          <a:blip r:embed="rId5"/>
          <a:stretch/>
        </p:blipFill>
        <p:spPr>
          <a:xfrm>
            <a:off x="6629400" y="2895480"/>
            <a:ext cx="2333520" cy="379116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45"/>
          <p:cNvSpPr/>
          <p:nvPr/>
        </p:nvSpPr>
        <p:spPr>
          <a:xfrm>
            <a:off x="1835280" y="4581360"/>
            <a:ext cx="4786200" cy="1500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00"/>
                </a:solidFill>
                <a:latin typeface="Arial"/>
              </a:rPr>
              <a:t>Молодці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2" descr="j0349125"/>
          <p:cNvPicPr/>
          <p:nvPr/>
        </p:nvPicPr>
        <p:blipFill>
          <a:blip r:embed="rId6"/>
          <a:stretch/>
        </p:blipFill>
        <p:spPr>
          <a:xfrm flipH="1">
            <a:off x="0" y="4653000"/>
            <a:ext cx="1209600" cy="148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366 L -0.12639 -0.02408 E">
                                      <p:cBhvr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014 -0.02431 L -0.63038 -0.02431 E">
                                      <p:cBhvr>
                                        <p:cTn id="14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38 -0.02431 L -0.73264 -0.04537 E">
                                      <p:cBhvr>
                                        <p:cTn id="15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3264 -0.04537 L -0.82726 -0.09792 E">
                                      <p:cBhvr>
                                        <p:cTn id="17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2726 -0.09792 L -0.82726 -0.21343 E">
                                      <p:cBhvr>
                                        <p:cTn id="18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38778E-017 L 0.07083 -0.05254 E">
                                      <p:cBhvr>
                                        <p:cTn id="20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5255 L 0.22917 -0.00301 E">
                                      <p:cBhvr>
                                        <p:cTn id="22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17 -0.00301 L 0.3474 -0.01342 E">
                                      <p:cBhvr>
                                        <p:cTn id="23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74 -0.01342 L 0.47344 -0.01342 E">
                                      <p:cBhvr>
                                        <p:cTn id="25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344 -0.01342 L 0.58368 0.01806 E">
                                      <p:cBhvr>
                                        <p:cTn id="26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368 0.01806 L 0.71754 0.04954 E">
                                      <p:cBhvr>
                                        <p:cTn id="28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754 0.04954 L 0.81198 0.08102 E">
                                      <p:cBhvr>
                                        <p:cTn id="2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velyka_vedmedyt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5-конечная звезда 5"/>
          <p:cNvSpPr/>
          <p:nvPr/>
        </p:nvSpPr>
        <p:spPr>
          <a:xfrm>
            <a:off x="53352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5-конечная звезда 6"/>
          <p:cNvSpPr/>
          <p:nvPr/>
        </p:nvSpPr>
        <p:spPr>
          <a:xfrm>
            <a:off x="243828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5-конечная звезда 7"/>
          <p:cNvSpPr/>
          <p:nvPr/>
        </p:nvSpPr>
        <p:spPr>
          <a:xfrm>
            <a:off x="3505320" y="19810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5-конечная звезда 11"/>
          <p:cNvSpPr/>
          <p:nvPr/>
        </p:nvSpPr>
        <p:spPr>
          <a:xfrm>
            <a:off x="7620120" y="320040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-конечная звезда 8"/>
          <p:cNvSpPr/>
          <p:nvPr/>
        </p:nvSpPr>
        <p:spPr>
          <a:xfrm>
            <a:off x="4724280" y="28954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5-конечная звезда 9"/>
          <p:cNvSpPr/>
          <p:nvPr/>
        </p:nvSpPr>
        <p:spPr>
          <a:xfrm>
            <a:off x="4876920" y="42670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-конечная звезда 10"/>
          <p:cNvSpPr/>
          <p:nvPr/>
        </p:nvSpPr>
        <p:spPr>
          <a:xfrm>
            <a:off x="7086600" y="480060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12600" y="19080"/>
            <a:ext cx="9131400" cy="6838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 u="sng">
                <a:solidFill>
                  <a:srgbClr val="c00000"/>
                </a:solidFill>
                <a:uFillTx/>
                <a:latin typeface="Monotype Corsiva"/>
              </a:rPr>
              <a:t>Обов’язковий мінімум: </a:t>
            </a:r>
            <a:r>
              <a:rPr b="1" i="1" lang="uk-UA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uk-UA" sz="3600" spc="-1" strike="noStrike">
                <a:solidFill>
                  <a:srgbClr val="c00000"/>
                </a:solidFill>
                <a:latin typeface="Monotype Corsiva"/>
              </a:rPr>
              <a:t>§ 21,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Monotype Corsiva"/>
              </a:rPr>
              <a:t>ст. 122 , 131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 u="sng">
                <a:solidFill>
                  <a:srgbClr val="c00000"/>
                </a:solidFill>
                <a:uFillTx/>
                <a:latin typeface="Monotype Corsiva"/>
              </a:rPr>
              <a:t>Тренувальний рівень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Monotype Corsiva"/>
              </a:rPr>
              <a:t>: </a:t>
            </a:r>
            <a:r>
              <a:rPr b="1" lang="uk-UA" sz="3600" spc="-1" strike="noStrike">
                <a:solidFill>
                  <a:srgbClr val="c00000"/>
                </a:solidFill>
                <a:latin typeface="Monotype Corsiva"/>
              </a:rPr>
              <a:t>  вправа 24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 u="sng">
                <a:solidFill>
                  <a:srgbClr val="c00000"/>
                </a:solidFill>
                <a:uFillTx/>
                <a:latin typeface="Monotype Corsiva"/>
              </a:rPr>
              <a:t>Творчий рівень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Monotype Corsiva"/>
              </a:rPr>
              <a:t>:</a:t>
            </a:r>
            <a:r>
              <a:rPr b="1" i="1" lang="uk-UA" sz="3600" spc="-1" strike="noStrike" u="sng">
                <a:solidFill>
                  <a:srgbClr val="c00000"/>
                </a:solidFill>
                <a:uFillTx/>
                <a:latin typeface="Monotype Corsiva"/>
              </a:rPr>
              <a:t>  </a:t>
            </a:r>
            <a:r>
              <a:rPr b="1" lang="uk-UA" sz="3600" spc="-1" strike="noStrike">
                <a:solidFill>
                  <a:srgbClr val="c00000"/>
                </a:solidFill>
                <a:latin typeface="Monotype Corsiva"/>
              </a:rPr>
              <a:t>написати лист Святому Микола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285140278_640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velyka_vedmedytsia"/>
          <p:cNvPicPr/>
          <p:nvPr/>
        </p:nvPicPr>
        <p:blipFill>
          <a:blip r:embed="rId2"/>
          <a:stretch/>
        </p:blipFill>
        <p:spPr>
          <a:xfrm>
            <a:off x="0" y="-228600"/>
            <a:ext cx="9220320" cy="7086600"/>
          </a:xfrm>
          <a:prstGeom prst="rect">
            <a:avLst/>
          </a:prstGeom>
          <a:ln w="0">
            <a:noFill/>
          </a:ln>
        </p:spPr>
      </p:pic>
      <p:sp>
        <p:nvSpPr>
          <p:cNvPr id="47" name="5-конечная звезда 5"/>
          <p:cNvSpPr/>
          <p:nvPr/>
        </p:nvSpPr>
        <p:spPr>
          <a:xfrm>
            <a:off x="533520" y="106668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звуки_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velyka_vedmedyt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5-конечная звезда 5"/>
          <p:cNvSpPr/>
          <p:nvPr/>
        </p:nvSpPr>
        <p:spPr>
          <a:xfrm>
            <a:off x="53352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конечная звезда 6"/>
          <p:cNvSpPr/>
          <p:nvPr/>
        </p:nvSpPr>
        <p:spPr>
          <a:xfrm>
            <a:off x="243828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Admin\Рабочий стол\Інна Вікторівна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uk-UA" sz="17000" spc="-1" strike="noStrike">
                <a:solidFill>
                  <a:srgbClr val="000000"/>
                </a:solidFill>
                <a:latin typeface="Monotype Corsiva"/>
              </a:rPr>
              <a:t>А      </a:t>
            </a:r>
            <a:r>
              <a:rPr b="1" lang="en-US" sz="17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uk-UA" sz="17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17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velyka_vedmedyt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5-конечная звезда 5"/>
          <p:cNvSpPr/>
          <p:nvPr/>
        </p:nvSpPr>
        <p:spPr>
          <a:xfrm>
            <a:off x="53352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-конечная звезда 6"/>
          <p:cNvSpPr/>
          <p:nvPr/>
        </p:nvSpPr>
        <p:spPr>
          <a:xfrm>
            <a:off x="2438280" y="121932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-конечная звезда 10"/>
          <p:cNvSpPr/>
          <p:nvPr/>
        </p:nvSpPr>
        <p:spPr>
          <a:xfrm>
            <a:off x="3505320" y="2057400"/>
            <a:ext cx="685800" cy="685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Admin\Рабочий стол\Інна Вікторівна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ргани людини, що беруть участь в утворенні звуків м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dok.znaimo.com.ua/pars_docs/refs/14/13723/img6.jpg"/>
          <p:cNvPicPr/>
          <p:nvPr/>
        </p:nvPicPr>
        <p:blipFill>
          <a:blip r:embed="rId2"/>
          <a:srcRect l="1998" t="20000" r="1998" b="0"/>
          <a:stretch/>
        </p:blipFill>
        <p:spPr>
          <a:xfrm>
            <a:off x="304920" y="17524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Admin\Рабочий стол\Інна Вікторівна\Рисунок1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457200" y="3429000"/>
            <a:ext cx="1905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0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390240" y="1371600"/>
            <a:ext cx="1611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0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1838160" y="1371600"/>
            <a:ext cx="1625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0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3357360" y="1371600"/>
            <a:ext cx="158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0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4809240" y="1371600"/>
            <a:ext cx="1467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0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>
            <a:off x="6409800" y="1371600"/>
            <a:ext cx="152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0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3752640" y="3505320"/>
            <a:ext cx="1572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0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5343840" y="3505320"/>
            <a:ext cx="1758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0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2066760" y="3505320"/>
            <a:ext cx="1611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10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C:\Documents and Settings\Admin\Рабочий стол\Інна Вікторівна\Рисунок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Фізкультхвилинка 'То не є проблема'.mp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atoliy</dc:creator>
  <dc:description/>
  <dc:language>en-US</dc:language>
  <cp:lastModifiedBy>Анатолій</cp:lastModifiedBy>
  <dcterms:modified xsi:type="dcterms:W3CDTF">2014-12-10T01:07:0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