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786-BE26-40C3-AC8B-D815DBEF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7BC-043F-4A13-A2B2-B3DBF20D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843-757A-4A5A-94FB-104DA345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800-A283-4241-8EC7-3A031013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B38-80A4-4E1E-9AA5-C42D3142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6F3-7DA1-4E72-A985-2BE14E0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72E-CDD3-4AA4-A12D-C4EB9F1B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BE5-A5ED-46CD-A0B4-AD5325A7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002-4314-49F1-B367-5DEC80E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F4E-8DF3-4C0B-B5D1-F8636325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C50-1390-46B2-9D21-72C30A5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A9B-E5EE-4BF6-B3D5-A4616ED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6FCE-70EB-4D5D-BCA4-A48789B6D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28886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images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7.pn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2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19:27:34Z</dcterms:created>
  <dc:creator>Admin</dc:creator>
  <dc:description/>
  <dc:language>en-US</dc:language>
  <cp:lastModifiedBy>Admin</cp:lastModifiedBy>
  <dcterms:modified xsi:type="dcterms:W3CDTF">2017-11-19T19:39:02Z</dcterms:modified>
  <cp:revision>2</cp:revision>
  <dc:subject/>
  <dc:title>Слайд 1</dc:title>
</cp:coreProperties>
</file>