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B72F-E1D5-46C6-ADD2-D370C90FE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B1B5-EE1C-409A-A0ED-1A365D502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8122-B6E6-4B8A-BBCA-C0F388DC0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2C73-8462-4C1D-A44F-CE5B81DD0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4A42-83A0-4DA6-917D-2AE770C5F7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DF10-B580-4295-949A-814CABC31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8564-995B-498B-B382-F0596C5B11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E0EB-A9E6-4976-98D8-D63B6CE26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B337-BAA4-4E49-A47C-7823D9444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E4FF-33E6-437C-8358-D154FB814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54B-2CC6-4C12-AD9D-A0AD7720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DB3-D0A3-4B75-9434-F92C268D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A26-3971-4A37-BCBB-83D64F8E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D30-2287-4B91-92B4-335CB246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50D-3443-458A-A7F7-4866117E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760-9596-4131-B6CA-C9DBC8AD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01D-1D58-4171-B9E4-67B8A7D4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95D-92D8-4E7C-B7A4-5794DE87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E54-E6B1-434F-8CDA-9A6FC443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C14-0E9A-4F5D-AB7C-699EB05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AAC-0D93-47F2-9FDD-1695F47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80F-9402-43F4-904C-92CBF19C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3F0-6AD1-4B8C-87F3-153232587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1280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 baseline="6000">
                <a:solidFill>
                  <a:srgbClr val="0033cc"/>
                </a:solidFill>
                <a:latin typeface="Arial"/>
              </a:rPr>
              <a:t>Усний твір –опис за картиною 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uk-UA" sz="6600" spc="-1" strike="noStrike" baseline="6000">
                <a:solidFill>
                  <a:srgbClr val="0033cc"/>
                </a:solidFill>
                <a:latin typeface="Arial"/>
              </a:rPr>
              <a:t>І.І.Левітана «Золота осінь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cc"/>
                </a:solidFill>
                <a:latin typeface="Arial"/>
              </a:rPr>
              <a:t>Пригад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Що таке опи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Які особливості твору-опи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Чим опис відрізняється від розповіді та розду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33cc"/>
                </a:solidFill>
                <a:latin typeface="Arial"/>
              </a:rPr>
              <a:t>Запам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0033cc"/>
                </a:solidFill>
                <a:latin typeface="Arial"/>
              </a:rPr>
              <a:t>ятай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Твір-опис - це зв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язний текст, у якому словесно зображуються основні ознаки предмета, явища, ос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У творі-описі можуть бути й елементи розпові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Важливо, щоб розповідь не переважала над описом, а містила лише додаткові відом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                                      </a:t>
            </a: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Будова  твору-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1.Загальне враження від побаче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2.Опис найважливіших частин (у певній послідовності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3.Вис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52909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т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669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ис картини природи (пейзаж)складається із сукупності описів окремих предметів(небо,повітря,дерева,кущі,річка)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Відомим» в описі природи є назви цих предметів або їхніх частин,»новим»є о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а наукового опису природи –правдиво й точно назвати ознаки предметів,з яких складається картина природи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а художнього опису природи- створити емоційний образ побаченого,вплинути на почуття читача чи слух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аак Ілліч Левітан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(1860-19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211280" y="1773000"/>
            <a:ext cx="475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i="1" lang="uk-UA" sz="1800" spc="-1" strike="noStrike">
                <a:solidFill>
                  <a:srgbClr val="000000"/>
                </a:solidFill>
                <a:latin typeface="Arial Narrow"/>
              </a:rPr>
              <a:t>Видатний художник-пейзажист.Учився в                                                                                  Московськом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 Narrow"/>
              </a:rPr>
              <a:t>училищі живопису.Багато                                                                                                        подорожував,добре знав і любив                                                                  природу.Сучасники називали його поетом                                                               природи .Левітан показав нам скромне потаємне,що криється в кожному пейзажі- його душу,чарівність. Художник прожив недовге життя,але за цей час встиг зробити багато.Серед численних шедеврів живопису,створених ним,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 Narrow"/>
              </a:rPr>
              <a:t>і                                                     картина»Золота осін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Levitan-P"/>
          <p:cNvPicPr/>
          <p:nvPr/>
        </p:nvPicPr>
        <p:blipFill>
          <a:blip r:embed="rId1"/>
          <a:stretch/>
        </p:blipFill>
        <p:spPr>
          <a:xfrm>
            <a:off x="324000" y="1916280"/>
            <a:ext cx="385740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7564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Художник-пейзажист, мариніст, баталіст, портретист.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Тема картини,сюжет.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Композиція-перший план, другий план, перспектива, деталь.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Палітра художника - колорит, фон, кольорова гама, освітле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2519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е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и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і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віт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87640" y="620640"/>
            <a:ext cx="238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оз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винц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Шелес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ис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Танцю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езвітр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ірі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уму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виса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ерелива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стиг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Оксамит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охоло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ув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інн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843280" y="2274120"/>
            <a:ext cx="453852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Осінь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золота,жовтокоса,барв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Лі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ожовтілий,прекрасний в осінньому вбранні,трохи сум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у золоті,святково вбрані,задумані,сяюч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Лис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жовте,багряне; опадає,кружляє,встилає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Не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блакитне,високе,вицвіле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59:14Z</dcterms:created>
  <dc:creator>IRYNAZ</dc:creator>
  <dc:description/>
  <dc:language>en-US</dc:language>
  <cp:lastModifiedBy>Ira</cp:lastModifiedBy>
  <dcterms:modified xsi:type="dcterms:W3CDTF">2012-12-08T11:58:26Z</dcterms:modified>
  <cp:revision>7</cp:revision>
  <dc:subject/>
  <dc:title>Усний твір –опис за картиною І.І.Левітана «Золота осінь»</dc:title>
</cp:coreProperties>
</file>