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E5D4-5D75-42F6-B21E-5943CF7FA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50D2-6089-4110-A93D-C3412B364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D08D-7AE6-4C0F-8223-93582C540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E902-95E3-482D-905C-15D237A23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384A5-4FCB-47D5-80CF-1E0890BA2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55FB7-63E2-4FEE-A817-6BB23464F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0A2E6-2675-4868-8874-0FB202D61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159A9-D924-4F5D-9113-12F511C72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FD38C-54A3-4130-AA2C-DE1612195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8D215-75E5-484C-B507-F0E658043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83AC4-DE41-4F0F-9930-E78DF8E8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5EB8-4CB5-4533-A8E6-35B315B44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15977-3784-4477-AC13-7186EEF6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C300A-8D0D-46AC-B5DE-F12074C5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1123F-B6BC-46EC-92ED-4612DFC62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FF7C9-821B-466A-8DE5-E1D0B9827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BAA00-1CBC-4758-9220-DEC45E79C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CFF7B-32E2-4A95-8824-CF872414E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7C67D-E8B4-42AF-8C8B-A44977AB3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A19C2-47FC-4F71-8127-8F166A3F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580F3-3B5D-4B1A-845B-C3E688245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A8F07-9CDB-469E-8E5D-6EEACCAF1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5775-6E87-4A23-AEA9-90FA1B6A1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29700-AADB-4E05-BC8D-2423BE3ED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D44D6-6560-4E3E-B9DE-39D60C68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08B59-6FC3-4971-B89B-AC45B548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96DBB-BBF9-4B14-87D9-5E6040C8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D6546-2F88-4EFC-9AB2-FA02D6C13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1E61F-3BE9-429C-8DA3-DA47E99FB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2A386-1A7E-431F-8B39-4D1BE3865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02AA4-8A67-47FE-8515-E09C3E00A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32053-F9DB-4231-88C7-917302939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316ED-AE8B-437E-BFE4-958ABBA8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E929-23AC-4A0A-8DAC-52A497B2B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85588-B78A-4E8A-8200-BEB3194B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9B11F-45C0-4E26-95C8-E20BDD8AA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EBA5E-2F52-4F69-BE55-5CB37E724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3D56F-1E92-4DDC-A147-95EB195A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23696-5814-4695-A25A-5348DB94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64EF4-CDBE-431D-94F6-D7A6A638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87960-6907-4B2C-80BC-D5F98E23D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BFFD0-E7ED-483A-9E98-21CBA09ED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9467A-F2A2-4901-ADF5-7DFD533AF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4E766-4CCE-4C3E-A158-82CDCC8B7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9382-E326-4FC0-830B-7D1F9372C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A0207-7141-4BE3-835B-03981D153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81BAA-1150-40DC-ACBB-C2099F8E5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C8EC9-18B3-4B2C-AAA5-FA0498311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89F4B-EBB3-4D2F-8B00-EBCC71331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BECE5-2B72-441F-863B-AD69CEE0C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A318D-E5A0-4E9C-931C-96AAC7F6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65232-BC0A-4E06-AA41-ECD90CC7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3C339-BD5F-4D03-A1A3-A46E16C4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35DCD-9B19-498F-8AA6-9B375744B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DAA5B-154D-4F34-8099-B9886AFC5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D57A-8DC7-4121-82B6-FD00E7824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9845A-C21F-4112-91A9-181276C06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7BB0E-3CC0-40BA-8B39-8701382D8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4C673-AF5D-413A-B3BC-3CBDA2DB1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EA9C8-7191-47D1-AF2B-F04B720B6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428F7-1B07-4F1A-A0EC-DDCF72E96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4F44F-3700-4AB4-9FD1-911BB0208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9D94CD-04A2-45C8-B82D-0F8714D34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FB237-1ED9-473B-91FB-5B049F35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132CF-E461-458D-AB12-09C7D513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95C9D-FB0E-4235-9B4D-64B17302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F9F5-CA0E-480B-89F7-6A769BE8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4DA71-EFD9-45C0-AB8D-A800F1DD4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98951-EE71-4EF7-A13A-3465B4BAC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27EB5-830C-404A-A715-6E8DDA280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BFEF-74AB-4F7F-970B-78ACC2C3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2C67-7590-4CF8-A458-60A180A3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508C7-DEFF-43F5-A850-3E9D25BA79BB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6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7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EB9C8-3253-48D7-8BEC-F8002C04E474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6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8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B04BF-740A-4382-9663-4D6572A8C985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2F697-6214-4E16-B964-39F61E7311AD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93EE5-EF82-4233-9E41-CC945E728AAB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ABF49-382B-4282-A6CE-F2AFA1B22C65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extBox 3" descr=""/>
          <p:cNvPicPr/>
          <p:nvPr/>
        </p:nvPicPr>
        <p:blipFill>
          <a:blip r:embed="rId1"/>
          <a:stretch/>
        </p:blipFill>
        <p:spPr>
          <a:xfrm>
            <a:off x="2505240" y="2236680"/>
            <a:ext cx="4255920" cy="15001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F:\6 шляп\eb7119028404.jpg"/>
          <p:cNvPicPr/>
          <p:nvPr/>
        </p:nvPicPr>
        <p:blipFill>
          <a:blip r:embed="rId2"/>
          <a:stretch/>
        </p:blipFill>
        <p:spPr>
          <a:xfrm>
            <a:off x="66600" y="79200"/>
            <a:ext cx="3438720" cy="49374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F:\6 шляп\G-Cube-GOA-6N.jpg"/>
          <p:cNvPicPr/>
          <p:nvPr/>
        </p:nvPicPr>
        <p:blipFill>
          <a:blip r:embed="rId3"/>
          <a:stretch/>
        </p:blipFill>
        <p:spPr>
          <a:xfrm>
            <a:off x="5924520" y="3505320"/>
            <a:ext cx="3298680" cy="60832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750"/>
                            </p:stCondLst>
                            <p:childTnLst>
                              <p:par>
                                <p:cTn id="13" nodeType="afterEffect" fill="hold" presetClass="entr" presetID="3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8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250"/>
                            </p:stCondLst>
                            <p:childTnLst>
                              <p:par>
                                <p:cTn id="22" nodeType="afterEffect" fill="hold" presetClass="entr" presetID="3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8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Заголовок 1" descr=""/>
          <p:cNvPicPr/>
          <p:nvPr/>
        </p:nvPicPr>
        <p:blipFill>
          <a:blip r:embed="rId1"/>
          <a:stretch/>
        </p:blipFill>
        <p:spPr>
          <a:xfrm>
            <a:off x="3193920" y="2444760"/>
            <a:ext cx="3243240" cy="12859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" descr="F:\6 шляп\1536213.jpg.gif"/>
          <p:cNvPicPr/>
          <p:nvPr/>
        </p:nvPicPr>
        <p:blipFill>
          <a:blip r:embed="rId2"/>
          <a:stretch/>
        </p:blipFill>
        <p:spPr>
          <a:xfrm>
            <a:off x="115920" y="133200"/>
            <a:ext cx="3456000" cy="45118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3" descr="F:\6 шляп\6156.jpg"/>
          <p:cNvPicPr/>
          <p:nvPr/>
        </p:nvPicPr>
        <p:blipFill>
          <a:blip r:embed="rId3"/>
          <a:stretch/>
        </p:blipFill>
        <p:spPr>
          <a:xfrm>
            <a:off x="5010120" y="3852720"/>
            <a:ext cx="3902040" cy="446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750"/>
                            </p:stCondLst>
                            <p:childTnLst>
                              <p:par>
                                <p:cTn id="41" nodeType="afterEffect" fill="hold" presetClass="entr" presetID="5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75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TextBox 3" descr=""/>
          <p:cNvPicPr/>
          <p:nvPr/>
        </p:nvPicPr>
        <p:blipFill>
          <a:blip r:embed="rId1"/>
          <a:stretch/>
        </p:blipFill>
        <p:spPr>
          <a:xfrm>
            <a:off x="2889360" y="2530440"/>
            <a:ext cx="3975120" cy="19861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F:\6 шляп\email.gif"/>
          <p:cNvPicPr/>
          <p:nvPr/>
        </p:nvPicPr>
        <p:blipFill>
          <a:blip r:embed="rId2"/>
          <a:stretch/>
        </p:blipFill>
        <p:spPr>
          <a:xfrm>
            <a:off x="5357880" y="3714840"/>
            <a:ext cx="3314520" cy="26874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4" descr="F:\6 шляп\1018.jpg"/>
          <p:cNvPicPr/>
          <p:nvPr/>
        </p:nvPicPr>
        <p:blipFill>
          <a:blip r:embed="rId3"/>
          <a:stretch/>
        </p:blipFill>
        <p:spPr>
          <a:xfrm>
            <a:off x="262080" y="208080"/>
            <a:ext cx="3187440" cy="4754520"/>
          </a:xfrm>
          <a:prstGeom prst="rect">
            <a:avLst/>
          </a:prstGeom>
          <a:ln w="0">
            <a:noFill/>
          </a:ln>
        </p:spPr>
      </p:pic>
    </p:spTree>
  </p:cSld>
  <p:transition spd="med">
    <p:cut thruBlk="true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500"/>
                            </p:stCondLst>
                            <p:childTnLst>
                              <p:par>
                                <p:cTn id="75" nodeType="after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Заголовок 1" descr=""/>
          <p:cNvPicPr/>
          <p:nvPr/>
        </p:nvPicPr>
        <p:blipFill>
          <a:blip r:embed="rId1"/>
          <a:stretch/>
        </p:blipFill>
        <p:spPr>
          <a:xfrm>
            <a:off x="3260880" y="2919240"/>
            <a:ext cx="2566800" cy="11592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F:\6 шляп\zagrwin.jpg"/>
          <p:cNvPicPr/>
          <p:nvPr/>
        </p:nvPicPr>
        <p:blipFill>
          <a:blip r:embed="rId2"/>
          <a:stretch/>
        </p:blipFill>
        <p:spPr>
          <a:xfrm>
            <a:off x="5694480" y="4206960"/>
            <a:ext cx="3004920" cy="44733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F:\6 шляп\51.jpg"/>
          <p:cNvPicPr/>
          <p:nvPr/>
        </p:nvPicPr>
        <p:blipFill>
          <a:blip r:embed="rId3"/>
          <a:stretch/>
        </p:blipFill>
        <p:spPr>
          <a:xfrm>
            <a:off x="334800" y="353880"/>
            <a:ext cx="3157560" cy="41688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5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500"/>
                            </p:stCondLst>
                            <p:childTnLst>
                              <p:par>
                                <p:cTn id="1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Заголовок 1" descr=""/>
          <p:cNvPicPr/>
          <p:nvPr/>
        </p:nvPicPr>
        <p:blipFill>
          <a:blip r:embed="rId1"/>
          <a:stretch/>
        </p:blipFill>
        <p:spPr>
          <a:xfrm>
            <a:off x="3432240" y="3067200"/>
            <a:ext cx="2719440" cy="11509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" descr="F:\6 шляп\9524_1s.jpg"/>
          <p:cNvPicPr/>
          <p:nvPr/>
        </p:nvPicPr>
        <p:blipFill>
          <a:blip r:embed="rId2"/>
          <a:stretch/>
        </p:blipFill>
        <p:spPr>
          <a:xfrm>
            <a:off x="615960" y="353880"/>
            <a:ext cx="3108240" cy="46087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" descr="F:\6 шляп\6a00e54ff8b9c1883400e5516f44178833-800wi.jpg"/>
          <p:cNvPicPr/>
          <p:nvPr/>
        </p:nvPicPr>
        <p:blipFill>
          <a:blip r:embed="rId3"/>
          <a:stretch/>
        </p:blipFill>
        <p:spPr>
          <a:xfrm>
            <a:off x="5499000" y="4705200"/>
            <a:ext cx="2979720" cy="37562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16" presetSubtype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Заголовок 1" descr=""/>
          <p:cNvPicPr/>
          <p:nvPr/>
        </p:nvPicPr>
        <p:blipFill>
          <a:blip r:embed="rId1"/>
          <a:stretch/>
        </p:blipFill>
        <p:spPr>
          <a:xfrm>
            <a:off x="3260880" y="2992320"/>
            <a:ext cx="3030480" cy="11588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" descr="F:\6 шляп\borch1.jpg"/>
          <p:cNvPicPr/>
          <p:nvPr/>
        </p:nvPicPr>
        <p:blipFill>
          <a:blip r:embed="rId2"/>
          <a:stretch/>
        </p:blipFill>
        <p:spPr>
          <a:xfrm>
            <a:off x="4992840" y="4492800"/>
            <a:ext cx="3895560" cy="19443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" descr="F:\6 шляп\86479_28.jpg"/>
          <p:cNvPicPr/>
          <p:nvPr/>
        </p:nvPicPr>
        <p:blipFill>
          <a:blip r:embed="rId3"/>
          <a:stretch/>
        </p:blipFill>
        <p:spPr>
          <a:xfrm>
            <a:off x="353880" y="633240"/>
            <a:ext cx="331020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3"/>
          <p:cNvSpPr/>
          <p:nvPr/>
        </p:nvSpPr>
        <p:spPr>
          <a:xfrm>
            <a:off x="755640" y="476280"/>
            <a:ext cx="7632720" cy="59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chael is a real geek, he knows   everything in the world of computers. Yesterday he got a flame when he was surfing the Interne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couldn’t boot his computer, there was something wrong. A new mouse  didn’t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7-04-30T12:54:46Z</dcterms:modified>
  <cp:revision>8</cp:revision>
  <dc:subject/>
  <dc:title>Слайд 1</dc:title>
</cp:coreProperties>
</file>