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9.jpeg" ContentType="image/jpeg"/>
  <Override PartName="/ppt/media/image8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3.png" ContentType="image/png"/>
  <Override PartName="/ppt/media/image17.jpeg" ContentType="image/jpeg"/>
  <Override PartName="/ppt/media/image2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467-C46A-4CD4-B751-4AFA5813F0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684C-EB77-4041-A0C5-E166669B5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0DC-7A19-42C3-AECF-9FDC2D31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4A9-DFD8-4E81-B887-EF10D793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26E-BC45-49DE-9BEC-0EDF42B5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B8B-407F-455F-B42D-A76B2649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880A-4232-4B6B-933D-58A2F729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D1B94-61E6-4DAE-81E5-AFD33048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8E0E-85BA-4140-A45D-46AE1B3B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1317-E722-4B8B-A598-61134441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8BF3-55FC-409C-9CF6-BD01442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65E3-1DA3-4AC5-88DB-94AC1C5E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B98E-93AA-4E19-A90A-DF428A16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56D-8E36-456B-AE35-06C68D57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1BC3-60B3-41E4-8D78-DBE55D7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6BBF-32A1-4774-90C8-4A9BA4B3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AE50-CEE0-424B-AF7F-0E9D963D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F08C-9A54-4C0E-9BE2-E898F81A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28C9-4A8A-49A8-B365-A7DBA5E3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9A33-8D2B-49D2-B4E2-2E0BEEB1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40AC7-F7E6-44A5-AC24-A1C72D26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88BC4-46B8-4EFB-ACDA-7450DB69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29C5-D666-44B3-91CF-754B414D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D92E7-5884-4466-9E0B-DB6C3D16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6E6-A05D-4972-8BFC-545815E5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1033-9DFF-481F-A6A3-67832233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E798-C277-4FEA-9A8E-1E2EB81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2FA5-0E64-44FC-A07B-B6B2288F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3E1B-39A9-4670-A62E-4F11362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7DF31-0E4F-4C21-94DE-BFDA20A2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C9C9-0211-453E-8559-1A9C7E75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C198C-FCB3-45E7-98C7-8F3E7BFC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CF477-AF49-4E8E-80DE-D0CEDFD3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B28EA-B963-4F91-BAB9-CB11865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C869-7FB9-42D5-8A9D-A136E072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ACA-918E-4A13-95AD-051ECE46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7BCA-023F-4C56-91D6-38780E39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3D1E-A6EE-48D9-9455-2BEFA76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B964-3449-49D2-8E4B-9A709FCC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1842-720A-4A5C-B778-3C229A0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E3FA6-19B0-45D6-A3DC-5297F9A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D26DF-C337-4B18-A2BF-88A897D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F380-7466-4253-98BF-603D1264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70F0-5B60-4A0C-BE7F-BDEF85FC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8ED3-01B3-4A38-BAFB-ACAA0226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7028D-0B51-49C4-850C-8D67A3B5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C7A-4B22-4A10-9973-517A3631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60845-F2D4-4A73-AC15-C4615420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CA93B-09EC-4048-AA17-C6946861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84A6-4734-4C79-84FF-292A6BA1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27C0E-08ED-40F6-8F5E-53160A0B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63047-BA31-4BCD-A773-617C729E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A10D-DF63-418E-9A4C-02F51954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E856-CB0D-42E2-9FDB-C58A8AF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EACA-123B-4DC8-AF77-D3961B7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3A832-6CBF-4812-A4DD-B5BBBD35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75CEE-A8D3-4115-B1D9-5A0FD18B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267-7CE6-4324-96AD-86143306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1FC65-90E9-4F06-8AB4-DE116EA4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CF0-1E9E-447C-8CF5-111BB76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D85-F087-48AF-9818-80B3AE72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093-B62E-40FA-AF65-D5B2499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488-DB04-4750-83B8-BBB0DA5AAB9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CCC3-D2E8-462E-B7A3-872AD2BF62B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7B76-348C-4E2A-B6EA-8B68794047B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3B4C-BA2A-42DF-B1A5-B567135542E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6F48-F525-49B2-AC5E-E198D0A01262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399680" y="3485880"/>
            <a:ext cx="3429000" cy="16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80960" y="590040"/>
            <a:ext cx="677232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74396"/>
              </a:solidFill>
              <a:latin typeface="Trebuchet MS"/>
            </a:endParaRPr>
          </a:p>
        </p:txBody>
      </p:sp>
      <p:pic>
        <p:nvPicPr>
          <p:cNvPr id="270" name="Рисунок 3" descr="1464013022-228c5aad51ac16b68254f94215bfc668.jpg"/>
          <p:cNvPicPr/>
          <p:nvPr/>
        </p:nvPicPr>
        <p:blipFill>
          <a:blip r:embed="rId1"/>
          <a:stretch/>
        </p:blipFill>
        <p:spPr>
          <a:xfrm>
            <a:off x="0" y="-1785960"/>
            <a:ext cx="9144000" cy="10220400"/>
          </a:xfrm>
          <a:prstGeom prst="rect">
            <a:avLst/>
          </a:prstGeom>
          <a:ln w="0">
            <a:noFill/>
          </a:ln>
        </p:spPr>
      </p:pic>
      <p:sp>
        <p:nvSpPr>
          <p:cNvPr id="271" name="Заголовок 1"/>
          <p:cNvSpPr/>
          <p:nvPr/>
        </p:nvSpPr>
        <p:spPr>
          <a:xfrm>
            <a:off x="571680" y="214200"/>
            <a:ext cx="857232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cc"/>
                </a:solidFill>
                <a:latin typeface="Calibri"/>
              </a:rPr>
              <a:t>Інтегрований урок</a:t>
            </a:r>
            <a:br>
              <a:rPr sz="3600"/>
            </a:br>
            <a:r>
              <a:rPr b="1" lang="uk-UA" sz="3600" spc="-1" strike="noStrike">
                <a:solidFill>
                  <a:srgbClr val="9900cc"/>
                </a:solidFill>
                <a:latin typeface="Calibri"/>
              </a:rPr>
              <a:t>Тема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ізноманітність тваринного світу. Групи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й види тварин, значення їх у природі та житті людини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Заголовок 1"/>
          <p:cNvSpPr/>
          <p:nvPr/>
        </p:nvSpPr>
        <p:spPr>
          <a:xfrm>
            <a:off x="179280" y="2205000"/>
            <a:ext cx="309564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(математика, природознавство, трудове навчання)</a:t>
            </a:r>
            <a:br>
              <a:rPr sz="2400"/>
            </a:b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3 кл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Заголовок 1"/>
          <p:cNvSpPr/>
          <p:nvPr/>
        </p:nvSpPr>
        <p:spPr>
          <a:xfrm>
            <a:off x="5724360" y="2205000"/>
            <a:ext cx="309564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Calibri"/>
              </a:rPr>
              <a:t>Вчитель </a:t>
            </a:r>
            <a:br>
              <a:rPr sz="2400"/>
            </a:br>
            <a:r>
              <a:rPr b="1" i="1" lang="uk-UA" sz="2400" spc="-1" strike="noStrike">
                <a:solidFill>
                  <a:srgbClr val="002060"/>
                </a:solidFill>
                <a:latin typeface="Calibri"/>
              </a:rPr>
              <a:t>початкових класів </a:t>
            </a:r>
            <a:br>
              <a:rPr sz="2400"/>
            </a:br>
            <a:r>
              <a:rPr b="1" i="1" lang="uk-UA" sz="2400" spc="-1" strike="noStrike">
                <a:solidFill>
                  <a:srgbClr val="002060"/>
                </a:solidFill>
                <a:latin typeface="Calibri"/>
              </a:rPr>
              <a:t>Скориківської ЗОШ</a:t>
            </a:r>
            <a:r>
              <a:rPr b="1" i="1" lang="en-GB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Calibri"/>
              </a:rPr>
              <a:t>І-ІІІ ступенів навчан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Calibri"/>
              </a:rPr>
              <a:t>Самійленко Л.Г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-201600" y="268200"/>
            <a:ext cx="8437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4" name=""/>
          <p:cNvGraphicFramePr/>
          <p:nvPr/>
        </p:nvGraphicFramePr>
        <p:xfrm>
          <a:off x="428760" y="1571760"/>
          <a:ext cx="2314440" cy="1396800"/>
        </p:xfrm>
        <a:graphic>
          <a:graphicData uri="http://schemas.openxmlformats.org/drawingml/2006/table">
            <a:tbl>
              <a:tblPr/>
              <a:tblGrid>
                <a:gridCol w="412560"/>
                <a:gridCol w="949320"/>
                <a:gridCol w="9525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: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7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: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8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: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5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143160" y="1571760"/>
          <a:ext cx="2371680" cy="1396800"/>
        </p:xfrm>
        <a:graphic>
          <a:graphicData uri="http://schemas.openxmlformats.org/drawingml/2006/table">
            <a:tbl>
              <a:tblPr/>
              <a:tblGrid>
                <a:gridCol w="449280"/>
                <a:gridCol w="955800"/>
                <a:gridCol w="9666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*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*6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54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*6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8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786280" y="1500120"/>
          <a:ext cx="2386080" cy="1513080"/>
        </p:xfrm>
        <a:graphic>
          <a:graphicData uri="http://schemas.openxmlformats.org/drawingml/2006/table">
            <a:tbl>
              <a:tblPr/>
              <a:tblGrid>
                <a:gridCol w="462240"/>
                <a:gridCol w="976320"/>
                <a:gridCol w="94752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: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: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4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: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42960" y="4071960"/>
          <a:ext cx="6335640" cy="1224000"/>
        </p:xfrm>
        <a:graphic>
          <a:graphicData uri="http://schemas.openxmlformats.org/drawingml/2006/table">
            <a:tbl>
              <a:tblPr/>
              <a:tblGrid>
                <a:gridCol w="673200"/>
                <a:gridCol w="671400"/>
                <a:gridCol w="673200"/>
                <a:gridCol w="672840"/>
                <a:gridCol w="712800"/>
                <a:gridCol w="714600"/>
                <a:gridCol w="712800"/>
                <a:gridCol w="752400"/>
                <a:gridCol w="7524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292"/>
          <p:cNvSpPr/>
          <p:nvPr/>
        </p:nvSpPr>
        <p:spPr>
          <a:xfrm>
            <a:off x="755640" y="321264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містити відповіді прикладів у порядку збільшення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шифруйте назву тварини.  Що ви про неї знаєте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786280" y="1571760"/>
            <a:ext cx="237672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74396"/>
                </a:solidFill>
                <a:latin typeface="Garamond"/>
              </a:rPr>
              <a:t>Гра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Garamond"/>
              </a:rPr>
              <a:t>“</a:t>
            </a:r>
            <a:r>
              <a:rPr b="1" lang="uk-UA" sz="2800" spc="-1" strike="noStrike">
                <a:solidFill>
                  <a:srgbClr val="6600cc"/>
                </a:solidFill>
                <a:latin typeface="Garamond"/>
              </a:rPr>
              <a:t>Колумбов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cc"/>
                </a:solidFill>
                <a:latin typeface="Garamond"/>
              </a:rPr>
              <a:t>яйце”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-176040" y="-165240"/>
            <a:ext cx="8412120" cy="107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img5"/>
          <p:cNvPicPr/>
          <p:nvPr/>
        </p:nvPicPr>
        <p:blipFill>
          <a:blip r:embed="rId2"/>
          <a:stretch/>
        </p:blipFill>
        <p:spPr>
          <a:xfrm>
            <a:off x="611280" y="1125360"/>
            <a:ext cx="4097160" cy="5237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kolumb"/>
          <p:cNvPicPr/>
          <p:nvPr/>
        </p:nvPicPr>
        <p:blipFill>
          <a:blip r:embed="rId3"/>
          <a:stretch/>
        </p:blipFill>
        <p:spPr>
          <a:xfrm rot="1489200">
            <a:off x="5219280" y="3716280"/>
            <a:ext cx="3333960" cy="238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74396"/>
                </a:solidFill>
                <a:latin typeface="Garamond"/>
              </a:rPr>
              <a:t>За що ми любимо тварин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74396"/>
                </a:solidFill>
                <a:latin typeface="Garamond"/>
              </a:rPr>
              <a:t>Чому тварини часто стають героями казок, оповідань?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82520" y="133200"/>
            <a:ext cx="8480520" cy="216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_html_m28df7dc7"/>
          <p:cNvPicPr/>
          <p:nvPr/>
        </p:nvPicPr>
        <p:blipFill>
          <a:blip r:embed="rId1"/>
          <a:stretch/>
        </p:blipFill>
        <p:spPr>
          <a:xfrm>
            <a:off x="357120" y="1071720"/>
            <a:ext cx="7435800" cy="474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Рисунок 4" descr="5449e88a7030a.jpg"/>
          <p:cNvPicPr/>
          <p:nvPr/>
        </p:nvPicPr>
        <p:blipFill>
          <a:blip r:embed="rId1"/>
          <a:stretch/>
        </p:blipFill>
        <p:spPr>
          <a:xfrm>
            <a:off x="-1171440" y="-214200"/>
            <a:ext cx="10315440" cy="7358040"/>
          </a:xfrm>
          <a:prstGeom prst="rect">
            <a:avLst/>
          </a:prstGeom>
          <a:ln w="0">
            <a:noFill/>
          </a:ln>
        </p:spPr>
      </p:pic>
      <p:pic>
        <p:nvPicPr>
          <p:cNvPr id="317" name="Прямоугольник 5" descr=""/>
          <p:cNvPicPr/>
          <p:nvPr/>
        </p:nvPicPr>
        <p:blipFill>
          <a:blip r:embed="rId2"/>
          <a:stretch/>
        </p:blipFill>
        <p:spPr>
          <a:xfrm>
            <a:off x="1457280" y="274680"/>
            <a:ext cx="7650360" cy="29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1285560"/>
            <a:ext cx="8147160" cy="480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404040"/>
                </a:solidFill>
                <a:uFillTx/>
                <a:latin typeface="Trebuchet MS"/>
              </a:rPr>
              <a:t>Навчальна. 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Учити розрізняти групи тварин рідної місцевості: хребетні, безхребетні; формувати вміння визначити істотні ознаки тварин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Закріплювати знання нумерації багатоцифрових чисел: читати, записувати, представляти число у вигляді суми розрядних доданків; удосконалювати обчислювальні навички, вміння розв’язувати задачі ,вчити конструювати силуетне зображення тварин; закріплювати вміння працювати з ножицями, клеєм, папером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uk-UA" sz="1800" spc="-1" strike="noStrike" u="sng">
                <a:solidFill>
                  <a:srgbClr val="404040"/>
                </a:solidFill>
                <a:uFillTx/>
                <a:latin typeface="Trebuchet MS"/>
              </a:rPr>
              <a:t>Розвивальна. 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Розвивати вміння класифікувати, аргументувати обрані розв’язки, розвивати мовлення дітей, пізнавальний інтерес; розвивати спостережливість,окомір і точність виконання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uk-UA" sz="1800" spc="-1" strike="noStrike" u="sng">
                <a:solidFill>
                  <a:srgbClr val="404040"/>
                </a:solidFill>
                <a:uFillTx/>
                <a:latin typeface="Trebuchet MS"/>
              </a:rPr>
              <a:t>Виховна. </a:t>
            </a: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Виховувати допитливість, прагнення самовираження й самореалізації у пізнавальній діяльності про тваринний світ рідного села, виховувати загальну культуру усного і писемного мовлення; згуртовувати класний колектив в процесі групової і парної роботи ,а також  виховувати дбайливе ставлення до тварин, охайність в  робот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93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380960" y="590040"/>
            <a:ext cx="6772320" cy="28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cc"/>
                </a:solidFill>
                <a:latin typeface="Garamond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-122400" y="268200"/>
            <a:ext cx="841860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9"/>
          <p:cNvGrpSpPr/>
          <p:nvPr/>
        </p:nvGrpSpPr>
        <p:grpSpPr>
          <a:xfrm>
            <a:off x="684360" y="2924280"/>
            <a:ext cx="8028000" cy="1800000"/>
            <a:chOff x="684360" y="2924280"/>
            <a:chExt cx="8028000" cy="1800000"/>
          </a:xfrm>
        </p:grpSpPr>
        <p:sp>
          <p:nvSpPr>
            <p:cNvPr id="279" name="Rectangle 4"/>
            <p:cNvSpPr/>
            <p:nvPr/>
          </p:nvSpPr>
          <p:spPr>
            <a:xfrm>
              <a:off x="684360" y="2924280"/>
              <a:ext cx="2340000" cy="1800000"/>
            </a:xfrm>
            <a:prstGeom prst="rect">
              <a:avLst/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озбити числа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на класи,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очинаючи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права наліво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>
              <a:off x="3529440" y="2924280"/>
              <a:ext cx="2339640" cy="1800000"/>
            </a:xfrm>
            <a:prstGeom prst="rect">
              <a:avLst/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Прочитати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число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зліва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направо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6372360" y="2924280"/>
              <a:ext cx="2340000" cy="1800000"/>
            </a:xfrm>
            <a:prstGeom prst="rect">
              <a:avLst/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Нуль означає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ідсутніст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диниці розряду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 числі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7"/>
            <p:cNvSpPr/>
            <p:nvPr/>
          </p:nvSpPr>
          <p:spPr>
            <a:xfrm>
              <a:off x="2988000" y="3716280"/>
              <a:ext cx="576360" cy="144360"/>
            </a:xfrm>
            <a:prstGeom prst="rightArrow">
              <a:avLst>
                <a:gd name="adj1" fmla="val 50000"/>
                <a:gd name="adj2" fmla="val 99813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>
              <a:off x="5869080" y="3716280"/>
              <a:ext cx="576360" cy="144360"/>
            </a:xfrm>
            <a:prstGeom prst="rightArrow">
              <a:avLst>
                <a:gd name="adj1" fmla="val 50000"/>
                <a:gd name="adj2" fmla="val 99813"/>
              </a:avLst>
            </a:prstGeom>
            <a:solidFill>
              <a:srgbClr val="b83d6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5" descr="i (1).jpg"/>
          <p:cNvPicPr/>
          <p:nvPr/>
        </p:nvPicPr>
        <p:blipFill>
          <a:blip r:embed="rId1"/>
          <a:stretch/>
        </p:blipFill>
        <p:spPr>
          <a:xfrm>
            <a:off x="5929200" y="4854600"/>
            <a:ext cx="3062520" cy="20034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4" descr="i.jpg"/>
          <p:cNvPicPr/>
          <p:nvPr/>
        </p:nvPicPr>
        <p:blipFill>
          <a:blip r:embed="rId2"/>
          <a:stretch/>
        </p:blipFill>
        <p:spPr>
          <a:xfrm>
            <a:off x="6286680" y="0"/>
            <a:ext cx="2684160" cy="17859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a2e4e"/>
                </a:solidFill>
                <a:latin typeface="Trebuchet MS"/>
              </a:rPr>
              <a:t>1). У нашом у рідному селі налічується близько  500 видів тварин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a2e4e"/>
                </a:solidFill>
                <a:latin typeface="Trebuchet MS"/>
              </a:rPr>
              <a:t>2). На Землі нараховується більше 1 млн.500 тис видів тварин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a2e4e"/>
                </a:solidFill>
                <a:latin typeface="Trebuchet MS"/>
              </a:rPr>
              <a:t>3). На території України вчені нарахували понад 44.800 видів тварин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a2e4e"/>
                </a:solidFill>
                <a:latin typeface="Trebuchet MS"/>
              </a:rPr>
              <a:t>4). Комах на Землі у 250 млн. разів більше, ніж людей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Rectangle 2" descr=""/>
          <p:cNvPicPr/>
          <p:nvPr/>
        </p:nvPicPr>
        <p:blipFill>
          <a:blip r:embed="rId3"/>
          <a:stretch/>
        </p:blipFill>
        <p:spPr>
          <a:xfrm>
            <a:off x="-244440" y="255600"/>
            <a:ext cx="579132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-26208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9" name=""/>
          <p:cNvGraphicFramePr/>
          <p:nvPr/>
        </p:nvGraphicFramePr>
        <p:xfrm>
          <a:off x="142920" y="1500120"/>
          <a:ext cx="7870680" cy="865080"/>
        </p:xfrm>
        <a:graphic>
          <a:graphicData uri="http://schemas.openxmlformats.org/drawingml/2006/table">
            <a:tbl>
              <a:tblPr/>
              <a:tblGrid>
                <a:gridCol w="1122480"/>
                <a:gridCol w="1123920"/>
                <a:gridCol w="1125360"/>
                <a:gridCol w="1123920"/>
                <a:gridCol w="1125720"/>
                <a:gridCol w="1123920"/>
                <a:gridCol w="1125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Rectangle 92"/>
          <p:cNvSpPr/>
          <p:nvPr/>
        </p:nvSpPr>
        <p:spPr>
          <a:xfrm>
            <a:off x="720" y="2356920"/>
            <a:ext cx="82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бчислюйте, записуйте відповідь і букву із шифру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 дізнаєтесь, яку тему ми сьогодні узагальнимо на уроці природознавств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3"/>
          <p:cNvSpPr/>
          <p:nvPr/>
        </p:nvSpPr>
        <p:spPr>
          <a:xfrm>
            <a:off x="297000" y="3108240"/>
            <a:ext cx="6651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йти частку чисел 85 і 1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йти добуток чисел 90 і 6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писати число, при діленні якого на 7 одержуємо в частці 12 і остачу 5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скільки разів різниця чисел 47 і 29 менша 3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ілене 48.000, дільник 8.000. Чому дорівнює добуток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лось1.jpg"/>
          <p:cNvPicPr/>
          <p:nvPr/>
        </p:nvPicPr>
        <p:blipFill>
          <a:blip r:embed="rId1"/>
          <a:stretch/>
        </p:blipFill>
        <p:spPr>
          <a:xfrm>
            <a:off x="4214880" y="428760"/>
            <a:ext cx="4000320" cy="4643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371484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52f74"/>
                </a:solidFill>
                <a:latin typeface="Trebuchet MS"/>
              </a:rPr>
              <a:t>Лосі мають найбільші роги серед всіх ссавців. Розмах ріг досягає -180 см, маса: 20 — 30 кг. </a:t>
            </a:r>
            <a:r>
              <a:rPr b="1" lang="ru-RU" sz="2400" spc="-1" strike="noStrike">
                <a:solidFill>
                  <a:srgbClr val="852f74"/>
                </a:solidFill>
                <a:latin typeface="Trebuchet MS"/>
              </a:rPr>
              <a:t>Лось є найбільшим видом сімейства оленевих. Щороку (у листопаді — грудні ) лось скидає свої роги і ходить без них до квітня — травня. Самки лосів не мають рогів. Розміри лося: </a:t>
            </a:r>
            <a:r>
              <a:rPr b="1" lang="uk-UA" sz="2400" spc="-1" strike="noStrike">
                <a:solidFill>
                  <a:srgbClr val="852f74"/>
                </a:solidFill>
                <a:latin typeface="Trebuchet MS"/>
              </a:rPr>
              <a:t>д</a:t>
            </a:r>
            <a:r>
              <a:rPr b="1" lang="ru-RU" sz="2400" spc="-1" strike="noStrike">
                <a:solidFill>
                  <a:srgbClr val="852f74"/>
                </a:solidFill>
                <a:latin typeface="Trebuchet MS"/>
              </a:rPr>
              <a:t>овжина лося може досягати — 3 м, висота до — 2,3 м, вага від 360 — 600 кг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Rectangle 2" descr=""/>
          <p:cNvPicPr/>
          <p:nvPr/>
        </p:nvPicPr>
        <p:blipFill>
          <a:blip r:embed="rId1"/>
          <a:stretch/>
        </p:blipFill>
        <p:spPr>
          <a:xfrm>
            <a:off x="-244440" y="268200"/>
            <a:ext cx="84805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0" y="1600200"/>
          <a:ext cx="8229600" cy="3687840"/>
        </p:xfrm>
        <a:graphic>
          <a:graphicData uri="http://schemas.openxmlformats.org/drawingml/2006/table">
            <a:tbl>
              <a:tblPr/>
              <a:tblGrid>
                <a:gridCol w="4113360"/>
                <a:gridCol w="4116240"/>
              </a:tblGrid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ХРЕБЕТНІ</a:t>
                      </a:r>
                      <a:endParaRPr b="1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ЕБЕТНІ</a:t>
                      </a:r>
                      <a:endParaRPr b="1" lang="en-US" sz="3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юс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вукоподібні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коподібні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хи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мноводні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зун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ахи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авці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3" descr="i (3).jpg"/>
          <p:cNvPicPr/>
          <p:nvPr/>
        </p:nvPicPr>
        <p:blipFill>
          <a:blip r:embed="rId1"/>
          <a:stretch/>
        </p:blipFill>
        <p:spPr>
          <a:xfrm>
            <a:off x="6410160" y="4429080"/>
            <a:ext cx="2733840" cy="2428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571320" y="2143080"/>
            <a:ext cx="6771960" cy="28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За характерними ознаками визначити види тварин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874396"/>
                </a:solidFill>
                <a:uFillTx/>
                <a:latin typeface="Calibri"/>
              </a:rPr>
              <a:t>Завдання : </a:t>
            </a: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закінчити думку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а) тварин, тіло яких зверху вкрите раковиною, у деяких вона відсутня, називають…                           (молюсками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б) тварин, які мають три пари ніг, називають…           (комахами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в) тварин, тіло яких вкрите слизькою лускою, називають…                  (рибами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г) тварин, які частину свого життя проводять у воді, а частину на суходолі, називають…                                                                      (земноводними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д) тварин, які все своє життя повзають, називають…   (плазунами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ж) тварин, тіло яких вкрите пір</a:t>
            </a:r>
            <a:r>
              <a:rPr b="1" lang="ru-RU" sz="2000" spc="-1" strike="noStrike">
                <a:solidFill>
                  <a:srgbClr val="874396"/>
                </a:solidFill>
                <a:latin typeface="Calibri"/>
              </a:rPr>
              <a:t>’</a:t>
            </a: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ям, називають               (птахами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74396"/>
                </a:solidFill>
                <a:latin typeface="Calibri"/>
              </a:rPr>
              <a:t>з) тварин, тіло яких вкрите шерстю, а малят вигодовують молоком називають… (звірами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8" name="Rectangle 2" descr=""/>
          <p:cNvPicPr/>
          <p:nvPr/>
        </p:nvPicPr>
        <p:blipFill>
          <a:blip r:embed="rId2"/>
          <a:stretch/>
        </p:blipFill>
        <p:spPr>
          <a:xfrm>
            <a:off x="-103320" y="-146160"/>
            <a:ext cx="847908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-360" y="285480"/>
            <a:ext cx="70722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74396"/>
                </a:solidFill>
                <a:latin typeface="Trebuchet MS"/>
              </a:rPr>
              <a:t>Рідкісні тварини рідного краю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Рисунок 3" descr="bat15.jpg"/>
          <p:cNvPicPr/>
          <p:nvPr/>
        </p:nvPicPr>
        <p:blipFill>
          <a:blip r:embed="rId1"/>
          <a:stretch/>
        </p:blipFill>
        <p:spPr>
          <a:xfrm>
            <a:off x="6000840" y="1143000"/>
            <a:ext cx="3000240" cy="200016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4" descr="4e79fa.jpg"/>
          <p:cNvPicPr/>
          <p:nvPr/>
        </p:nvPicPr>
        <p:blipFill>
          <a:blip r:embed="rId2"/>
          <a:stretch/>
        </p:blipFill>
        <p:spPr>
          <a:xfrm>
            <a:off x="285840" y="2214720"/>
            <a:ext cx="3994200" cy="257148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5" descr="mediapreview.jpg"/>
          <p:cNvPicPr/>
          <p:nvPr/>
        </p:nvPicPr>
        <p:blipFill>
          <a:blip r:embed="rId3"/>
          <a:stretch/>
        </p:blipFill>
        <p:spPr>
          <a:xfrm>
            <a:off x="4714920" y="3357720"/>
            <a:ext cx="3071880" cy="339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19:52:49Z</dcterms:created>
  <dc:creator>User</dc:creator>
  <dc:description/>
  <dc:language>en-US</dc:language>
  <cp:lastModifiedBy>Metod</cp:lastModifiedBy>
  <dcterms:modified xsi:type="dcterms:W3CDTF">2016-11-17T09:19:06Z</dcterms:modified>
  <cp:revision>36</cp:revision>
  <dc:subject/>
  <dc:title>Слайд 1</dc:title>
</cp:coreProperties>
</file>