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F68-5903-4E19-8830-03A9A805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E21-331D-48CC-8485-701A0AA0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362-A6E0-4C9D-A1A0-CDF04620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471-2FED-4996-B59B-B3F5E4D5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566AE-1F80-4788-8160-402555DB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84EFF-8BC5-4F08-9EAE-CD1EF4C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15B79-630C-4DCB-A413-28B6B88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AAD3D-0C41-4869-8D9F-6B07176A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F48B1-4A32-4C24-8E19-4BE25E3E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209DE-4608-4E5F-8815-95145C49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8742A-4CF2-46F2-AA87-657F82AB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04E-B1F9-41CA-8CAD-94EB1B1A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BC778-6AE4-48E7-881B-A2E8F7AF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E1F0-965C-4AEF-A874-2B0E719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94F05-4113-4FC3-B56B-CB8FA76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C48E7-0AB6-4F7B-9F1E-52C109EC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2252E-E6DF-4ECE-92B2-7F228A47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1F6-BE2F-4218-B450-E0E9E79F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112-DD25-40CD-9914-033E4DF3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327-79F6-4C55-A492-061094A2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625-446D-4B88-9C7E-A21647E2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409-FE38-4585-89AC-A3D6C0FD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81C-FCA0-4E2C-A1FE-3D834BA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539-FD53-458A-A733-CAB2885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04DD-ADFD-472D-B381-46CE9435D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35F-1F8C-4A12-9362-21A7DA1930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57132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Мотива</a:t>
            </a: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ційний тренінг</a:t>
            </a:r>
            <a:br>
              <a:rPr sz="6000"/>
            </a:br>
            <a:r>
              <a:rPr b="1" lang="uk-UA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Вибір професії, або задача з багатьма невідомими”</a:t>
            </a:r>
            <a:br>
              <a:rPr sz="6000"/>
            </a:br>
            <a:br>
              <a:rPr sz="60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ний психолог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еринівської ЗОШ І-ІІІ ст.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кубаш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рава </a:t>
            </a:r>
            <a:br>
              <a:rPr sz="5400"/>
            </a:br>
            <a:br>
              <a:rPr sz="54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віт професій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ЯКІ ПРОФЕСІЇ ЙДЕТЬС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КРЕСЛИТЬ, ЦИРКУЛЬ, КОНСТРУКЦІ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ТВАРИНИ, ШПРИЦ, ЛІКАРН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УЧКА, ЖУРНАЛ, ОЦІ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КОМ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ЮТЕР, ТЕКСТ, ПРОГРА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КОРАБЕЛЬ, ШТУРВАЛ, МОР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ХВОРОБА, СИМПТОМИ, ТЕРМОМ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91960"/>
            <a:ext cx="8858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КІ ПРОФЕСІЇ ЗАШИФРОВАНІ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Е Ф М Р Р 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Р І Н Е Ж Е 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Р І Л А 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 У П Е М О Р О 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Р П Д О В А Ц Е 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Д Е Ж Р Е М Е 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 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орна скриньк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гімнастика 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отягнись до зірки»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бота в групах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рава «Оголошення»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вище, і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, по батькові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Адреса, контактний телеф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Кваліфікація: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2-х річний досвід роботи секретарем-референтом, оператором П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Мета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: отримання посади секректаря - референ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Досвід роботи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06.2007-06.2009 секретар-референт , м. Харків, вул.Плеханівська,12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imes New Roman"/>
              </a:rPr>
              <a:t>Спеціалізація 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:будівництво, друковане видання, туриз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imes New Roman"/>
              </a:rPr>
              <a:t>Основні зобов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i="1" lang="uk-UA" sz="1600" spc="-1" strike="noStrike">
                <a:solidFill>
                  <a:srgbClr val="ffffff"/>
                </a:solidFill>
                <a:latin typeface="Times New Roman"/>
              </a:rPr>
              <a:t>язання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прийом телефонних дзвінкі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консультування клієнті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підготовка оригінал-макетів візитівок, буклеті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перекладання документації з\на англійську, українську мов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робота з офісною технікою (факс, ксерокс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консультації персоналу фірми з питань роботи на П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imes New Roman"/>
              </a:rPr>
              <a:t>Штат компанії: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25 чолові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imes New Roman"/>
              </a:rPr>
              <a:t>Результати діяльності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: Документація систематизована и приведена до ла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imes New Roman"/>
              </a:rPr>
              <a:t>Мотив звільнення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: невідповідність заробітної плати о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єму робо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Розписати по всіх місцях робо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Освіта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2001 – 2006 Харківський авіаційний інститут, інженер-механі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Особисті дані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: народився 1 травня 1984 року, одружений, дітей не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Додаткова інформація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володіння ПК на професійному рівні: програмування, верстка, графічні програми, редактори, програми 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rd, Excel, DOS), Internet, E-mai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англійська мова – в о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ємі ділового спілкуван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наявність закордонного паспор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водійські права категорії “В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- ПК в особистому користуванні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рава </a:t>
            </a:r>
            <a:br>
              <a:rPr sz="5400"/>
            </a:br>
            <a:br>
              <a:rPr sz="54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чікування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920" y="1996920"/>
            <a:ext cx="8786880" cy="2075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рава </a:t>
            </a:r>
            <a:br>
              <a:rPr sz="5400"/>
            </a:br>
            <a:br>
              <a:rPr sz="54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авила роботи в групі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рав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Незавершене речення»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рава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онструктор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 “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ІЯ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ПОХОДИТЬ ВІД ДВОХ ЛАТИНСЬКИХ СЛІВ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ІЦІЙНО ВКАЗАНЕ ЗАНЯТТЯ, СПЕЦІАЛЬНІСТЬ 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TIOR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ОЛОШУЮ СВОЄЮ СПРАВО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ІЯ”–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ІД ТРУДОВОЇ ДІЯЛЬНОСТІ,ЩО ВИМАГАЄ ПЕВНОЇ ПІДГОТОВКИ І ЗАЗВИЧАЙ МАТЕРІАЛЬНО ЗАБЕЗПЕЧУЄ ІСНУВА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рав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Профконсультант»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рава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лучити в десятку»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НФОРМАЦІЮ ПРО НАВЧАЛЬНІ ЗАКЛАДИ, ЩО ЗДІЙСНЮЮТЬ ПРОФЕСІЙНЕ НАВЧАННЯ МОЖНА ОТРИМАТ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ДОВІДНИКІВ ДЛЯ АБІТУРІЄНТІ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ТЕЛЕФОННИХ ДОВІДНИКІ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КОМП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НИХ ІНФОРМАЦІЙНО-ПОШУКОВИХ ПРОГРАМ У МЕРЕЖІ ІНТЕРН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РЕКЛАМНИХ ОГОЛОШЕН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БІБЛІОТЕК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РАЙОННИХ ЦЕНТРАХ ЗАЙНЯТОСТІ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ІЛКУЮЧИСЬ ІЗ ПРЕДСТАВНИКАМИ НАВЧАЛЬНИХ ЗАКЛАДІВ І ВИКЛАДАЧ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СОБИСТИХ ВІДВІДИНАХ НАВЧАЛЬНИХ ЗАКЛАДІ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0:55:09Z</dcterms:created>
  <dc:creator>DESTO</dc:creator>
  <dc:description/>
  <dc:language>en-US</dc:language>
  <cp:lastModifiedBy>XTreme</cp:lastModifiedBy>
  <dcterms:modified xsi:type="dcterms:W3CDTF">2017-12-10T18:42:04Z</dcterms:modified>
  <cp:revision>7</cp:revision>
  <dc:subject/>
  <dc:title>Мотиваційний тренінг “Знайди свій шлях”</dc:title>
</cp:coreProperties>
</file>