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2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06A-B6A1-4B48-8FDC-5AEE6F85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339-8B8B-43C5-99DB-38FA34A8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118A3-CB39-406D-868E-59D02294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DC556-BA4D-407E-89BB-D08304C8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D734A-B14F-485C-A22C-33292E9A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67C21-494D-4610-85E2-303064F0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2F228-787F-40A9-856B-797D5931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845E6-6877-471F-B7DF-6764FD3A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6E697-876D-42F6-8E2E-898E71FF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8CEC0-C865-474C-9038-B11D095E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E9C60-F8D3-4126-94E6-2C91D0FE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8F2-D2AB-4788-9C8D-18D96C81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675-BB06-41D7-9C9E-473C7D68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415A-3E30-474A-914F-1EFEEFE3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6168-BC85-4718-9802-D3F16652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0ECF-4224-42AB-B683-85D1AA57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8F65-6947-4531-B31C-6F52C146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BD6A-BB81-48D2-AFCF-33A29AAF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FBB3-94C8-453E-AC89-F7BCE471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AA24-DE3A-43D9-8E6A-59D6486C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9B3-DD37-4744-A09A-D52A3623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1E5F-8162-4C8F-95FE-0C1794AB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56A8-FBA5-4DE3-8C36-1A98BB7B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C439-1435-47E4-A6EE-E380A2DA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2487-1FC6-495B-A3AB-2EDAEB96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24EE-1F0B-4D47-927B-05320657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C1DC-6893-4FA9-85A5-E76E2C48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DC4E-ED8E-480B-85AC-76C3EB4D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32BE1-8CC5-45B1-BDEB-1DC3A8FE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EC53-88D4-4D51-B9F5-6948D973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B9C2-0C75-4F91-8F47-A52AE887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D989-D113-4EAE-844B-56D7D87B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C3EA-8FD9-4C70-B401-2B7888B7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84414-21DB-4CCC-994E-8217985C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F3BB4-39F0-4068-B480-75B19000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EE3A6-8AC7-4F90-A02E-8C5C65A2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17F9-7310-474B-A3CE-9C9255E2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4DB3E-E9C8-408E-8582-E9881A53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CF46E-8304-4441-888D-BBF54826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8CE5-B82C-4719-9010-C5EC8C5E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319E-B036-4538-8529-A153EDAE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B737-48F2-4FE8-96EF-D2EF39A7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C25-2529-42C4-B633-70C8ACCB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E52D-2483-486C-A2AA-1BC6FCE1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E9FC4-7378-49F4-A66F-47D3896A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C0D9D-5817-4940-8252-0561D640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0BB1-705A-4CC4-AED3-F11DCA2B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26F58-084F-4896-92D0-A8395B75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33AB-7565-43FA-997E-F3A534FA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CBBA-4291-407B-8B30-809D6D40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0F43-AF28-43EB-A6AD-76F67835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99E2-4D7D-444E-BB14-F167BFD1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2488C-FA36-4568-BDCF-4D2ACB8B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686-14F5-47D7-A8CF-8DEF4DC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41730-4E01-4343-8EC2-8B95E51C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3AF00-4D24-43C8-9A1E-05E8FB32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73E3-25C2-4131-8746-3828381E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2EFEC-CD1E-4CBD-A97F-C9A1C754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88F0B-55B7-46EA-8924-B8DA76C3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8A42D-1E14-42A0-9E30-4D82108A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98B8-8014-40B2-81F2-533D275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58ECD-5246-440A-B1BE-BC81DCAB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8DDF8-69B9-490D-B018-FC7E302A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9DD9-3C31-4D5D-A1A5-4F5A7241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EA2-9BE5-4904-95B9-DCD458AB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07AF-0280-4B96-AC4A-B4DEFC87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A228C-B40E-465B-8342-1E016931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CADC5-F733-4740-B152-548DC7E8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F2914-E0B6-4D64-B365-216486F0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E19A1-6B23-4A39-B1FC-8435167F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7C1AD-7D3E-4AF3-ACE2-4C9E2A3B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E2FB8-3242-4951-BECB-43072783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8D3E4-0DAC-4987-8937-F09A2487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0120D-3C27-48A6-8B14-760BD39C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CF43A-7A32-4DC4-A98F-E7525BF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947-FB17-495F-A816-B92D4CB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99C60-89AC-41E1-A522-D409C936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DCAC1-4FA0-4400-BCAC-031E2723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A7586-FA84-4C2D-9923-D2CD9E72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B8B3A-B0F8-45C1-9C14-D2897C32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09EAC-0F95-442F-B814-BF47F96D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744A0-F09D-4F3F-8352-31DE6309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49863-544F-48D9-9917-7341C1D2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AD810-2DB6-49FE-91A5-78AB7A98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43080-9831-4251-AC36-93FEFF3F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741CB-2954-420B-9B7B-FEFF51A6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373-9F1B-43C1-AF3F-49DE72AC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0E421-0253-497E-AFDB-68C82B48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6467F-D1B1-4752-8D03-F754DF02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6AFA5-083C-4FE4-B273-79818461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F5484-8AE3-4B38-9B2D-3C4B532B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F3AFE-7C48-4931-9EB0-61D7954F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F50A9-0DF2-46A3-A186-0E9790A2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48473-279D-4F53-9C76-8831A1EE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64623-619D-4279-AA05-ED75BEC0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9F248-62BF-4482-8360-16AD87C6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15F44-024C-4EE4-BBFF-EDE3B227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0DB-35C0-47D1-9170-DB63B9AC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343080"/>
            <a:ext cx="86868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A56B2-1218-4366-9109-9FE8CA36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9B4A-798C-4137-B182-14A15084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BB1E7-2D9C-47F8-95D1-25BDE44A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E5321-C49A-4C0C-A991-EA6F760F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2939400"/>
            <a:ext cx="8686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F17AC-B520-411B-AF23-4831871E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16532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2939400"/>
            <a:ext cx="42390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BB8BC-EBD5-41FE-A1B9-803E0CA3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16532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2939400"/>
            <a:ext cx="279684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B885D-494B-4368-B378-494052EF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C69A4-65D4-45A3-8536-A6571D16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50989-AFD7-4030-B80D-3BB683E3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33624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CE688-2BA6-4A86-90B5-8B11D9F4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774720"/>
            <a:ext cx="8643960" cy="30240"/>
            <a:chOff x="506520" y="774720"/>
            <a:chExt cx="8643960" cy="302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3960" cy="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2C9E-5FDD-4410-B9FF-D3BE07E033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774720"/>
            <a:ext cx="8643960" cy="30240"/>
            <a:chOff x="506520" y="774720"/>
            <a:chExt cx="8643960" cy="302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3960" cy="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781200"/>
            <a:ext cx="8643960" cy="23760"/>
            <a:chOff x="506520" y="781200"/>
            <a:chExt cx="8643960" cy="237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998880"/>
            <a:ext cx="8643960" cy="23760"/>
            <a:chOff x="506520" y="399888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99888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01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4856040"/>
            <a:ext cx="7588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59E6-37A7-4367-84F1-6295FCC1D3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774720"/>
            <a:ext cx="8643960" cy="30240"/>
            <a:chOff x="506520" y="774720"/>
            <a:chExt cx="8643960" cy="302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774720"/>
              <a:ext cx="8643960" cy="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774720"/>
            <a:ext cx="8643960" cy="30240"/>
            <a:chOff x="506520" y="774720"/>
            <a:chExt cx="8643960" cy="302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774720"/>
              <a:ext cx="8643960" cy="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78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781200"/>
            <a:ext cx="8643960" cy="23760"/>
            <a:chOff x="506520" y="781200"/>
            <a:chExt cx="8643960" cy="237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78120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793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57240"/>
            <a:ext cx="28958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4856040"/>
            <a:ext cx="7588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B200-98F0-4C06-AF49-DD595FE98F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2571840"/>
            <a:ext cx="8643960" cy="25200"/>
            <a:chOff x="506520" y="2571840"/>
            <a:chExt cx="8643960" cy="2520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2571840"/>
              <a:ext cx="8643960" cy="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25844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1298-AA78-4469-AD8B-A07D9D1B0A3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4505400"/>
            <a:ext cx="8643960" cy="23760"/>
            <a:chOff x="506520" y="4505400"/>
            <a:chExt cx="8643960" cy="237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450540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4514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4857840"/>
            <a:ext cx="7621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5230-5A84-4197-928B-E192465C9F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1791-1F75-46B2-B130-896A1D913B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4376880"/>
            <a:ext cx="8643960" cy="23760"/>
            <a:chOff x="506520" y="4376880"/>
            <a:chExt cx="8643960" cy="237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437688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438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4A2E-0C54-4355-B109-EF361AB4575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F4FF-E2A8-4E71-9331-19AAD2B553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165320"/>
            <a:ext cx="8686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343080"/>
            <a:ext cx="8686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57240"/>
            <a:ext cx="251460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57240"/>
            <a:ext cx="33530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4857480"/>
            <a:ext cx="76212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40FE-AF2B-425F-B61F-55D09D46B3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gif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rcRect l="0" t="30992" r="92852" b="0"/>
          <a:stretch/>
        </p:blipFill>
        <p:spPr>
          <a:xfrm>
            <a:off x="8377200" y="0"/>
            <a:ext cx="779400" cy="51436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I:\мультимедія\значки для мультимедія\9.jpg"/>
          <p:cNvPicPr/>
          <p:nvPr/>
        </p:nvPicPr>
        <p:blipFill>
          <a:blip r:embed="rId2"/>
          <a:srcRect l="7026" t="25681" r="0" b="0"/>
          <a:stretch/>
        </p:blipFill>
        <p:spPr>
          <a:xfrm>
            <a:off x="0" y="4711680"/>
            <a:ext cx="9126360" cy="43200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5"/>
          <p:cNvSpPr/>
          <p:nvPr/>
        </p:nvSpPr>
        <p:spPr>
          <a:xfrm>
            <a:off x="304920" y="11239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.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«Природа – людин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людина - природі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"/>
          <p:cNvPicPr/>
          <p:nvPr/>
        </p:nvPicPr>
        <p:blipFill>
          <a:blip r:embed="rId1"/>
          <a:srcRect l="0" t="30992" r="92852" b="0"/>
          <a:stretch/>
        </p:blipFill>
        <p:spPr>
          <a:xfrm>
            <a:off x="8377200" y="0"/>
            <a:ext cx="779400" cy="5143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" descr="I:\мультимедія\значки для мультимедія\9.jpg"/>
          <p:cNvPicPr/>
          <p:nvPr/>
        </p:nvPicPr>
        <p:blipFill>
          <a:blip r:embed="rId2"/>
          <a:srcRect l="7026" t="25681" r="0" b="0"/>
          <a:stretch/>
        </p:blipFill>
        <p:spPr>
          <a:xfrm>
            <a:off x="0" y="4711680"/>
            <a:ext cx="9126360" cy="43200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4"/>
          <p:cNvSpPr/>
          <p:nvPr/>
        </p:nvSpPr>
        <p:spPr>
          <a:xfrm>
            <a:off x="990720" y="28584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Як бути здоров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6" descr="images (6)"/>
          <p:cNvPicPr/>
          <p:nvPr/>
        </p:nvPicPr>
        <p:blipFill>
          <a:blip r:embed="rId3"/>
          <a:stretch/>
        </p:blipFill>
        <p:spPr>
          <a:xfrm>
            <a:off x="4038480" y="895320"/>
            <a:ext cx="3733920" cy="14781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images (22)"/>
          <p:cNvPicPr/>
          <p:nvPr/>
        </p:nvPicPr>
        <p:blipFill>
          <a:blip r:embed="rId4"/>
          <a:stretch/>
        </p:blipFill>
        <p:spPr>
          <a:xfrm>
            <a:off x="380880" y="28004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2" descr="images (10)"/>
          <p:cNvPicPr/>
          <p:nvPr/>
        </p:nvPicPr>
        <p:blipFill>
          <a:blip r:embed="rId5"/>
          <a:stretch/>
        </p:blipFill>
        <p:spPr>
          <a:xfrm>
            <a:off x="457200" y="819000"/>
            <a:ext cx="2523960" cy="18100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3" descr="images (11)"/>
          <p:cNvPicPr/>
          <p:nvPr/>
        </p:nvPicPr>
        <p:blipFill>
          <a:blip r:embed="rId6"/>
          <a:stretch/>
        </p:blipFill>
        <p:spPr>
          <a:xfrm>
            <a:off x="4572000" y="27241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rcRect l="0" t="30992" r="92852" b="0"/>
          <a:stretch/>
        </p:blipFill>
        <p:spPr>
          <a:xfrm>
            <a:off x="8377200" y="0"/>
            <a:ext cx="779400" cy="5143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I:\мультимедія\значки для мультимедія\9.jpg"/>
          <p:cNvPicPr/>
          <p:nvPr/>
        </p:nvPicPr>
        <p:blipFill>
          <a:blip r:embed="rId2"/>
          <a:srcRect l="7026" t="25681" r="0" b="0"/>
          <a:stretch/>
        </p:blipFill>
        <p:spPr>
          <a:xfrm>
            <a:off x="0" y="4711680"/>
            <a:ext cx="9126360" cy="4320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6"/>
          <p:cNvSpPr/>
          <p:nvPr/>
        </p:nvSpPr>
        <p:spPr>
          <a:xfrm>
            <a:off x="1143000" y="343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a5644e"/>
                </a:solidFill>
                <a:latin typeface="Arial"/>
              </a:rPr>
              <a:t>Чинники впливу на здоров’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desk2"/>
          <p:cNvSpPr/>
          <p:nvPr/>
        </p:nvSpPr>
        <p:spPr>
          <a:xfrm>
            <a:off x="685800" y="1047600"/>
            <a:ext cx="2819520" cy="1409760"/>
          </a:xfrm>
          <a:custGeom>
            <a:avLst/>
            <a:gdLst>
              <a:gd name="textAreaLeft" fmla="*/ 130320 w 2819520"/>
              <a:gd name="textAreaRight" fmla="*/ 2689200 w 2819520"/>
              <a:gd name="textAreaTop" fmla="*/ 770040 h 1409760"/>
              <a:gd name="textAreaBottom" fmla="*/ 1344600 h 1409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0"/>
                </a:lnTo>
                <a:lnTo>
                  <a:pt x="21600" y="12800"/>
                </a:lnTo>
                <a:lnTo>
                  <a:pt x="12800" y="21600"/>
                </a:lnTo>
                <a:lnTo>
                  <a:pt x="0" y="21600"/>
                </a:lnTo>
                <a:lnTo>
                  <a:pt x="0" y="10800"/>
                </a:lnTo>
                <a:lnTo>
                  <a:pt x="5400" y="10800"/>
                </a:lnTo>
                <a:lnTo>
                  <a:pt x="10800" y="540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desk2"/>
          <p:cNvSpPr/>
          <p:nvPr/>
        </p:nvSpPr>
        <p:spPr>
          <a:xfrm rot="5400000">
            <a:off x="5523840" y="399960"/>
            <a:ext cx="1524240" cy="2819160"/>
          </a:xfrm>
          <a:custGeom>
            <a:avLst/>
            <a:gdLst>
              <a:gd name="textAreaLeft" fmla="*/ 70560 w 1524240"/>
              <a:gd name="textAreaRight" fmla="*/ 1453680 w 1524240"/>
              <a:gd name="textAreaTop" fmla="*/ 1540080 h 2819160"/>
              <a:gd name="textAreaBottom" fmla="*/ 2688840 h 28191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0"/>
                </a:lnTo>
                <a:lnTo>
                  <a:pt x="21600" y="12800"/>
                </a:lnTo>
                <a:lnTo>
                  <a:pt x="12800" y="21600"/>
                </a:lnTo>
                <a:lnTo>
                  <a:pt x="0" y="21600"/>
                </a:lnTo>
                <a:lnTo>
                  <a:pt x="0" y="10800"/>
                </a:lnTo>
                <a:lnTo>
                  <a:pt x="5400" y="10800"/>
                </a:lnTo>
                <a:lnTo>
                  <a:pt x="10800" y="5400"/>
                </a:lnTo>
                <a:lnTo>
                  <a:pt x="1080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desk2"/>
          <p:cNvSpPr/>
          <p:nvPr/>
        </p:nvSpPr>
        <p:spPr>
          <a:xfrm rot="10800000">
            <a:off x="4571640" y="2857680"/>
            <a:ext cx="2971800" cy="1466640"/>
          </a:xfrm>
          <a:custGeom>
            <a:avLst/>
            <a:gdLst>
              <a:gd name="textAreaLeft" fmla="*/ 137520 w 2971800"/>
              <a:gd name="textAreaRight" fmla="*/ 2834280 w 2971800"/>
              <a:gd name="textAreaTop" fmla="*/ 801360 h 1466640"/>
              <a:gd name="textAreaBottom" fmla="*/ 1398960 h 1466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0"/>
                </a:lnTo>
                <a:lnTo>
                  <a:pt x="21600" y="12800"/>
                </a:lnTo>
                <a:lnTo>
                  <a:pt x="12800" y="21600"/>
                </a:lnTo>
                <a:lnTo>
                  <a:pt x="0" y="21600"/>
                </a:lnTo>
                <a:lnTo>
                  <a:pt x="0" y="10800"/>
                </a:lnTo>
                <a:lnTo>
                  <a:pt x="5400" y="10800"/>
                </a:lnTo>
                <a:lnTo>
                  <a:pt x="10800" y="5400"/>
                </a:lnTo>
                <a:lnTo>
                  <a:pt x="10800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esk2"/>
          <p:cNvSpPr/>
          <p:nvPr/>
        </p:nvSpPr>
        <p:spPr>
          <a:xfrm rot="16200000">
            <a:off x="1238040" y="2133000"/>
            <a:ext cx="1638360" cy="2743200"/>
          </a:xfrm>
          <a:custGeom>
            <a:avLst/>
            <a:gdLst>
              <a:gd name="textAreaLeft" fmla="*/ 75600 w 1638360"/>
              <a:gd name="textAreaRight" fmla="*/ 1562760 w 1638360"/>
              <a:gd name="textAreaTop" fmla="*/ 1498680 h 2743200"/>
              <a:gd name="textAreaBottom" fmla="*/ 2616480 h 27432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0"/>
                </a:lnTo>
                <a:lnTo>
                  <a:pt x="21600" y="12800"/>
                </a:lnTo>
                <a:lnTo>
                  <a:pt x="12800" y="21600"/>
                </a:lnTo>
                <a:lnTo>
                  <a:pt x="0" y="21600"/>
                </a:lnTo>
                <a:lnTo>
                  <a:pt x="0" y="10800"/>
                </a:lnTo>
                <a:lnTo>
                  <a:pt x="5400" y="10800"/>
                </a:lnTo>
                <a:lnTo>
                  <a:pt x="10800" y="5400"/>
                </a:lnTo>
                <a:lnTo>
                  <a:pt x="10800" y="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Без названия (1)"/>
          <p:cNvPicPr/>
          <p:nvPr/>
        </p:nvPicPr>
        <p:blipFill>
          <a:blip r:embed="rId3"/>
          <a:stretch/>
        </p:blipFill>
        <p:spPr>
          <a:xfrm>
            <a:off x="2438280" y="1886040"/>
            <a:ext cx="3276720" cy="13762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12"/>
          <p:cNvSpPr/>
          <p:nvPr/>
        </p:nvSpPr>
        <p:spPr>
          <a:xfrm>
            <a:off x="1219320" y="1733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доровий спосіб жит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5715000" y="1809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адков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990720" y="27241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мови навколишнього середов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486400" y="30290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едичні по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1" descr="18.02.2015-2сс"/>
          <p:cNvPicPr/>
          <p:nvPr/>
        </p:nvPicPr>
        <p:blipFill>
          <a:blip r:embed="rId1"/>
          <a:stretch/>
        </p:blipFill>
        <p:spPr>
          <a:xfrm>
            <a:off x="1676520" y="438120"/>
            <a:ext cx="5867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1" descr="18.02.2015-2сс"/>
          <p:cNvPicPr/>
          <p:nvPr/>
        </p:nvPicPr>
        <p:blipFill>
          <a:blip r:embed="rId1"/>
          <a:stretch/>
        </p:blipFill>
        <p:spPr>
          <a:xfrm>
            <a:off x="1905120" y="743040"/>
            <a:ext cx="5756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Рисунок 1" descr="18.02.2015-2сс3"/>
          <p:cNvPicPr/>
          <p:nvPr/>
        </p:nvPicPr>
        <p:blipFill>
          <a:blip r:embed="rId1"/>
          <a:stretch/>
        </p:blipFill>
        <p:spPr>
          <a:xfrm>
            <a:off x="1523880" y="743040"/>
            <a:ext cx="5943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Рисунок 1" descr="18.02.2015-2сс6"/>
          <p:cNvPicPr/>
          <p:nvPr/>
        </p:nvPicPr>
        <p:blipFill>
          <a:blip r:embed="rId1"/>
          <a:stretch/>
        </p:blipFill>
        <p:spPr>
          <a:xfrm>
            <a:off x="1981080" y="59040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Рисунок 1" descr="18.02.2015-2сс5"/>
          <p:cNvPicPr/>
          <p:nvPr/>
        </p:nvPicPr>
        <p:blipFill>
          <a:blip r:embed="rId1"/>
          <a:stretch/>
        </p:blipFill>
        <p:spPr>
          <a:xfrm>
            <a:off x="2095560" y="743040"/>
            <a:ext cx="4952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rcRect l="0" t="30992" r="92852" b="0"/>
          <a:stretch/>
        </p:blipFill>
        <p:spPr>
          <a:xfrm>
            <a:off x="8377200" y="0"/>
            <a:ext cx="779400" cy="5143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I:\мультимедія\значки для мультимедія\9.jpg"/>
          <p:cNvPicPr/>
          <p:nvPr/>
        </p:nvPicPr>
        <p:blipFill>
          <a:blip r:embed="rId2"/>
          <a:srcRect l="7026" t="25681" r="0" b="0"/>
          <a:stretch/>
        </p:blipFill>
        <p:spPr>
          <a:xfrm>
            <a:off x="0" y="4711680"/>
            <a:ext cx="9126360" cy="432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images (38)"/>
          <p:cNvPicPr/>
          <p:nvPr/>
        </p:nvPicPr>
        <p:blipFill>
          <a:blip r:embed="rId3"/>
          <a:stretch/>
        </p:blipFill>
        <p:spPr>
          <a:xfrm>
            <a:off x="0" y="0"/>
            <a:ext cx="83818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rcRect l="0" t="30992" r="92852" b="0"/>
          <a:stretch/>
        </p:blipFill>
        <p:spPr>
          <a:xfrm>
            <a:off x="8377200" y="0"/>
            <a:ext cx="779400" cy="5143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I:\мультимедія\значки для мультимедія\9.jpg"/>
          <p:cNvPicPr/>
          <p:nvPr/>
        </p:nvPicPr>
        <p:blipFill>
          <a:blip r:embed="rId2"/>
          <a:srcRect l="7026" t="25681" r="0" b="0"/>
          <a:stretch/>
        </p:blipFill>
        <p:spPr>
          <a:xfrm>
            <a:off x="0" y="4711680"/>
            <a:ext cx="9126360" cy="432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7"/>
          <p:cNvSpPr/>
          <p:nvPr/>
        </p:nvSpPr>
        <p:spPr>
          <a:xfrm>
            <a:off x="3962520" y="1332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644e"/>
                </a:solidFill>
                <a:latin typeface="Arial"/>
              </a:rPr>
              <a:t>Хто 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80880" y="371484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ЛЮ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3" descr="Без названия (4)"/>
          <p:cNvPicPr/>
          <p:nvPr/>
        </p:nvPicPr>
        <p:blipFill>
          <a:blip r:embed="rId3"/>
          <a:stretch/>
        </p:blipFill>
        <p:spPr>
          <a:xfrm>
            <a:off x="533520" y="590400"/>
            <a:ext cx="1137960" cy="152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4" descr="Без названия (5)"/>
          <p:cNvPicPr/>
          <p:nvPr/>
        </p:nvPicPr>
        <p:blipFill>
          <a:blip r:embed="rId4"/>
          <a:stretch/>
        </p:blipFill>
        <p:spPr>
          <a:xfrm>
            <a:off x="2438280" y="285840"/>
            <a:ext cx="2486160" cy="3276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5" descr="images (3)"/>
          <p:cNvPicPr/>
          <p:nvPr/>
        </p:nvPicPr>
        <p:blipFill>
          <a:blip r:embed="rId5"/>
          <a:stretch/>
        </p:blipFill>
        <p:spPr>
          <a:xfrm>
            <a:off x="5943600" y="1352520"/>
            <a:ext cx="17812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rcRect l="0" t="30992" r="92852" b="0"/>
          <a:stretch/>
        </p:blipFill>
        <p:spPr>
          <a:xfrm>
            <a:off x="8364600" y="0"/>
            <a:ext cx="779400" cy="51436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I:\мультимедія\значки для мультимедія\9.jpg"/>
          <p:cNvPicPr/>
          <p:nvPr/>
        </p:nvPicPr>
        <p:blipFill>
          <a:blip r:embed="rId2"/>
          <a:srcRect l="7026" t="25681" r="0" b="0"/>
          <a:stretch/>
        </p:blipFill>
        <p:spPr>
          <a:xfrm>
            <a:off x="0" y="4711680"/>
            <a:ext cx="9126360" cy="432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Без названия (42)"/>
          <p:cNvPicPr/>
          <p:nvPr/>
        </p:nvPicPr>
        <p:blipFill>
          <a:blip r:embed="rId3"/>
          <a:stretch/>
        </p:blipFill>
        <p:spPr>
          <a:xfrm>
            <a:off x="152280" y="133200"/>
            <a:ext cx="2409840" cy="1476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Без названия (1)"/>
          <p:cNvPicPr/>
          <p:nvPr/>
        </p:nvPicPr>
        <p:blipFill>
          <a:blip r:embed="rId4"/>
          <a:stretch/>
        </p:blipFill>
        <p:spPr>
          <a:xfrm>
            <a:off x="152280" y="1733400"/>
            <a:ext cx="2438640" cy="13716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Без названия"/>
          <p:cNvPicPr/>
          <p:nvPr/>
        </p:nvPicPr>
        <p:blipFill>
          <a:blip r:embed="rId5"/>
          <a:stretch/>
        </p:blipFill>
        <p:spPr>
          <a:xfrm>
            <a:off x="152280" y="3257640"/>
            <a:ext cx="2467080" cy="1447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images (1)"/>
          <p:cNvPicPr/>
          <p:nvPr/>
        </p:nvPicPr>
        <p:blipFill>
          <a:blip r:embed="rId6"/>
          <a:stretch/>
        </p:blipFill>
        <p:spPr>
          <a:xfrm>
            <a:off x="6019920" y="133200"/>
            <a:ext cx="2162160" cy="1447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images"/>
          <p:cNvPicPr/>
          <p:nvPr/>
        </p:nvPicPr>
        <p:blipFill>
          <a:blip r:embed="rId7"/>
          <a:stretch/>
        </p:blipFill>
        <p:spPr>
          <a:xfrm>
            <a:off x="6019920" y="1733400"/>
            <a:ext cx="2162160" cy="1371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Без названия (2)"/>
          <p:cNvPicPr/>
          <p:nvPr/>
        </p:nvPicPr>
        <p:blipFill>
          <a:blip r:embed="rId8"/>
          <a:stretch/>
        </p:blipFill>
        <p:spPr>
          <a:xfrm>
            <a:off x="6019920" y="3257640"/>
            <a:ext cx="2162160" cy="1371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word1"/>
          <p:cNvPicPr/>
          <p:nvPr/>
        </p:nvPicPr>
        <p:blipFill>
          <a:blip r:embed="rId9"/>
          <a:stretch/>
        </p:blipFill>
        <p:spPr>
          <a:xfrm>
            <a:off x="3886200" y="2876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Без названия (1)"/>
          <p:cNvPicPr/>
          <p:nvPr/>
        </p:nvPicPr>
        <p:blipFill>
          <a:blip r:embed="rId10"/>
          <a:stretch/>
        </p:blipFill>
        <p:spPr>
          <a:xfrm>
            <a:off x="2590920" y="1123920"/>
            <a:ext cx="3314520" cy="1392120"/>
          </a:xfrm>
          <a:prstGeom prst="rect">
            <a:avLst/>
          </a:prstGeom>
          <a:ln w="0">
            <a:noFill/>
          </a:ln>
        </p:spPr>
      </p:pic>
      <p:sp>
        <p:nvSpPr>
          <p:cNvPr id="422" name="Line 13"/>
          <p:cNvSpPr/>
          <p:nvPr/>
        </p:nvSpPr>
        <p:spPr>
          <a:xfrm flipH="1">
            <a:off x="2819160" y="2571840"/>
            <a:ext cx="1523880" cy="533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rcRect l="0" t="30992" r="92852" b="0"/>
          <a:stretch/>
        </p:blipFill>
        <p:spPr>
          <a:xfrm>
            <a:off x="8364600" y="0"/>
            <a:ext cx="779400" cy="51436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I:\мультимедія\значки для мультимедія\9.jpg"/>
          <p:cNvPicPr/>
          <p:nvPr/>
        </p:nvPicPr>
        <p:blipFill>
          <a:blip r:embed="rId2"/>
          <a:srcRect l="7026" t="25681" r="0" b="0"/>
          <a:stretch/>
        </p:blipFill>
        <p:spPr>
          <a:xfrm>
            <a:off x="0" y="4711680"/>
            <a:ext cx="9126360" cy="43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Без названия (1)"/>
          <p:cNvPicPr/>
          <p:nvPr/>
        </p:nvPicPr>
        <p:blipFill>
          <a:blip r:embed="rId3"/>
          <a:stretch/>
        </p:blipFill>
        <p:spPr>
          <a:xfrm>
            <a:off x="0" y="0"/>
            <a:ext cx="4724280" cy="19843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word2"/>
          <p:cNvPicPr/>
          <p:nvPr/>
        </p:nvPicPr>
        <p:blipFill>
          <a:blip r:embed="rId4"/>
          <a:stretch/>
        </p:blipFill>
        <p:spPr>
          <a:xfrm>
            <a:off x="3505320" y="1542960"/>
            <a:ext cx="2552760" cy="149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images (39)"/>
          <p:cNvPicPr/>
          <p:nvPr/>
        </p:nvPicPr>
        <p:blipFill>
          <a:blip r:embed="rId5"/>
          <a:stretch/>
        </p:blipFill>
        <p:spPr>
          <a:xfrm>
            <a:off x="3352680" y="3086280"/>
            <a:ext cx="4638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rcRect l="0" t="30992" r="92852" b="0"/>
          <a:stretch/>
        </p:blipFill>
        <p:spPr>
          <a:xfrm>
            <a:off x="8377200" y="0"/>
            <a:ext cx="779400" cy="51436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I:\мультимедія\значки для мультимедія\9.jpg"/>
          <p:cNvPicPr/>
          <p:nvPr/>
        </p:nvPicPr>
        <p:blipFill>
          <a:blip r:embed="rId2"/>
          <a:srcRect l="7026" t="25681" r="0" b="0"/>
          <a:stretch/>
        </p:blipFill>
        <p:spPr>
          <a:xfrm>
            <a:off x="0" y="4711680"/>
            <a:ext cx="9126360" cy="432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images (47)"/>
          <p:cNvPicPr/>
          <p:nvPr/>
        </p:nvPicPr>
        <p:blipFill>
          <a:blip r:embed="rId3"/>
          <a:stretch/>
        </p:blipFill>
        <p:spPr>
          <a:xfrm>
            <a:off x="2666880" y="1486080"/>
            <a:ext cx="3619800" cy="1692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images (40)"/>
          <p:cNvPicPr/>
          <p:nvPr/>
        </p:nvPicPr>
        <p:blipFill>
          <a:blip r:embed="rId4"/>
          <a:stretch/>
        </p:blipFill>
        <p:spPr>
          <a:xfrm>
            <a:off x="228600" y="171360"/>
            <a:ext cx="2495520" cy="13716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images (44)"/>
          <p:cNvPicPr/>
          <p:nvPr/>
        </p:nvPicPr>
        <p:blipFill>
          <a:blip r:embed="rId5"/>
          <a:stretch/>
        </p:blipFill>
        <p:spPr>
          <a:xfrm>
            <a:off x="5334120" y="171360"/>
            <a:ext cx="2657520" cy="1293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" descr="images (45)"/>
          <p:cNvPicPr/>
          <p:nvPr/>
        </p:nvPicPr>
        <p:blipFill>
          <a:blip r:embed="rId6"/>
          <a:stretch/>
        </p:blipFill>
        <p:spPr>
          <a:xfrm>
            <a:off x="457200" y="3086280"/>
            <a:ext cx="2143080" cy="1608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images (46)"/>
          <p:cNvPicPr/>
          <p:nvPr/>
        </p:nvPicPr>
        <p:blipFill>
          <a:blip r:embed="rId7"/>
          <a:stretch/>
        </p:blipFill>
        <p:spPr>
          <a:xfrm>
            <a:off x="5105520" y="3143160"/>
            <a:ext cx="304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rcRect l="0" t="30992" r="92852" b="0"/>
          <a:stretch/>
        </p:blipFill>
        <p:spPr>
          <a:xfrm>
            <a:off x="8377200" y="0"/>
            <a:ext cx="779400" cy="5143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I:\мультимедія\значки для мультимедія\9.jpg"/>
          <p:cNvPicPr/>
          <p:nvPr/>
        </p:nvPicPr>
        <p:blipFill>
          <a:blip r:embed="rId2"/>
          <a:srcRect l="7026" t="25681" r="0" b="0"/>
          <a:stretch/>
        </p:blipFill>
        <p:spPr>
          <a:xfrm>
            <a:off x="0" y="4711680"/>
            <a:ext cx="9126360" cy="4320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7"/>
          <p:cNvSpPr/>
          <p:nvPr/>
        </p:nvSpPr>
        <p:spPr>
          <a:xfrm>
            <a:off x="1897200" y="21859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житт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8" descr="Без названия (35)"/>
          <p:cNvPicPr/>
          <p:nvPr/>
        </p:nvPicPr>
        <p:blipFill>
          <a:blip r:embed="rId3"/>
          <a:stretch/>
        </p:blipFill>
        <p:spPr>
          <a:xfrm>
            <a:off x="2819520" y="2914560"/>
            <a:ext cx="3352680" cy="1548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Без названия (16)"/>
          <p:cNvPicPr/>
          <p:nvPr/>
        </p:nvPicPr>
        <p:blipFill>
          <a:blip r:embed="rId4"/>
          <a:stretch/>
        </p:blipFill>
        <p:spPr>
          <a:xfrm>
            <a:off x="228600" y="133200"/>
            <a:ext cx="2419200" cy="1886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3" descr="Без названия (15)"/>
          <p:cNvPicPr/>
          <p:nvPr/>
        </p:nvPicPr>
        <p:blipFill>
          <a:blip r:embed="rId5"/>
          <a:stretch/>
        </p:blipFill>
        <p:spPr>
          <a:xfrm>
            <a:off x="152280" y="2343240"/>
            <a:ext cx="2438640" cy="1581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images (24)"/>
          <p:cNvPicPr/>
          <p:nvPr/>
        </p:nvPicPr>
        <p:blipFill>
          <a:blip r:embed="rId6"/>
          <a:stretch/>
        </p:blipFill>
        <p:spPr>
          <a:xfrm>
            <a:off x="5715000" y="133200"/>
            <a:ext cx="2486160" cy="1633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images (25)"/>
          <p:cNvPicPr/>
          <p:nvPr/>
        </p:nvPicPr>
        <p:blipFill>
          <a:blip r:embed="rId7"/>
          <a:stretch/>
        </p:blipFill>
        <p:spPr>
          <a:xfrm>
            <a:off x="5791320" y="2038320"/>
            <a:ext cx="2390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rcRect l="0" t="30992" r="92852" b="0"/>
          <a:stretch/>
        </p:blipFill>
        <p:spPr>
          <a:xfrm>
            <a:off x="8377200" y="0"/>
            <a:ext cx="779400" cy="51436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I:\мультимедія\значки для мультимедія\9.jpg"/>
          <p:cNvPicPr/>
          <p:nvPr/>
        </p:nvPicPr>
        <p:blipFill>
          <a:blip r:embed="rId2"/>
          <a:srcRect l="7026" t="25681" r="0" b="0"/>
          <a:stretch/>
        </p:blipFill>
        <p:spPr>
          <a:xfrm>
            <a:off x="0" y="4711680"/>
            <a:ext cx="9126360" cy="4320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4"/>
          <p:cNvSpPr/>
          <p:nvPr/>
        </p:nvSpPr>
        <p:spPr>
          <a:xfrm>
            <a:off x="1371600" y="2286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a5644e"/>
                </a:solidFill>
                <a:latin typeface="Arial"/>
              </a:rPr>
              <a:t>Здорова лю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" descr="images (57)"/>
          <p:cNvPicPr/>
          <p:nvPr/>
        </p:nvPicPr>
        <p:blipFill>
          <a:blip r:embed="rId3"/>
          <a:stretch/>
        </p:blipFill>
        <p:spPr>
          <a:xfrm>
            <a:off x="5334120" y="914400"/>
            <a:ext cx="2619360" cy="1308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1" descr="images (58)"/>
          <p:cNvPicPr/>
          <p:nvPr/>
        </p:nvPicPr>
        <p:blipFill>
          <a:blip r:embed="rId4"/>
          <a:stretch/>
        </p:blipFill>
        <p:spPr>
          <a:xfrm>
            <a:off x="533520" y="857160"/>
            <a:ext cx="2619360" cy="13082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3" descr="images (60)"/>
          <p:cNvPicPr/>
          <p:nvPr/>
        </p:nvPicPr>
        <p:blipFill>
          <a:blip r:embed="rId5"/>
          <a:stretch/>
        </p:blipFill>
        <p:spPr>
          <a:xfrm>
            <a:off x="5105520" y="3141720"/>
            <a:ext cx="2819160" cy="1438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4" descr="images (55)"/>
          <p:cNvPicPr/>
          <p:nvPr/>
        </p:nvPicPr>
        <p:blipFill>
          <a:blip r:embed="rId6"/>
          <a:stretch/>
        </p:blipFill>
        <p:spPr>
          <a:xfrm>
            <a:off x="533520" y="3257640"/>
            <a:ext cx="2619360" cy="1307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5" descr="images (59)"/>
          <p:cNvPicPr/>
          <p:nvPr/>
        </p:nvPicPr>
        <p:blipFill>
          <a:blip r:embed="rId7"/>
          <a:stretch/>
        </p:blipFill>
        <p:spPr>
          <a:xfrm>
            <a:off x="2666880" y="2057400"/>
            <a:ext cx="2895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"/>
          <p:cNvPicPr/>
          <p:nvPr/>
        </p:nvPicPr>
        <p:blipFill>
          <a:blip r:embed="rId1"/>
          <a:srcRect l="0" t="30992" r="92852" b="0"/>
          <a:stretch/>
        </p:blipFill>
        <p:spPr>
          <a:xfrm>
            <a:off x="8377200" y="0"/>
            <a:ext cx="779400" cy="5143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I:\мультимедія\значки для мультимедія\9.jpg"/>
          <p:cNvPicPr/>
          <p:nvPr/>
        </p:nvPicPr>
        <p:blipFill>
          <a:blip r:embed="rId2"/>
          <a:srcRect l="7026" t="25681" r="0" b="0"/>
          <a:stretch/>
        </p:blipFill>
        <p:spPr>
          <a:xfrm>
            <a:off x="0" y="4711680"/>
            <a:ext cx="9126360" cy="432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"/>
          <p:cNvSpPr/>
          <p:nvPr/>
        </p:nvSpPr>
        <p:spPr>
          <a:xfrm>
            <a:off x="2526480" y="2286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a5644e"/>
                </a:solidFill>
                <a:latin typeface="Arial"/>
              </a:rPr>
              <a:t>Хвора лю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8" descr="images (56)"/>
          <p:cNvPicPr/>
          <p:nvPr/>
        </p:nvPicPr>
        <p:blipFill>
          <a:blip r:embed="rId3"/>
          <a:stretch/>
        </p:blipFill>
        <p:spPr>
          <a:xfrm>
            <a:off x="380880" y="857160"/>
            <a:ext cx="2619360" cy="1308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images (48)"/>
          <p:cNvPicPr/>
          <p:nvPr/>
        </p:nvPicPr>
        <p:blipFill>
          <a:blip r:embed="rId4"/>
          <a:stretch/>
        </p:blipFill>
        <p:spPr>
          <a:xfrm>
            <a:off x="3124080" y="1657440"/>
            <a:ext cx="1905120" cy="1485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0" descr="images (49)"/>
          <p:cNvPicPr/>
          <p:nvPr/>
        </p:nvPicPr>
        <p:blipFill>
          <a:blip r:embed="rId5"/>
          <a:stretch/>
        </p:blipFill>
        <p:spPr>
          <a:xfrm>
            <a:off x="5410080" y="914400"/>
            <a:ext cx="2590920" cy="13222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1" descr="images (52)"/>
          <p:cNvPicPr/>
          <p:nvPr/>
        </p:nvPicPr>
        <p:blipFill>
          <a:blip r:embed="rId6"/>
          <a:stretch/>
        </p:blipFill>
        <p:spPr>
          <a:xfrm>
            <a:off x="609480" y="3200400"/>
            <a:ext cx="2619360" cy="13082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2" descr="Без названия (19)"/>
          <p:cNvPicPr/>
          <p:nvPr/>
        </p:nvPicPr>
        <p:blipFill>
          <a:blip r:embed="rId7"/>
          <a:stretch/>
        </p:blipFill>
        <p:spPr>
          <a:xfrm>
            <a:off x="5257800" y="3200400"/>
            <a:ext cx="27432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13:11:23Z</dcterms:created>
  <dc:creator>Лилия Борисовна</dc:creator>
  <dc:description/>
  <dc:language>en-US</dc:language>
  <cp:lastModifiedBy>Putivl</cp:lastModifiedBy>
  <dcterms:modified xsi:type="dcterms:W3CDTF">2017-12-09T13:09:2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