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DB4-553F-4D26-8A70-2CD73F72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532-7568-45A5-A5A2-57E89526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BC9-5577-42B6-8BFF-3C1092C0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0FE-2F88-45CA-920F-EAB41664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1A1D6-EEB7-441D-AAF6-4F01FEAC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CD694-67E1-43A9-9E5E-9ACE3B0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6931D-2949-472B-ADDF-22F021E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D728F-9B5F-4EBA-A924-2BB3E70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75EE-5A0C-4EA6-809F-0F9CB8E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41A5E-17FF-45F3-B459-705521A4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5825B-2779-4645-9802-CBA036B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53F-8626-49B4-8E07-8270584A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3986-B1D0-4E1B-ADE0-5A10566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9CA81-CAD7-4E9B-8781-8DB80E93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5217C-B2AB-45B4-B6C6-654689E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AFCA4-4A52-4AD6-90E2-F4FB136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E8DEB-37A6-49A1-9DBB-F537E26C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887-2343-43A6-80C2-B8B35D8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5DE-AC12-41FA-99EA-DDE92073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8FCE-7ECE-4251-8EF3-6EDA8B4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8C8-A036-4BC1-8C8D-A6772ED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5D5-18FC-41F9-88CD-998035B9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DE7-EE2F-49C8-AEC6-CA7FF091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E10-1B71-4973-A723-BF839B5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FA75-A68D-48BE-BF22-B335D7C28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722B-562D-4B5B-A6ED-340F32DF3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133720" y="3276720"/>
            <a:ext cx="3962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РОДНИХ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236232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ІНОЧОК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33920" y="4343400"/>
            <a:ext cx="304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ІСЕНЬ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0948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А Я ЧОРНЯВА"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38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72200" y="609480"/>
            <a:ext cx="2819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РОЗПРЯГАЙТЕ,</a:t>
            </a:r>
            <a:endParaRPr b="1" i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ЛОПЦІ,</a:t>
            </a:r>
            <a:endParaRPr b="1" i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І"</a:t>
            </a:r>
            <a:endParaRPr b="1" i="1" lang="en-US" sz="1400" spc="1" strike="noStrike">
              <a:ln w="1908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95960" y="3529080"/>
            <a:ext cx="29480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95280" y="-600120"/>
            <a:ext cx="9934560" cy="80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50000">
              <a:srgbClr val="ffff66"/>
            </a:gs>
            <a:gs pos="100000">
              <a:srgbClr val="00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15200" cy="541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143000" y="5715000"/>
            <a:ext cx="67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Як було у хлопця п'ять дівок"</a:t>
            </a:r>
            <a:endParaRPr b="0" lang="en-US" sz="1800" spc="1" strike="noStrike">
              <a:ln w="19080">
                <a:solidFill>
                  <a:srgbClr val="3399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3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33520" y="914400"/>
            <a:ext cx="38862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"Грицю,Грицю,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05520" y="4495680"/>
            <a:ext cx="38098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до роботи..."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" descr="&amp;Kcy;&amp;acy;&amp;rcy;&amp;tcy;&amp;icy;&amp;ncy;&amp;kcy;&amp;icy; &amp;pcy;&amp;ocy; &amp;zcy;&amp;acy;&amp;pcy;&amp;rcy;&amp;ocy;&amp;scy;&amp;ucy; &amp;kcy;&amp;acy;&amp;rcy;&amp;tcy;&amp;icy;&amp;ncy;&amp;kcy;&amp;acy; &amp;scy;&amp;ocy;&amp;ncy;&amp;iecy;&amp;chcy;&amp;kcy;&amp;ocy;"/>
          <p:cNvPicPr/>
          <p:nvPr/>
        </p:nvPicPr>
        <p:blipFill>
          <a:blip r:embed="rId2"/>
          <a:stretch/>
        </p:blipFill>
        <p:spPr>
          <a:xfrm>
            <a:off x="7010280" y="0"/>
            <a:ext cx="2286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16256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66680" y="152280"/>
            <a:ext cx="693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"Ой, там, на товчку, на базарі..."</a:t>
            </a:r>
            <a:endParaRPr b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0412"/>
            </a:gs>
            <a:gs pos="50000">
              <a:srgbClr val="ff9933"/>
            </a:gs>
            <a:gs pos="100000">
              <a:srgbClr val="c204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246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553080" y="1295280"/>
            <a:ext cx="2438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"Ой, гоп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черевичк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477120" y="43434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28600"/>
            <a:ext cx="7772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20412"/>
                </a:solidFill>
                <a:latin typeface="Arial"/>
              </a:rPr>
              <a:t>ДЯКУЄМО ЗА УВАГУ 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20412"/>
              </a:solidFill>
              <a:latin typeface="Arial"/>
              <a:ea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452600"/>
            <a:ext cx="85341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1-05T09:39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